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E283-73B3-4C77-AF5D-9D4FE9AA0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F2B7-49CA-4160-8543-4B0BCDF6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E00D-338B-4529-BF52-94446708E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66D9-5A94-4505-9258-13EB1529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819B-ED51-41C5-8148-B2716350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5D5E-8F0C-455D-A6D1-21813AB1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C72C-94D4-405A-AC93-A354283C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3759-6CB0-43EA-8B70-1145B43E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C3CA-8820-479F-AB37-C587B008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E0B7-0CE6-421C-A6CF-E0D8AF3B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788F-29FF-46E5-88E6-8179CB6C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94D5-7BBA-4114-B4EF-572E2E2B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9894-CD4B-4E24-84E9-F7CD1033C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spodářství Evr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Číslo 1, 2 nebo 3 na světových trzích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ropa má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delší tradici rozvoje průmyslových odvětv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dostatečnou zásobu nerostných surov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zivní a specializované zemědělství (rostlinná i živočišná výrob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stou dopravní sí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více obyvatel pracuje ve službách nejméně v zemědělstv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87280" y="188640"/>
            <a:ext cx="5770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) Průmyslová odvětv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-360" y="692280"/>
            <a:ext cx="521964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íce než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lovina průmysl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 soustřeďuj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 západoevropské oblas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nglie, sever Francie, Belgie, Nizozemsko, Porýní a Porúří v Německ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Řada výrob přesunuta do dovozních přístav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mezování těžkého průmyslu a přechod na specializovaná odvětv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lektronika, přesné strojírenství aj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219640" y="981000"/>
            <a:ext cx="3924360" cy="3727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1549440" y="5415120"/>
            <a:ext cx="10190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velkoměst nad 5 mil. obyvatel zjisti průmyslová odvětví (mapa str. 74). Prostuduj tabulku v učebnici na straně 1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40360" y="2852640"/>
            <a:ext cx="720720" cy="647640"/>
          </a:xfrm>
          <a:prstGeom prst="ellipse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1484280"/>
            <a:ext cx="1800000" cy="1657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453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Nerostné surov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6640"/>
            <a:ext cx="442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lastní zdroje v Evropě nestačí potřebám průmyslu = dovo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 světovém měřítku má význam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ěžb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černého a hnědého uhl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z atlasu str. 75 vypiš 3 největší těžaře v Evropě)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železné rudy (Švédsko, Rusko), ura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ůležitá j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ěžba dřeva (Skandinávie, Rusk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ěžba ropy a zemního plynu (Severní moře, Rusk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je nedostatečná = nutný dovo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27640" y="0"/>
            <a:ext cx="3671640" cy="2570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334120" y="2637000"/>
            <a:ext cx="3809880" cy="2539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522936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937040"/>
            <a:ext cx="8431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studuj tabulky v učebnici na straně 58 – těžb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mocí atlasu str. 75 vyhledej příklady zemí, v nichž převažují elektrárn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peln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d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ov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831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zeměděl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920" y="692280"/>
            <a:ext cx="84963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vropa je soběstačn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ve výrobě základních potrav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Díky rozdílným podmínká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70% půdy v Dánsku x 4% pudy v Norsku) =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specializované oblasti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vypiš 5 oblasti zemědělských typů pomocí textu v učebnici na straně 14 –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řešení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římořské státy – rybolov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0" y="5229000"/>
            <a:ext cx="9144000" cy="14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ište (pomocí atlasu str. 72), jak lidé zemědělsky využívají tyto podnebné pá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tudený (subarktický), mírný, subtropick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01336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987640" y="256536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2852640"/>
            <a:ext cx="2879640" cy="1575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940360" y="1989000"/>
            <a:ext cx="320364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640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Dopr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mocí tabulek v učebnici vypiš 3 největší přístavy a letiště v Evrop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zvinutá doprava umožňuje rozvoj cestovního ruchu (příroda, moře, památky) -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projek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79280" y="2781360"/>
            <a:ext cx="2800440" cy="190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700360" y="3429000"/>
            <a:ext cx="3333600" cy="2657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472000" y="2637000"/>
            <a:ext cx="3672000" cy="2705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630864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10800" y="6237360"/>
            <a:ext cx="91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studuj pomocí atlasu dopravní síť Evropy str. 71 (železniční, silniční, vodní, potrubní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Zemědělství řeš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asti dle zemědělských typ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řední a východní Evropa – světová obilnice (pšenice, kukuřice + bramb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padní Evropa – intenzivní a specializované (chov dobytka – mléko, mas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ní Evropa – pastviny a le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pský typ – horské pastv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ředomoří – subtropické kulturní plodiny (vinná réva, olivy, fíky, citrusy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Projekt – Cestovní kancelá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ber si „lokalitu“ v rámci Evropy (hory, moře, města, lázně, kulturní akci apo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jisti informace o daném mís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tvoř „reklamní“ leták k dané lokalitě (foto, mapa, stručný pop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zentuj projekt v rámci vyučovací hodiny (propaguj svoji C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4:48:16Z</dcterms:created>
  <dc:creator>kk</dc:creator>
  <dc:description/>
  <dc:language>en-US</dc:language>
  <cp:lastModifiedBy>jj</cp:lastModifiedBy>
  <dcterms:modified xsi:type="dcterms:W3CDTF">2011-10-09T18:36:34Z</dcterms:modified>
  <cp:revision>9</cp:revision>
  <dc:subject/>
  <dc:title>Hospodářství Evropy</dc:title>
</cp:coreProperties>
</file>