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F78-1AEA-46C3-970C-D16462E6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D0B-5363-4232-9C38-D58CFA42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BCB-67E8-45CF-8EA8-4242E972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67E-2820-442D-97AB-6D99F3E2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5EB-1E26-466B-BE11-691C0D83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9CB-4BF4-42DE-8DBB-1CCAD17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3D8-1940-489B-97D8-249168C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2FC-38CF-4132-BB4B-7B3CDFA7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62F-E4AB-435C-A00F-05C0C6A0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E2A-3C15-4510-ADF3-FB3F061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345-BA3C-4F55-AEDA-9BB032A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B85-1431-48DF-A0CD-0146CCA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3AD-7FB7-4F16-9664-72AD2D1D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Franci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876640"/>
            <a:ext cx="64008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Ě GALSKÉHO KOHO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8360" y="62564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informac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698640" cy="39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67280" y="3716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76720" y="260280"/>
            <a:ext cx="2932200" cy="2935440"/>
          </a:xfrm>
          <a:custGeom>
            <a:avLst/>
            <a:gdLst/>
            <a:ahLst/>
            <a:rect l="l" t="t" r="r" b="b"/>
            <a:pathLst>
              <a:path w="1847" h="1849">
                <a:moveTo>
                  <a:pt x="409" y="1620"/>
                </a:moveTo>
                <a:cubicBezTo>
                  <a:pt x="412" y="1603"/>
                  <a:pt x="412" y="1585"/>
                  <a:pt x="417" y="1569"/>
                </a:cubicBezTo>
                <a:cubicBezTo>
                  <a:pt x="420" y="1559"/>
                  <a:pt x="431" y="1554"/>
                  <a:pt x="434" y="1544"/>
                </a:cubicBezTo>
                <a:cubicBezTo>
                  <a:pt x="464" y="1427"/>
                  <a:pt x="421" y="1502"/>
                  <a:pt x="460" y="1442"/>
                </a:cubicBezTo>
                <a:cubicBezTo>
                  <a:pt x="494" y="1335"/>
                  <a:pt x="481" y="1453"/>
                  <a:pt x="494" y="1247"/>
                </a:cubicBezTo>
                <a:cubicBezTo>
                  <a:pt x="491" y="1174"/>
                  <a:pt x="495" y="1100"/>
                  <a:pt x="485" y="1027"/>
                </a:cubicBezTo>
                <a:cubicBezTo>
                  <a:pt x="484" y="1017"/>
                  <a:pt x="467" y="1018"/>
                  <a:pt x="460" y="1010"/>
                </a:cubicBezTo>
                <a:cubicBezTo>
                  <a:pt x="436" y="983"/>
                  <a:pt x="403" y="939"/>
                  <a:pt x="383" y="908"/>
                </a:cubicBezTo>
                <a:cubicBezTo>
                  <a:pt x="376" y="856"/>
                  <a:pt x="362" y="783"/>
                  <a:pt x="307" y="764"/>
                </a:cubicBezTo>
                <a:cubicBezTo>
                  <a:pt x="247" y="704"/>
                  <a:pt x="202" y="712"/>
                  <a:pt x="112" y="705"/>
                </a:cubicBezTo>
                <a:cubicBezTo>
                  <a:pt x="40" y="656"/>
                  <a:pt x="125" y="721"/>
                  <a:pt x="78" y="663"/>
                </a:cubicBezTo>
                <a:cubicBezTo>
                  <a:pt x="64" y="646"/>
                  <a:pt x="43" y="636"/>
                  <a:pt x="28" y="620"/>
                </a:cubicBezTo>
                <a:cubicBezTo>
                  <a:pt x="12" y="576"/>
                  <a:pt x="0" y="553"/>
                  <a:pt x="28" y="493"/>
                </a:cubicBezTo>
                <a:cubicBezTo>
                  <a:pt x="33" y="482"/>
                  <a:pt x="51" y="499"/>
                  <a:pt x="62" y="502"/>
                </a:cubicBezTo>
                <a:cubicBezTo>
                  <a:pt x="110" y="493"/>
                  <a:pt x="121" y="481"/>
                  <a:pt x="163" y="468"/>
                </a:cubicBezTo>
                <a:cubicBezTo>
                  <a:pt x="197" y="471"/>
                  <a:pt x="232" y="469"/>
                  <a:pt x="265" y="476"/>
                </a:cubicBezTo>
                <a:cubicBezTo>
                  <a:pt x="397" y="502"/>
                  <a:pt x="190" y="486"/>
                  <a:pt x="316" y="502"/>
                </a:cubicBezTo>
                <a:cubicBezTo>
                  <a:pt x="352" y="507"/>
                  <a:pt x="389" y="507"/>
                  <a:pt x="426" y="510"/>
                </a:cubicBezTo>
                <a:cubicBezTo>
                  <a:pt x="466" y="524"/>
                  <a:pt x="487" y="531"/>
                  <a:pt x="502" y="485"/>
                </a:cubicBezTo>
                <a:cubicBezTo>
                  <a:pt x="499" y="468"/>
                  <a:pt x="503" y="449"/>
                  <a:pt x="494" y="434"/>
                </a:cubicBezTo>
                <a:cubicBezTo>
                  <a:pt x="489" y="426"/>
                  <a:pt x="475" y="432"/>
                  <a:pt x="468" y="426"/>
                </a:cubicBezTo>
                <a:cubicBezTo>
                  <a:pt x="460" y="420"/>
                  <a:pt x="457" y="409"/>
                  <a:pt x="451" y="400"/>
                </a:cubicBezTo>
                <a:cubicBezTo>
                  <a:pt x="435" y="350"/>
                  <a:pt x="439" y="300"/>
                  <a:pt x="468" y="256"/>
                </a:cubicBezTo>
                <a:cubicBezTo>
                  <a:pt x="485" y="259"/>
                  <a:pt x="508" y="252"/>
                  <a:pt x="519" y="265"/>
                </a:cubicBezTo>
                <a:cubicBezTo>
                  <a:pt x="532" y="280"/>
                  <a:pt x="510" y="314"/>
                  <a:pt x="527" y="324"/>
                </a:cubicBezTo>
                <a:cubicBezTo>
                  <a:pt x="556" y="342"/>
                  <a:pt x="595" y="329"/>
                  <a:pt x="629" y="332"/>
                </a:cubicBezTo>
                <a:cubicBezTo>
                  <a:pt x="652" y="329"/>
                  <a:pt x="676" y="333"/>
                  <a:pt x="697" y="324"/>
                </a:cubicBezTo>
                <a:cubicBezTo>
                  <a:pt x="705" y="321"/>
                  <a:pt x="699" y="305"/>
                  <a:pt x="705" y="299"/>
                </a:cubicBezTo>
                <a:cubicBezTo>
                  <a:pt x="733" y="271"/>
                  <a:pt x="784" y="285"/>
                  <a:pt x="824" y="282"/>
                </a:cubicBezTo>
                <a:cubicBezTo>
                  <a:pt x="866" y="219"/>
                  <a:pt x="845" y="234"/>
                  <a:pt x="909" y="214"/>
                </a:cubicBezTo>
                <a:cubicBezTo>
                  <a:pt x="912" y="166"/>
                  <a:pt x="907" y="117"/>
                  <a:pt x="917" y="70"/>
                </a:cubicBezTo>
                <a:cubicBezTo>
                  <a:pt x="919" y="60"/>
                  <a:pt x="936" y="61"/>
                  <a:pt x="942" y="53"/>
                </a:cubicBezTo>
                <a:cubicBezTo>
                  <a:pt x="954" y="38"/>
                  <a:pt x="958" y="18"/>
                  <a:pt x="968" y="2"/>
                </a:cubicBezTo>
                <a:cubicBezTo>
                  <a:pt x="993" y="5"/>
                  <a:pt x="1021" y="0"/>
                  <a:pt x="1044" y="11"/>
                </a:cubicBezTo>
                <a:cubicBezTo>
                  <a:pt x="1054" y="16"/>
                  <a:pt x="1045" y="36"/>
                  <a:pt x="1053" y="44"/>
                </a:cubicBezTo>
                <a:cubicBezTo>
                  <a:pt x="1064" y="55"/>
                  <a:pt x="1120" y="64"/>
                  <a:pt x="1137" y="70"/>
                </a:cubicBezTo>
                <a:cubicBezTo>
                  <a:pt x="1153" y="114"/>
                  <a:pt x="1187" y="119"/>
                  <a:pt x="1230" y="129"/>
                </a:cubicBezTo>
                <a:cubicBezTo>
                  <a:pt x="1249" y="256"/>
                  <a:pt x="1215" y="150"/>
                  <a:pt x="1273" y="197"/>
                </a:cubicBezTo>
                <a:cubicBezTo>
                  <a:pt x="1280" y="203"/>
                  <a:pt x="1273" y="218"/>
                  <a:pt x="1281" y="222"/>
                </a:cubicBezTo>
                <a:cubicBezTo>
                  <a:pt x="1302" y="231"/>
                  <a:pt x="1326" y="228"/>
                  <a:pt x="1349" y="231"/>
                </a:cubicBezTo>
                <a:cubicBezTo>
                  <a:pt x="1357" y="237"/>
                  <a:pt x="1365" y="244"/>
                  <a:pt x="1374" y="248"/>
                </a:cubicBezTo>
                <a:cubicBezTo>
                  <a:pt x="1382" y="252"/>
                  <a:pt x="1394" y="250"/>
                  <a:pt x="1400" y="256"/>
                </a:cubicBezTo>
                <a:cubicBezTo>
                  <a:pt x="1445" y="301"/>
                  <a:pt x="1365" y="269"/>
                  <a:pt x="1434" y="290"/>
                </a:cubicBezTo>
                <a:cubicBezTo>
                  <a:pt x="1437" y="301"/>
                  <a:pt x="1431" y="319"/>
                  <a:pt x="1442" y="324"/>
                </a:cubicBezTo>
                <a:cubicBezTo>
                  <a:pt x="1468" y="336"/>
                  <a:pt x="1499" y="326"/>
                  <a:pt x="1527" y="332"/>
                </a:cubicBezTo>
                <a:cubicBezTo>
                  <a:pt x="1537" y="334"/>
                  <a:pt x="1542" y="346"/>
                  <a:pt x="1552" y="349"/>
                </a:cubicBezTo>
                <a:cubicBezTo>
                  <a:pt x="1591" y="360"/>
                  <a:pt x="1631" y="360"/>
                  <a:pt x="1671" y="366"/>
                </a:cubicBezTo>
                <a:cubicBezTo>
                  <a:pt x="1709" y="425"/>
                  <a:pt x="1658" y="361"/>
                  <a:pt x="1756" y="400"/>
                </a:cubicBezTo>
                <a:cubicBezTo>
                  <a:pt x="1766" y="404"/>
                  <a:pt x="1764" y="420"/>
                  <a:pt x="1773" y="426"/>
                </a:cubicBezTo>
                <a:cubicBezTo>
                  <a:pt x="1782" y="432"/>
                  <a:pt x="1795" y="431"/>
                  <a:pt x="1806" y="434"/>
                </a:cubicBezTo>
                <a:cubicBezTo>
                  <a:pt x="1799" y="490"/>
                  <a:pt x="1788" y="540"/>
                  <a:pt x="1781" y="595"/>
                </a:cubicBezTo>
                <a:cubicBezTo>
                  <a:pt x="1774" y="712"/>
                  <a:pt x="1802" y="724"/>
                  <a:pt x="1713" y="748"/>
                </a:cubicBezTo>
                <a:cubicBezTo>
                  <a:pt x="1696" y="800"/>
                  <a:pt x="1705" y="825"/>
                  <a:pt x="1646" y="841"/>
                </a:cubicBezTo>
                <a:cubicBezTo>
                  <a:pt x="1604" y="869"/>
                  <a:pt x="1600" y="921"/>
                  <a:pt x="1586" y="968"/>
                </a:cubicBezTo>
                <a:cubicBezTo>
                  <a:pt x="1584" y="976"/>
                  <a:pt x="1570" y="991"/>
                  <a:pt x="1578" y="993"/>
                </a:cubicBezTo>
                <a:cubicBezTo>
                  <a:pt x="1600" y="999"/>
                  <a:pt x="1623" y="988"/>
                  <a:pt x="1646" y="985"/>
                </a:cubicBezTo>
                <a:cubicBezTo>
                  <a:pt x="1654" y="982"/>
                  <a:pt x="1663" y="973"/>
                  <a:pt x="1671" y="976"/>
                </a:cubicBezTo>
                <a:cubicBezTo>
                  <a:pt x="1681" y="980"/>
                  <a:pt x="1686" y="992"/>
                  <a:pt x="1688" y="1002"/>
                </a:cubicBezTo>
                <a:cubicBezTo>
                  <a:pt x="1701" y="1067"/>
                  <a:pt x="1684" y="1132"/>
                  <a:pt x="1722" y="1188"/>
                </a:cubicBezTo>
                <a:cubicBezTo>
                  <a:pt x="1709" y="1247"/>
                  <a:pt x="1700" y="1228"/>
                  <a:pt x="1671" y="1273"/>
                </a:cubicBezTo>
                <a:cubicBezTo>
                  <a:pt x="1679" y="1279"/>
                  <a:pt x="1687" y="1286"/>
                  <a:pt x="1696" y="1290"/>
                </a:cubicBezTo>
                <a:cubicBezTo>
                  <a:pt x="1704" y="1294"/>
                  <a:pt x="1720" y="1289"/>
                  <a:pt x="1722" y="1298"/>
                </a:cubicBezTo>
                <a:cubicBezTo>
                  <a:pt x="1732" y="1336"/>
                  <a:pt x="1703" y="1388"/>
                  <a:pt x="1730" y="1417"/>
                </a:cubicBezTo>
                <a:cubicBezTo>
                  <a:pt x="1755" y="1444"/>
                  <a:pt x="1803" y="1422"/>
                  <a:pt x="1840" y="1425"/>
                </a:cubicBezTo>
                <a:cubicBezTo>
                  <a:pt x="1837" y="1456"/>
                  <a:pt x="1847" y="1491"/>
                  <a:pt x="1832" y="1518"/>
                </a:cubicBezTo>
                <a:cubicBezTo>
                  <a:pt x="1824" y="1534"/>
                  <a:pt x="1781" y="1535"/>
                  <a:pt x="1781" y="1535"/>
                </a:cubicBezTo>
                <a:cubicBezTo>
                  <a:pt x="1770" y="1571"/>
                  <a:pt x="1763" y="1583"/>
                  <a:pt x="1739" y="1612"/>
                </a:cubicBezTo>
                <a:cubicBezTo>
                  <a:pt x="1733" y="1620"/>
                  <a:pt x="1730" y="1631"/>
                  <a:pt x="1722" y="1637"/>
                </a:cubicBezTo>
                <a:cubicBezTo>
                  <a:pt x="1702" y="1652"/>
                  <a:pt x="1661" y="1654"/>
                  <a:pt x="1637" y="1662"/>
                </a:cubicBezTo>
                <a:cubicBezTo>
                  <a:pt x="1582" y="1699"/>
                  <a:pt x="1512" y="1664"/>
                  <a:pt x="1451" y="1654"/>
                </a:cubicBezTo>
                <a:cubicBezTo>
                  <a:pt x="1415" y="1631"/>
                  <a:pt x="1400" y="1601"/>
                  <a:pt x="1358" y="1586"/>
                </a:cubicBezTo>
                <a:cubicBezTo>
                  <a:pt x="1314" y="1615"/>
                  <a:pt x="1265" y="1626"/>
                  <a:pt x="1214" y="1637"/>
                </a:cubicBezTo>
                <a:cubicBezTo>
                  <a:pt x="1194" y="1666"/>
                  <a:pt x="1180" y="1685"/>
                  <a:pt x="1146" y="1696"/>
                </a:cubicBezTo>
                <a:cubicBezTo>
                  <a:pt x="1096" y="1772"/>
                  <a:pt x="1174" y="1644"/>
                  <a:pt x="1120" y="1832"/>
                </a:cubicBezTo>
                <a:cubicBezTo>
                  <a:pt x="1115" y="1849"/>
                  <a:pt x="1087" y="1843"/>
                  <a:pt x="1070" y="1849"/>
                </a:cubicBezTo>
                <a:cubicBezTo>
                  <a:pt x="1006" y="1839"/>
                  <a:pt x="1005" y="1828"/>
                  <a:pt x="951" y="1815"/>
                </a:cubicBezTo>
                <a:cubicBezTo>
                  <a:pt x="883" y="1769"/>
                  <a:pt x="989" y="1836"/>
                  <a:pt x="866" y="1789"/>
                </a:cubicBezTo>
                <a:cubicBezTo>
                  <a:pt x="847" y="1782"/>
                  <a:pt x="815" y="1756"/>
                  <a:pt x="815" y="1756"/>
                </a:cubicBezTo>
                <a:cubicBezTo>
                  <a:pt x="762" y="1769"/>
                  <a:pt x="790" y="1777"/>
                  <a:pt x="748" y="1806"/>
                </a:cubicBezTo>
                <a:cubicBezTo>
                  <a:pt x="654" y="1789"/>
                  <a:pt x="742" y="1816"/>
                  <a:pt x="688" y="1772"/>
                </a:cubicBezTo>
                <a:cubicBezTo>
                  <a:pt x="664" y="1752"/>
                  <a:pt x="626" y="1760"/>
                  <a:pt x="595" y="1756"/>
                </a:cubicBezTo>
                <a:cubicBezTo>
                  <a:pt x="560" y="1703"/>
                  <a:pt x="598" y="1746"/>
                  <a:pt x="502" y="1722"/>
                </a:cubicBezTo>
                <a:cubicBezTo>
                  <a:pt x="483" y="1717"/>
                  <a:pt x="469" y="1702"/>
                  <a:pt x="451" y="1696"/>
                </a:cubicBezTo>
                <a:cubicBezTo>
                  <a:pt x="448" y="1683"/>
                  <a:pt x="433" y="1596"/>
                  <a:pt x="409" y="1620"/>
                </a:cubicBezTo>
                <a:close/>
              </a:path>
            </a:pathLst>
          </a:custGeom>
          <a:gradFill rotWithShape="0">
            <a:gsLst>
              <a:gs pos="0">
                <a:srgbClr val="f90b2d"/>
              </a:gs>
              <a:gs pos="100000">
                <a:srgbClr val="000099"/>
              </a:gs>
            </a:gsLst>
            <a:lin ang="108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28000" y="3141720"/>
            <a:ext cx="358920" cy="592200"/>
          </a:xfrm>
          <a:custGeom>
            <a:avLst/>
            <a:gdLst/>
            <a:ahLst/>
            <a:rect l="l" t="t" r="r" b="b"/>
            <a:pathLst>
              <a:path w="226" h="373">
                <a:moveTo>
                  <a:pt x="127" y="348"/>
                </a:moveTo>
                <a:cubicBezTo>
                  <a:pt x="137" y="251"/>
                  <a:pt x="226" y="42"/>
                  <a:pt x="110" y="0"/>
                </a:cubicBezTo>
                <a:cubicBezTo>
                  <a:pt x="100" y="56"/>
                  <a:pt x="100" y="60"/>
                  <a:pt x="50" y="77"/>
                </a:cubicBezTo>
                <a:cubicBezTo>
                  <a:pt x="39" y="110"/>
                  <a:pt x="33" y="124"/>
                  <a:pt x="0" y="136"/>
                </a:cubicBezTo>
                <a:cubicBezTo>
                  <a:pt x="6" y="197"/>
                  <a:pt x="8" y="239"/>
                  <a:pt x="42" y="288"/>
                </a:cubicBezTo>
                <a:cubicBezTo>
                  <a:pt x="54" y="328"/>
                  <a:pt x="67" y="316"/>
                  <a:pt x="101" y="339"/>
                </a:cubicBezTo>
                <a:cubicBezTo>
                  <a:pt x="113" y="373"/>
                  <a:pt x="104" y="371"/>
                  <a:pt x="127" y="348"/>
                </a:cubicBezTo>
                <a:close/>
              </a:path>
            </a:pathLst>
          </a:custGeom>
          <a:gradFill rotWithShape="0">
            <a:gsLst>
              <a:gs pos="0">
                <a:srgbClr val="f90b2d"/>
              </a:gs>
              <a:gs pos="100000">
                <a:srgbClr val="000099"/>
              </a:gs>
            </a:gsLst>
            <a:lin ang="108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1052640"/>
            <a:ext cx="215640" cy="215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134136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2205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2000" y="263700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33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2637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98100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48428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1052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191628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270828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kreslete obrysovou mapu Francie a doplňte do ní následující inform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Členitos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retaňský pol., Korsika, záliv St. Malo, Lví zá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vrch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lpy (Mt. Blanc), Pyreneje, Francouzské středohoří, Francouzská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Vodstvo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ira, Seina, R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, Garo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ěst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aříž, Lille, Nantes, Strasbourg, Orléans, Brest, Nice, Lyon, Toulouse, Bordeaux, Mars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lasti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ormandie, Bretagne, Champagne, Burgundsko, Gaskoňsko, Provence, Savoj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iš základní informace o Francii (hl. město, rozloha, počet obyvatel, hustota osídlení, poloha, podnebí, zemědělství, těžba, průmysl, doprava, závislá uzemí (departmenty), zajímav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říž, 543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3.místo), 57 mil. (3. místo), 105 ob/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moř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ebí: mírné (jih subtropické), přímořské – přechodné, Alpy – dle nadmořské vý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spodářstv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mědělství (pšenice, ovoce, zelenina, vínná réva, skot – maso, mléko, rybol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ba (železná ruda, uhl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 (strojírenství – letadla, automobilový, textilní – móda, kosmetika, potravinářský – vína, sýry, uzeniny, elektrárny – 80% jader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– vlaková (TGV), námořní (Le Havre, Bordeaux, Marseile, Calais), letecká (Orly, de Gau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partnemty: Francouzská Guyana, Réunion, Marti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ímavosti: Mt. St. Michal, památky, filmový festival, G. Eiffel a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540240"/>
            <a:ext cx="4788000" cy="3317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3503520"/>
            <a:ext cx="4500720" cy="335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3851280" cy="2746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4000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835280" y="89064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9:19:54Z</dcterms:created>
  <dc:creator>kk</dc:creator>
  <dc:description/>
  <dc:language>en-US</dc:language>
  <cp:lastModifiedBy>kk</cp:lastModifiedBy>
  <dcterms:modified xsi:type="dcterms:W3CDTF">2006-11-20T12:51:58Z</dcterms:modified>
  <cp:revision>14</cp:revision>
  <dc:subject/>
  <dc:title>FRANCIE</dc:title>
</cp:coreProperties>
</file>