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3C5-DC76-44D8-BA2A-A5DC1DD6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F00-5DC6-480E-8554-371763D6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E80-8F87-4042-8044-BC1F8517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4E6-7F6E-491B-9C4C-1A76EF39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BC9-6CA3-4825-9C12-FB586742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886-B469-40B0-BFE6-1BD64822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523-2144-4C24-B10C-54543AF0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DA3-DDFC-4581-88B3-D26FD42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C52-F6E5-4966-8B5C-A1255B7F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A46-F5C5-4E67-83D7-429EC56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51F-8D47-415F-92C1-04B7C0D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9FA-0754-4302-BED0-1471272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E2B-7EF8-4A1A-9A09-E9A2113A2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s.wikipedia.org/wiki/Belgi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s.wikipedia.org/wiki/Nizozemsko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Lucembursko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281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538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STÁTY SPOJ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hustota osíd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pělé stá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stá dopravní sí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8956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9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učebnice a atlasu zjisti a vypiš nejdůležitější informace o Belgii… (hlavní město, státní zřízení, rozlohu, počet obyvatel, hustotu osídlení, polohu státu, hospodářství,  obyvatelstvo, přírodní podmínky – podnebí, povrch, vodstv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pis: Brusel (království), 30 tis.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0 milionů, 328 ob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mořský, průmyslový stát s intenzivním zemědělstvím (živočišná výroba), 97% urbanizace (Antverpy, Gent), Vlámové (sever) x Valoni (jih), řeč: vlámšitna, francouzština, němčina, mírné přímořské podnebí, Mass, Šelda, Ard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80000" y="404640"/>
            <a:ext cx="2335320" cy="25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26160" y="63086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íc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39099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827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ZOZEMS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učebnice a atlasu zjisti a vypiš nejdůležitější informace o Nizozemsku (Holandsku)… (hlavní město, státní zřízení, rozlohu, počet obyvatel, hustotu osídlení, polohu státu, hospodářství,  obyvatelstvo, přírodní podmínky – podnebí, povrch, vodstv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pis: Amsterdam (království), 40 tis.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5 milionů, 446 ob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mořský, průmyslový stát s nejintenzivnějším zemědělstvím na světě, 90% urbanizace (Rotterdam, Haag), řeč: holandština, mírné přímořské podnebí, Mass, Rýn, jezero Ijsselmeer, pold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2916000" cy="194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720" y="63086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íc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64000" y="2068560"/>
            <a:ext cx="3780000" cy="238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43280" y="4525920"/>
            <a:ext cx="3384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CEMBURS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í učebnice a atlasu zjisti a vypiš nejdůležitější informace o Lucembursku… (hlavní město, státní zřízení, rozlohu, počet obyvatel, hustotu osídlení, polohu státu, hospodářství,  obyvatelstvo, přírodní podmínky – podnebí, povrch, vodstv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pis: Lucemburk (velkovévodství), 2,5 tis. 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0,4 milionů, 149 ob/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vnitrozemský, výroba oceli, cestovní ruch, bankovnictví, levná vlajka, 86% urbanizace, řeč: lucemburština, němčina, francouzština, mírné přechodné podne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13280" y="6256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íc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5:33:34Z</dcterms:created>
  <dc:creator>kk</dc:creator>
  <dc:description/>
  <dc:language>en-US</dc:language>
  <cp:lastModifiedBy>kk</cp:lastModifiedBy>
  <dcterms:modified xsi:type="dcterms:W3CDTF">2006-11-05T20:17:31Z</dcterms:modified>
  <cp:revision>12</cp:revision>
  <dc:subject/>
  <dc:title>BENELUX</dc:title>
</cp:coreProperties>
</file>