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7EB-AB68-4E7D-B62E-EA103138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D40-642C-485A-B834-50618413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BF2-1B9A-4D8A-A2AB-B96D621B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C40-7B1B-41C0-B144-4106DB10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1AD-1415-41FB-8543-1AF5F3EB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D56-0A4E-47D0-AF21-6605E12B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32F-8FF6-4CE5-BD68-9C5618D2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053-7A10-4909-8910-5183C284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6D7-82DC-4114-9E47-9F9AF553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C4D-0ECD-4C9F-AEFF-0BE1712C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5EA-D688-43A9-87D1-A16C4A32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0D2-0A78-4C8B-B300-D6203448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27B5-DC56-42EE-B648-374D11462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HY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ncient-world-map-1482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3152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lení map dle měřítk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y velkých měřítek (od plánů po mapy o měřítku 1:200 000) bez zkresl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y středních měřítek (1:200 000 až 1:1 000 000) malé zkresl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y malých měřítek (nad 1: 1 000 000) velké územní celk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666880" cy="2214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43400" y="1523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utoatlas100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2514600" cy="1922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ustralie" descr=""/>
          <p:cNvPicPr/>
          <p:nvPr/>
        </p:nvPicPr>
        <p:blipFill>
          <a:blip r:embed="rId3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91120" y="5105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lení map podle dru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pografické (obecně zeměpisné) map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ématické m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Politická m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Mapa zemědělstv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Mapa teplot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473101_b" descr=""/>
          <p:cNvPicPr/>
          <p:nvPr/>
        </p:nvPicPr>
        <p:blipFill>
          <a:blip r:embed="rId1"/>
          <a:stretch/>
        </p:blipFill>
        <p:spPr>
          <a:xfrm>
            <a:off x="5029200" y="762120"/>
            <a:ext cx="3809880" cy="2985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43200" y="1219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vropa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398760" cy="280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4080" y="4114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43200" y="4114800"/>
            <a:ext cx="1981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ápis: Druhy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Dělení podle měřít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mapy velkých měřítek (plány, turistické mapy)     do 1:200 000 (1 cm je 2 km ve skuteč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mapy středních měřítek (automap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1:200 000 do 1:1 000 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mapy malých měřítek (kontinenty, státy)        nad 1:1 000 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Dělení podle druh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topografické (obecně zeměpisné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tématické (politické, zemědělství, podnebí a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Mapy velkých měří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zlin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3441600"/>
          </a:xfrm>
          <a:prstGeom prst="rect">
            <a:avLst/>
          </a:prstGeom>
          <a:ln w="0">
            <a:noFill/>
          </a:ln>
        </p:spPr>
      </p:pic>
      <p:pic>
        <p:nvPicPr>
          <p:cNvPr id="62" name="obr" descr=""/>
          <p:cNvPicPr/>
          <p:nvPr/>
        </p:nvPicPr>
        <p:blipFill>
          <a:blip r:embed="rId2"/>
          <a:stretch/>
        </p:blipFill>
        <p:spPr>
          <a:xfrm>
            <a:off x="3995640" y="2583000"/>
            <a:ext cx="5148360" cy="427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8320" y="495288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. Mapa o měřítku 1: 5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j. 1cm na mapě je 0,5 km 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ute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129528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ř. plány měst, turistické m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Mapy středních měří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autoatlas100" descr=""/>
          <p:cNvPicPr/>
          <p:nvPr/>
        </p:nvPicPr>
        <p:blipFill>
          <a:blip r:embed="rId1"/>
          <a:stretch/>
        </p:blipFill>
        <p:spPr>
          <a:xfrm>
            <a:off x="0" y="990720"/>
            <a:ext cx="4495680" cy="3438360"/>
          </a:xfrm>
          <a:prstGeom prst="rect">
            <a:avLst/>
          </a:prstGeom>
          <a:ln w="0">
            <a:noFill/>
          </a:ln>
        </p:spPr>
      </p:pic>
      <p:pic>
        <p:nvPicPr>
          <p:cNvPr id="67" name="mapa" descr=""/>
          <p:cNvPicPr/>
          <p:nvPr/>
        </p:nvPicPr>
        <p:blipFill>
          <a:blip r:embed="rId2"/>
          <a:stretch/>
        </p:blipFill>
        <p:spPr>
          <a:xfrm>
            <a:off x="4343400" y="3362400"/>
            <a:ext cx="4800600" cy="3495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4640" y="4765680"/>
            <a:ext cx="40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. Mapa o měřítku 1: 500 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j. 1 cm na mapě je 5 km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uteč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66600" y="13716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ř. automapy, administrativ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Mapy malých měří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url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384800" cy="518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11920" y="103176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. Mapa Afriky o měřít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40 000 000 tj. 1 cm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km ve skuteč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vropa-01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4040280" cy="3057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8800" y="613728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ř. mapy států, světadílů, Svě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4:25:30Z</dcterms:created>
  <dc:creator>kk</dc:creator>
  <dc:description/>
  <dc:language>en-US</dc:language>
  <cp:lastModifiedBy>kk</cp:lastModifiedBy>
  <dcterms:modified xsi:type="dcterms:W3CDTF">2005-10-04T15:18:22Z</dcterms:modified>
  <cp:revision>3</cp:revision>
  <dc:subject/>
  <dc:title>DRUHY MAP</dc:title>
</cp:coreProperties>
</file>