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3D1-1988-4149-9A94-CA080369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F63-E2C3-4577-9E11-2EB95A7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E46-506A-41AA-9AC7-DEDA528E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12E-EF23-4BB5-8D07-266F8740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8B4-02D2-491F-9FB4-A4F2DE02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EF3-DF39-49D1-8973-F7BADE3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F61-8A7B-4954-8749-216DA4C3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470-6AB7-4709-A199-5AE33E1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15B-6F09-48B2-BE11-C4978314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989-8932-4BD4-B83A-4CA2E6A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FA9-7F4B-4367-A286-BE2D3B77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12D-C12C-462F-AD6D-C9AABBB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946F-CC8B-40BD-A89B-363A1BED6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69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 NIT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0440" y="5016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ská stavba = jako vrstvy cib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jako vrstvy vej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-31680" y="293220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http://thumbs.dreamstime.com/z/red-onion-slice-17897561.jpg"/>
          <p:cNvPicPr/>
          <p:nvPr/>
        </p:nvPicPr>
        <p:blipFill>
          <a:blip r:embed="rId2"/>
          <a:stretch/>
        </p:blipFill>
        <p:spPr>
          <a:xfrm>
            <a:off x="6446880" y="262584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733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LÁŠ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351640" cy="17287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ělíme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ější plášť – teplota 1500˚C, je tekutý a „plave“ a pohybuje se po něm litosférické de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ní plášť – teplota 3000˚C, hustá konzist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6697440" cy="367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121520" y="3164040"/>
            <a:ext cx="1758960" cy="276192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1"/>
          <p:cNvSpPr/>
          <p:nvPr/>
        </p:nvSpPr>
        <p:spPr>
          <a:xfrm>
            <a:off x="368280" y="6381720"/>
            <a:ext cx="84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 plášti probíhá neustále plášťová konvekce, která souvisí s deskovou tektonik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3443400" y="3209760"/>
            <a:ext cx="5505480" cy="364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ZEMSKÁ KŮ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0480" y="1341360"/>
            <a:ext cx="8785080" cy="1440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nejsvrchnější tenký pevný obal na povrchu Země. Není všude stejná mocná dělíme ji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eánskou kůru – mocnost od 0 do 6km je tvořená čedič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evninská kůra – mocnost od 20 do 100km, tvořena převážně žul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2600" y="3411360"/>
            <a:ext cx="3294000" cy="286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-2160" y="30448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stoupení hornin v zemské ků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5148360" y="571032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8793000" y="451800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509080" y="602136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6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783920" y="5319720"/>
            <a:ext cx="10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-1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Earth poster.svg"/>
          <p:cNvPicPr/>
          <p:nvPr/>
        </p:nvPicPr>
        <p:blipFill>
          <a:blip r:embed="rId1"/>
          <a:stretch/>
        </p:blipFill>
        <p:spPr>
          <a:xfrm>
            <a:off x="933480" y="114156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1886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a obrázku je znázorněna stavba Země. Vlevo jsou rozměry jednotlivých obalů zmenšeny. Jaká je tloušťka zemské kůry oproti ostatním obalů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86736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9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5058000" cy="5472360"/>
          </a:xfrm>
          <a:prstGeom prst="rect">
            <a:avLst/>
          </a:prstGeom>
          <a:ln w="0">
            <a:noFill/>
          </a:ln>
        </p:spPr>
      </p:pic>
      <p:sp>
        <p:nvSpPr>
          <p:cNvPr id="50" name="Line 16"/>
          <p:cNvSpPr/>
          <p:nvPr/>
        </p:nvSpPr>
        <p:spPr>
          <a:xfrm>
            <a:off x="4643280" y="1700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995640" y="270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342900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785640" y="4114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7089480" y="2666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447240" y="14130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Ů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ohybující se kontine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24720" cy="2016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itosférické desky se pohybují (velmi pomalu). Jejich pohyb způsobuje žhavé nitro Země. Na zemi můžeme rozeznat místa, kde zemská kůra vzniká (středooceánské hřbety) a zaniká (hlubokomořské příkopy). Na okrajích desek dochází často k zemětřesné a sopečné čin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ontinentaldrift"/>
          <p:cNvPicPr/>
          <p:nvPr/>
        </p:nvPicPr>
        <p:blipFill>
          <a:blip r:embed="rId1"/>
          <a:stretch/>
        </p:blipFill>
        <p:spPr>
          <a:xfrm>
            <a:off x="324000" y="3500280"/>
            <a:ext cx="2476440" cy="200988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1"/>
          <p:cNvSpPr/>
          <p:nvPr/>
        </p:nvSpPr>
        <p:spPr>
          <a:xfrm>
            <a:off x="4021200" y="648828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ozložení zemských (litosférických) de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http://www.ig.cas.cz/userdata/pictures/geopark/postery/Zeme-o07.png"/>
          <p:cNvPicPr/>
          <p:nvPr/>
        </p:nvPicPr>
        <p:blipFill>
          <a:blip r:embed="rId2"/>
          <a:stretch/>
        </p:blipFill>
        <p:spPr>
          <a:xfrm>
            <a:off x="2903400" y="3149640"/>
            <a:ext cx="62182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ig.cas.cz/userdata/pictures/geopark/postery/Zeme-o08-v.jpg"/>
          <p:cNvPicPr/>
          <p:nvPr/>
        </p:nvPicPr>
        <p:blipFill>
          <a:blip r:embed="rId1"/>
          <a:stretch/>
        </p:blipFill>
        <p:spPr>
          <a:xfrm>
            <a:off x="250920" y="-644400"/>
            <a:ext cx="8572320" cy="321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920" y="2575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hraní mezi dvěma deskami může být divergentní, konvergentní nebo transformn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ivergentní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ozhraních se kůra roztahuje, tenčí a trhá působením vystupujícího materiálu; vznikne středooceánský hřbet s riftovým údolím, kterým vystupuje bazaltová lá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vergentní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ozhraních se desky naopak srážejí. Setká-li se kontinentální kůra s oceánskou, podsune se těžší oceánská kůra pod lehčí kontinentální a v předpolí vznikne hlubokomořský příkop. Kontinentální kůra může být současně stlačena, vzroste její mocnost a vznikne hroské pásmo podél pobřeží. S poklesem oceánské kůry do pláště se při okraji kontinentu objeví vulkanická aktivita. Setkají-li se dvě oceánské desky, starší a těžší se podsune pod mladší a vznikne oblouk vulkanických ostrov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ransform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í rozhraní vzniká tehdy, když se dvě desky pohybují rovnoběžně vedle sebe; kůra nevzniká ani nezaniká a neobjevuje se ani sopečná činnost. Rozhraní tohoto typu vznikají tektonickým odsazením části divergentních rozhraní a jsou doprovázena rozsáhlými zónami zlom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352872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ohyby de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98320"/>
            <a:ext cx="914400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Rozbíhání litosférických de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Sbíhání de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ě oceánské – hlubokomořské přík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eánská pod pevninskou (sopečná činnost a zemětřesení (An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ě pevninské – „růst“ pohoří (Himaláj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3638520" y="457200"/>
            <a:ext cx="5400720" cy="14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"/>
          <a:stretch/>
        </p:blipFill>
        <p:spPr>
          <a:xfrm>
            <a:off x="4616280" y="1989000"/>
            <a:ext cx="2444760" cy="374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3"/>
          <a:stretch/>
        </p:blipFill>
        <p:spPr>
          <a:xfrm>
            <a:off x="2041560" y="1996920"/>
            <a:ext cx="25747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 Nit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mi tvoří tři části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jádro, plášť, zemská kůra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+obráz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tosféra = zemská kůra a svrchní pláš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+obráz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evninská kůra (mocnější  až 100 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ceánská kůra (slabší do 6 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tosféra je rozlámána na desky, které se pohybuj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hyby desek (vznik a zánik litosfé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pečná a zemětřesná činn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251960" y="38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880" y="980640"/>
            <a:ext cx="8569440" cy="1871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ělíme 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ní (Fe, Ni) teplota 6000˚ C je pevné díky obrovskému okolnímu tla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ější jádro (polotekuté „roztavené“ Fe, 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http://www.national-geographic.cz/wp-content/uploads/articles/thumb1_42333_7736_core0a.jpg"/>
          <p:cNvPicPr/>
          <p:nvPr/>
        </p:nvPicPr>
        <p:blipFill>
          <a:blip r:embed="rId1"/>
          <a:stretch/>
        </p:blipFill>
        <p:spPr>
          <a:xfrm>
            <a:off x="-396720" y="2924280"/>
            <a:ext cx="4406760" cy="250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www.national-geographic.cz/wp-content/uploads/2013/05/earth-magnetosphere0.jpg"/>
          <p:cNvPicPr/>
          <p:nvPr/>
        </p:nvPicPr>
        <p:blipFill>
          <a:blip r:embed="rId2"/>
          <a:stretch/>
        </p:blipFill>
        <p:spPr>
          <a:xfrm>
            <a:off x="3772080" y="3933720"/>
            <a:ext cx="5371920" cy="29336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"/>
          <p:cNvSpPr/>
          <p:nvPr/>
        </p:nvSpPr>
        <p:spPr>
          <a:xfrm>
            <a:off x="4521240" y="3267000"/>
            <a:ext cx="425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Rotace pevného jádra v roztaveném vnějším jád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vytváří magnetické pole Země (obrázek dole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21:28:13Z</dcterms:created>
  <dc:creator>kk</dc:creator>
  <dc:description/>
  <dc:language>en-US</dc:language>
  <cp:lastModifiedBy>PC</cp:lastModifiedBy>
  <dcterms:modified xsi:type="dcterms:W3CDTF">2013-12-01T10:10:42Z</dcterms:modified>
  <cp:revision>27</cp:revision>
  <dc:subject/>
  <dc:title>DO NITRA ZEMĚ</dc:title>
</cp:coreProperties>
</file>