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614-3A0F-483C-9724-0422561F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947-F14D-48AF-9DB9-4B6ECD9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445-6147-4661-A3C9-F8607556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C4D-DFB0-48F9-BA89-9E327D76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785-5DB5-4961-997A-481275AB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D63-C97C-4C5D-A649-1117FA94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A9B-3DBE-4CA5-9C03-0188CEB5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21F-5916-4733-9A79-3ADD333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038-CAA0-447D-BA86-98EF2BA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978-4619-4D7D-8655-1084916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C54-0E16-4806-89D1-5F8069F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EDC-3ADD-4E59-8149-FDAD660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95A-2723-4F2C-A887-A30B0808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Geomorfologick&#233;_&#269;len&#283;n&#237;_&#268;R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manitost reliéfu v Č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396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rch ČR tvoří především pahorkatiny (300-600 m.n.m.) a vrchoviny (600-900 m.n.m.). Rozlohou nevelké nížiny, roviny a pánve (do 300 m.n.m.) najdeme v okolí řek a hornatiny (900-1600 m.n.m.) v pohraničních oblas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nižší bod ČR – Hřensko (115 m.n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vyšší bod ČR – Sněžka (1602 m.n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ěrná nadmořská výška je 450 m.n.m. (v Čechách 465 m.n.m., na Moravě a ve Slezsku 416 m.n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orfologičtí činite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ogenní (vnitřní) činitelé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lední výrazné změny nastaly během alpínského vrásnění ve třetihorách a čtvrtohorá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ogenní (vnější) činitelé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koucí voda, pevninský ledovec a horský ledovec v terciéru a kvartéru, dnes nejvíce krajinu mění člově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viz. prezentace Geologický vývoj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orfologické členění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zemí ČR se rozlišuje na 4 provincie, 10 subprovincií a 94 cel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2133720"/>
          <a:ext cx="8785440" cy="3898800"/>
        </p:xfrm>
        <a:graphic>
          <a:graphicData uri="http://schemas.openxmlformats.org/drawingml/2006/table">
            <a:tbl>
              <a:tblPr/>
              <a:tblGrid>
                <a:gridCol w="2052720"/>
                <a:gridCol w="1900440"/>
                <a:gridCol w="2122200"/>
                <a:gridCol w="2710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É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YSTÉ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OVI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5316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CYN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CYNSKÁ POHOŘ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ESKÁ VYSOČ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umavská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esko-moravsk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ušnohorsk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konošsko-jesenick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berounsk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eská tabu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HERCYNSKÉ NÍŽ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OEVROPSKÁ NÍŽ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opolské níži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P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MÁLAJ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RPA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PADNÍ KARPA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někarpatské sníženi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nější Západní Karpa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ONSKÁ PÁNE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PADOPANONSKÁ PÁN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ídeňská pán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76200" y="6184800"/>
            <a:ext cx="51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o geomorfologickém členěně Č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orfologické členění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él kterých řek se rozkládají naše níži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 pahorkatině leží památný vrch Blaník, kde najdeme horu Říp a Radhoš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na mapě jednotlivé subprovin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ažte na mapě Vněkarpatské snížen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ěte nejvyšší vrchol uvedených pohoří: Krkonoše, Krušné hory, Šumava, Jizerské hory, Hrubý Jeseník, Moravsko-slezské Besky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mapy zjistěte, kde leží: Javorník, Javorová skála, Javořice, Velký Javor, Velká Javořina a Velký Javorní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16:14Z</dcterms:created>
  <dc:creator>jj</dc:creator>
  <dc:description/>
  <dc:language>en-US</dc:language>
  <cp:lastModifiedBy>kk</cp:lastModifiedBy>
  <dcterms:modified xsi:type="dcterms:W3CDTF">2007-09-25T17:47:33Z</dcterms:modified>
  <cp:revision>7</cp:revision>
  <dc:subject/>
  <dc:title>Rozmanitost reliéfu v ČR </dc:title>
</cp:coreProperties>
</file>