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DC6-32BC-4373-871F-AF14AE5E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2433-CF8F-4700-8F20-D3242EE3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889-2B8E-46E1-8885-10EBD97F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747-AB74-4F98-93BD-A0C3B0FB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529-E368-4485-A43B-616082E9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A577-E359-4AC8-B61C-C67968DE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FAA4-FDDB-473E-84D1-93A43C65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EB2-2B17-4694-9E3D-38A2C5A6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15E-A79A-46D2-8D04-DD42A8E7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333-D20D-48E7-81EA-309FCF68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05D-C2A7-4818-8BC3-47375E5B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8E4A-C121-49C0-B47A-45251ABF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A9E7-FBBC-4B37-BB41-A25BD53D8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por_o_u&#382;it&#237;_slova_&#268;esko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259160" cy="4790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eská republika – poloha, hranice, základní úd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mě v srdci Evro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mě ve středu Evrop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48360" y="3429000"/>
            <a:ext cx="433440" cy="339840"/>
          </a:xfrm>
          <a:custGeom>
            <a:avLst/>
            <a:gdLst>
              <a:gd name="textAreaLeft" fmla="*/ 178560 w 433440"/>
              <a:gd name="textAreaRight" fmla="*/ 254880 w 433440"/>
              <a:gd name="textAreaTop" fmla="*/ 140040 h 339840"/>
              <a:gd name="textAreaBottom" fmla="*/ 199800 h 33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kladní ú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388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 – Česká republika, Česko (zajímavost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por o náze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ha – 78 866 k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14. místo svět, 21. místo Evrop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čet obyvatel -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 306 709 (31. březen 2007 , 77. na světě, 14. místo Evro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ustota osídlení – 130 obyvatel/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77. místo na svět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město: Praha (1,24 mil. obyvat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átní zřízení: parlamentní demokr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a státu: prezident volený na pět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rávní členění: 14 krajů (od 1. 1.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zyky: češ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na: 1 česká koruna (Kč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átní symboly: hymna - "Kde domov můj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DP: 5 240 US $ na obyva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64360" y="3141720"/>
            <a:ext cx="142560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667640" y="436572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o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eograficky - Střední Evropa, vnitrozemský st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eologicky – rozhraní České vysočiny a Karp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nebně – severní mírný pás (oceánsko-kontinentální rozhra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ydrologicky – hlavní evropské rozvodí „střecha Evrop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ravně – křižovatka cest (tranzitní zem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eopoliticky – středoevropský stát druhého světa (více viz. historický vývoj na území Č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88000" y="2786040"/>
            <a:ext cx="4897440" cy="4071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573360"/>
            <a:ext cx="478800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 u="sng">
                <a:solidFill>
                  <a:srgbClr val="000000"/>
                </a:solidFill>
                <a:uFillTx/>
                <a:latin typeface="Arial"/>
              </a:rPr>
              <a:t>Poloha v zeměpisné sít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Hlavní rovnoběžka 50 s.š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Hlavní poledník 15 s.š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Nejsevernější Lobendava (51°03‘ 22“s.š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Nejjižnější Vyšší Brod (48°33‘09s.š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Nejzápadnější Krásná (12°05‘33“v.d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Nejvýchodnější Bukovec (18°51‘40“v.d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ranice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edí se čtyřmi stá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ří mezi nejstarší v Evropě (jedno tisíciletí), více viz. historie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znikla jako hranice přirozen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745080" cy="2635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067280" y="3716280"/>
            <a:ext cx="48956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ostatná práce a opak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í tabulek zjistěte počet obyvatel a rozlohu států Střední Evropy a vytvořte pro tyto údaje kruhový graf (%) nebo sloupcový graf (absolutní čísla, pořadí). Grafy okomentuj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hledej několik evropských i mimoevropských států ležících na 50 s.š. a  několik států ležících na 15 v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jisti, které státy mají stejný pásmový čas jako ČR? Jak je na tom s časem Velká Británie a Řeck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ěř na mapě přibližné přímé vzdále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z Prahy blíž do Moskvy nebo Londýna, do Helsinek nebo do Athén, do Bratislavy nebo do Mnichova, Kodaně nebo Říma, Madridu nebo Kyjev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ěř na mapě ČR přímé vzdále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z Prahy blíž do Brna nebo Chebu, je ze Zlína blíž k hranicím Rakouska nebo Polska, je z Napajedel blíž Břeclav nebo Olomou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spořádejte ve třídě výzkum veřejného mínění o výhodnosti polohy naší vlasti. Rozhodněte je-li poloha ČR v Evorpě (dobrá, spíše dobrá, spíše špatná, špatná) podle: přístupu k moři, dopravy, blízkosti k hlavním evropským střediskům, podnebí pro rekreaci, pro zemědělství, výskytu nerostných surovin (pokuste se vymyslet další kritéria). Srovnejte výsledky a proveďte hodnocení výzkumu a závě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3:39:10Z</dcterms:created>
  <dc:creator>kk</dc:creator>
  <dc:description/>
  <dc:language>en-US</dc:language>
  <cp:lastModifiedBy>kk</cp:lastModifiedBy>
  <dcterms:modified xsi:type="dcterms:W3CDTF">2007-09-12T05:48:39Z</dcterms:modified>
  <cp:revision>6</cp:revision>
  <dc:subject/>
  <dc:title>Česká republika – poloha, rozloha</dc:title>
</cp:coreProperties>
</file>