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71E-9A2C-4DDD-AC83-79A804F0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9E7-C0D6-45EF-AAAF-AF8A03C7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5D0-2B31-4C1B-821F-E840FD49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55C-8C7F-4C62-BA6A-0FF5A58B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DB7-9FCD-4118-B2B0-51B1017E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796-D523-40B7-A35A-46AA8F84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FB3-C8BD-4EDB-835A-5CA9FE10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C08-9A92-4761-8355-1D8AB8B4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D36-5BF6-413C-A00F-19BA112A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E3C-1B2C-433A-A6F1-D99A9717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D75-41FD-4188-8F14-43110F9C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608-0EE4-42AF-AD70-0F2F6335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DEA6-5783-404B-92FB-CF1166FF5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ZEMNÍ A HISTORICKÝ VÝVOJ ČESKÉHO STÁ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j. ona země, kterou jsem vám čostokrát sliboval, země nikomu nepoddaná, zvěře a ptactva plná, sladkým medem a mlékem vlhnoucí, a jak sami pozorujete, podnebím i obýváním příjemná. Vody jsou všude hojné a nad obyčej rybnaté. Zde se vám nebude ničeho nedostávati, protože nikdo vám nebude škoditi. (Z proslovu praotce Čecha , který v 6. století přivedl slovanské kmeny, podle Kosmovy Kroniky české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Letopočet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. 630, 9. století, 10. - 13. století, 14. století, 1526-1918, 28. říjen 1918 - 30. září 1938, 1939 – 1945, 1945 – 1992, 1. leden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Říše (změna státního útvaru)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země Koruny české, habsburská říše, První republika, Sámova říše, Protektorát Čechy a Morava, Československý stát, Velká Morava, přemyslovský stát - České království, Česká republ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ouvisející poje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ucemburkové, největší rozmach území – Přemysl Otakar II. a Zlatá bula sicilská, Staré Město, první územní útvar na území ČR, Rakousko-Uhersko,  mnichovská dohoda a následná německá okupace, komunistický totalita a „sametová revoluce“, T.G.M., vznik samostatné Č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 zadaných pojmů vytvoř časovou osu historického vývoj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asová 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30 – Sámova říše (první státní útvar na území Č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. století – Velká Morava (centrum Staré Mě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. – 13. století – přemyslovský stát (největší územní rozmach – Přemysl Otakar II., Zlatá bula sicilská, povýšení Čech na králov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4. století – země Koruny české (Lucemburkov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526 – 1918 – habsburská říše (Rakousko-Uherská monarch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8. října 1918 – 30 . Září 1938 – první republika (prezident T.G.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39-1945 – Protektorát Čechy a Morava (zabrání pohraničí a německá oku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945-1992 – Československý stát (komunistická totalita a následná sametová revolu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ledna 1993 – Česká republika (vznik samostatného českého stá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4133880" cy="6264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00720" y="2565360"/>
            <a:ext cx="46432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kažte na mapě historická území Čech, Moravy a Slezs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teré další státy vznikly nebo se rozpadly na počátku 90. let 20. stolet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hodnoťte klady a zápory rozpadu Českoslovens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2:52Z</dcterms:created>
  <dc:creator>kk</dc:creator>
  <dc:description/>
  <dc:language>en-US</dc:language>
  <cp:lastModifiedBy>kk</cp:lastModifiedBy>
  <dcterms:modified xsi:type="dcterms:W3CDTF">2007-09-12T19:00:11Z</dcterms:modified>
  <cp:revision>6</cp:revision>
  <dc:subject/>
  <dc:title>ÚZEMNÍ A HISTORICKÝ VÝVOJ ČESKÉHO STÁTU</dc:title>
</cp:coreProperties>
</file>