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961-60E3-42B5-B413-3E7EAA3F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D53-DA99-4740-9CF0-63FFA677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F83-EE07-4BF9-B6B5-D840411D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380-576F-4006-92D3-FF01CB39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90D-2AAB-4380-94CB-7132F9EF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0E7-B4D5-4210-9A24-8D9AAC7E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64B-3BFE-4433-9147-EDC22C9F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05C-5F73-4719-8E76-35DD5FD2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57E-20CA-486C-960E-5A8E2C60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255-B04C-40C3-9565-3F298B66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E88-599C-45E3-85B1-9A3241E0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92A-1248-4FAF-ACFA-3880060A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6EDB-B6AD-4AF8-A060-AD69AAB0D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" Target="slide2.xm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492280"/>
            <a:ext cx="856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logický vývoj České republ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84040"/>
            <a:ext cx="4788000" cy="2833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-181080" y="3213000"/>
            <a:ext cx="6553440" cy="288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32360" y="333360"/>
            <a:ext cx="3924360" cy="270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5508720" y="4446720"/>
            <a:ext cx="36352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ahory – Archaikum (4000 – 2500 mil. l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kadomské vrásnění (na konci é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tváření prvotní zemské kůry a jader kontinentů, vyvinuly se první organické sloučeniny a koncem prahor i jednoduché organis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m masivu – vznik jádrových částí Čech (hlubinné vyvřeliny – žu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tarohory – Proterozoikum (2500 – 545 mil.le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kadomské vrás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hobuněční bezobratlí živočichové (láčkovci, červi, členov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tšina našeho území zaplavena mořem (nejstarší mořské usazeniny v barandiénu, Manětíně nebo v Chrudim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vohory – Paleozoikum (545 – 245 mil.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dobí rozdělené do šesti obdob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mbrium, ordovik, silur – kaledonské vrásnění (většina území zaplaveno mořem – sedimenta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voj mořského života: trilobiti, mlži, hvězdice, trnoploutvé ry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von, karbon, perm – hercynské vrásnění (vznik nejvyšších soustav v českém masivu a ústup moře – černouhelné pánve), podmořský vulkan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voj hmyzu, přechod fauny na souš, první pl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známka: vývoj území Karpat byl do konce prvohor společný s českým masivem – pak pokles a zatopeno mořem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1635120" cy="2043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5329440" cy="2059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164360" y="692280"/>
            <a:ext cx="17636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hohory – Mezozoikum (245 – 65 mil.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zemí českého masivu je převážně souší (křídové moře – severní a východní Čec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cem druhohor – alpínské vrásnění (jádro Karpat, sladkovodní pánve – základ slojí hnědé uhlí, rozlámání Českého masivu – Krušné hory, Krkonoše, Jeseník a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ěk plazů, počátek éry hadů a ptá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5870520" cy="2316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72360" y="3068640"/>
            <a:ext cx="2619360" cy="1771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00800" y="4876920"/>
            <a:ext cx="256392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692280"/>
            <a:ext cx="694872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řetihory – Terciér (65 – 1,8 mil.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lpínské vrásnění – vyvrásnění Karpat, sopečná činnost díky rozlámání českého masívu, minerální prameny, začátek vývoje říční sítě, hnědouhelné pánve. Vněkarpatské sníženiny = moř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oj ptáků, rychlý rozvoj savců, první primá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19280" y="4076640"/>
            <a:ext cx="306864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26146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tvrtohory – Kvartér (1,8 mil.let – dneš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znívá alpínské vrásnění a vulkanická činnost (Komorní hůrka u Cheb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ání dob ledových (pevninský a horský ledovec) a meziledových (váté písky a spraše, vznik říčních teras, intenzivní krasové je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savců a homini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95640" y="1268280"/>
            <a:ext cx="4897440" cy="2479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59280" y="4221000"/>
            <a:ext cx="2954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p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Území ČR tvoří dvě odlišné geologické jednot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) Česká vysočina (Český masiv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rvohorní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ercynské vrásně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tvořena: vyvřeliny – např. žuly, a přeměněné horniny – např. fylity, svory a ru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) Karpat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konec druhohor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zv. alpínské vrásně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u nás tvořena převážně usazenými horninami – pískovce, jílovce, vápence), díky vrásnění došlo k rozlámaní českého masivu (zdvihy, poklesy ker, sopečná čin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e čtvrtohorá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doby ledové) bylo území ČR formováno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evninským ledovcem a činností ře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4:27:28Z</dcterms:created>
  <dc:creator>kk</dc:creator>
  <dc:description/>
  <dc:language>en-US</dc:language>
  <cp:lastModifiedBy>kk</cp:lastModifiedBy>
  <dcterms:modified xsi:type="dcterms:W3CDTF">2007-09-17T18:55:24Z</dcterms:modified>
  <cp:revision>15</cp:revision>
  <dc:subject/>
  <dc:title>Snímek 1</dc:title>
</cp:coreProperties>
</file>