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FC4-953D-40C0-B411-45F7109B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5BF3-FBCC-4D8E-89C8-77A31E45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EBE-DB39-472E-9991-54567672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63C9-B976-4FE2-9EDE-F400F029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99D7-BE37-45FE-8EA0-F4A3D086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C4BA-29C6-4010-8B08-A3FDF50E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098-5841-4F30-BC15-3F24105C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525-AB80-4E12-9E8A-2B656C97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C39-C40B-48A8-840B-84D53E73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BA06-CED5-460C-B282-1AECF99D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19F5-AF45-4EC2-A6A4-E73FE0B9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971C-CD26-4C30-8686-DA61EE44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5947-796D-4F12-8698-6CC87D320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línský kraj - procvič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6448680" cy="4811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plňte do mapy chybějící inform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486864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-Otrokovice, 2-Kroměříž, 3-Uh.Hradiště, 4-Uh. Brod, 5-Napajedla, 6-Luhačovice, 7-Holešov, 8-Bystřice p. Hostýnem, 9-Vsetín, 11-Valašské Meziříčí, 12-Rožnov pod Radhoštěm, 13-Brumov-Bylnice, 14-Vizo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970-Velká Javořina, 911-Velký Lopeník, 1019-Malý Javorník, 918-Radhošť, 735-Hostýn, 587-B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-Chřiby, B-Bílé Karpaty, C-Moravskoslezské Beskydy, D-Javorník, E-Dolnomoravský úval, F-Hornomoravský ú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66520" y="32846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á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59480" y="359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02720" y="35924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š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70360" y="21528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řev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8360" y="143208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etínská Beč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83080" y="10000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žnovská Beč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61640" y="4024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13640" y="7840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0880" y="386064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ch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720" y="27288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leh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jistěte informace o těchto místech a pojme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86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kanzen Rožnov p. Radhoště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máš Baťa a Jan Antonín Bať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lí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leh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onet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atý Hostý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ízda krá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jistěte informace o těchto místech a pojme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kanzen Rožnov p. Radhoště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nejstarší a největší, nejznámější skanzen a Valašské muzeum v přírodě (1925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omáš Baťa a Jan Antonín Bať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Tomáš Baťa (1876-1932) a Jan Antonín Baťa (1898-1965), zakladatel světoznámé firmy, jeden z největších podnikatelů své doby a jeho nevlastní bratr, který v díle úspěšně pokračov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Jelíne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tradiční výrobce slivovice z Vizov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elehra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významné poutní místo s prvním cisterciáckým klášterem na Moravě (založený 1205) a pětilodní bazilikou Nanebevzetí Panny Mar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honetk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Slavná židle Thonetka č. 14 z ohýbaného dřeva, známá po celém světě a vyráběna v Bystřici pod Hostýn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vatý Hostý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 nejnavštěvovanější poutní místo na Moravě, po Velehradu též nejpamátnějš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Jízda král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unikátní lidová tradice ve Vlčnově, která nemá ve světě obdo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řiřaďte k městům jejich charakteristi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4956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l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oko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pajed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herské Hradiš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herský Br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é Mě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žnov p. Radhoště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oměří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stříce p. Hostýn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eš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40000" y="1457280"/>
            <a:ext cx="5003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um (výroba pneumat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ra (výrobce plast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N (ohýbaný nábytek), poutní mí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zeum Velkomoravské říše, výroba bar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LE-SFINX (výroba cukrovinek), meteorologická sta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ibiskupský zámek, květná zah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uvnický průmysl, Baťa, Mezinárodní festival pro děti a mláde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brojovka, muzeum J.A. Komenské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ní filmová škola, výroba letadel (Let Kuno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anzen, Elektrotechnický průmy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řiřaďte k městům jejich charakteristi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Zlí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Obuvnický průmysl, Baťa, Mezinárodní festival pro děti a mláde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trokov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Barum (výroba pneumati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pajed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Fatra (výrobce plast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herské Hradišt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Letní filmová škola, výroba letadel (Let Kunov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herský Br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Zbrojovka, muzeum J.A. Komenské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aré Mě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Muzeum Velkomoravské říše, výroba bar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žnov p. Radhoště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kanzen, Elektrotechnický průmy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roměří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rcibiskupský zámek, květná zah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ystříce p. Hostýn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ON (ohýbaný nábytek), poutní mí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leš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NESTLE-SFINX (výroba cukrovinek), meteorologická sta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40000" y="1457280"/>
            <a:ext cx="5003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ečné shr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ínský kraj má nejúrodnější část podél řeky Moravy (Horno a Dolnomoravský úva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ůmyslu dominuje gumárenství (Otrokovice, Zubří), zpracování plastů (Napajedla, Chropyně), kožedělný průmysl (Zlín, Slavičín) a strojírenský průmysl (Uherské Hradiště, Uherský Brod, Zlín, Vsetín)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 je nedostatečné dopravní napojení na dálniční síť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3:35:38Z</dcterms:created>
  <dc:creator>jj</dc:creator>
  <dc:description/>
  <dc:language>en-US</dc:language>
  <cp:lastModifiedBy>jj</cp:lastModifiedBy>
  <dcterms:modified xsi:type="dcterms:W3CDTF">2008-06-15T17:04:47Z</dcterms:modified>
  <cp:revision>11</cp:revision>
  <dc:subject/>
  <dc:title>Zlínský kraj - procvičování</dc:title>
</cp:coreProperties>
</file>