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495-8BAE-429F-80CE-389CCB48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776-C291-41B5-9B8A-2B9B41AA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603-C098-4D84-B8CE-F79ABFA5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8CB-0D5E-49B5-9794-D4547603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ABB-AEC2-49FE-B99F-33B2129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2B7-F816-45A9-8041-3B2F9EA9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6CF-E59A-40E6-8A4A-C4A80ED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026-69A2-4537-AD97-76D29071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904-CB4B-4FF3-A766-E5512CD7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156-C416-4548-B74C-1BE886F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AD2-5222-4CF8-822A-71CE142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A81-008C-4DBF-9674-029410B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BC4E-6F59-4D24-9C1B-B0559A88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715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ídeňská pán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ubprovincie Vídeňská pánev, která patří pod provincii Západopanonské pánve, se nachází zejména na území Rakouska a k nám zasahuje na Moravě (více méně kopíruje území Dolnomoravského úvalu). Vídeňská pánev se rozkládá mezi Východními Alpami a Západními Karpaty. V této pánvi se usadil celkem mocný sled třetihorních usazenin. Sedimentace v pánvi je zpočátku kontinentální (vnitrohorská deprese) později mořská a nakonec opět kontinentální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-27000"/>
            <a:ext cx="5562720" cy="32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364000" y="2781360"/>
            <a:ext cx="43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le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ídeňská pán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oblast Jihomoravská pánev – celek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olnomoravský ú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oblast Záhorská nížina – celek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hvojnická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ahork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400720" cy="1917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58770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ok Dyje a Mor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56:42Z</dcterms:created>
  <dc:creator>jj</dc:creator>
  <dc:description/>
  <dc:language>en-US</dc:language>
  <cp:lastModifiedBy>ulu</cp:lastModifiedBy>
  <dcterms:modified xsi:type="dcterms:W3CDTF">2007-10-29T06:39:29Z</dcterms:modified>
  <cp:revision>5</cp:revision>
  <dc:subject/>
  <dc:title>Západopanonská pánev </dc:title>
</cp:coreProperties>
</file>