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C7C-8078-4377-B9B3-E8574E40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2F1-7470-4AD6-99BE-416EB988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2B8-138E-4AC0-AAF6-4AFE6CCA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ABD-1767-478A-81E2-4614F786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520-D85D-4D7E-81AD-F78AEABF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03B-F080-4ECA-8BE0-7F7B6992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D6D-8D75-4AF6-AE70-C85AE63B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E06-B88C-4075-B693-353F249A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740-F4D7-4F58-BE85-7B7118AB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947-2446-4210-89B2-8797F84E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1D6-599B-4634-B806-E978F7CF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614-5222-4D30-8464-E41229DC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A349-D11D-4D50-84F9-2F40EADC6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pecial.novinky.cz/unie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NĚJŠÍ VZTA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SKÉ REPUBL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3933720"/>
            <a:ext cx="2895840" cy="212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95640" y="765000"/>
            <a:ext cx="1368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Česko a Evropská unie (E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9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R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zažádal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 vstup do EU v roce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do E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stoupila 1. května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R má nyní v 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Evropském Paralamentu 24 poslanc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majorita ODS); pro srovnání: voliči v SRN vybírají 99 zástupců, Malta 5. Europoslanci nehájí přímo zájmy ČR. Podle stranických idejí vstupují do různých frakcí, které se posléze snaží silou svých hlasů ovlivnit politiku v rámci E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las ministra ČR v Radě ministrů odráží tzv. 12 vážených hlasů; jeho britský kolega má 2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R má jako každá země E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jednoho eurokomisař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Prvním byl nestraník Pavel Telička. Jeho následníkem se stal expremiér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ladimír Špidl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ý od listopadu 2004 působí jako eurokomisař pro zaměstnanost, sociální věci a rovné příležit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Čechů pracujících v aparátu E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dhaduje ministerstvo zahraničních věcí n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íce než 1000.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ýznamní lidé v E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22. prosince 2007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také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oučástí Schengenského prostor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ý odstraňuje kontroly na hranicích s ostatními zeměmi E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 listopadu 2006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 ČR začal platit evropský zatykač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ý umožňuje vydat české občany k trestnímu stíhání do jiných zemí E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řijetí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ur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se očekává nejdříve v roce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mezen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lného pohybu pracovníc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il maximálně do rok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29360" y="0"/>
            <a:ext cx="2114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292720" cy="3909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24000" y="620640"/>
            <a:ext cx="410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"Hranice jsou "jizvy dějin". Přeshraniční spolupráce pomáhá zmírňovat nevýhody těchto hranic, překonávat okrajovou polohu hraničních oblastí a zlepšovat životní podmínky obyvatel. Měla by zahrnovat všechny kulturní, sociální, hospodářské i infrastrukturní oblasti života. Poznání a porozumění sousedů jsou právě tak důležité jako budování důvěr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(Preambule Evropské charty hraničních a přeshraničních regionů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211640" y="3789360"/>
            <a:ext cx="4657680" cy="287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3284640"/>
            <a:ext cx="3708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31632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3141720"/>
            <a:ext cx="3765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lavní cíle vytváření euroregion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olupráce v otázkách územního plánování a uspořádán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chování a zlepšování životního prostřed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vyšování životní úrovně obyvat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zvoj a zlepšení infrastruktury přesahující hran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zvoj spolupráce při likvidaci požárů a přírodních katastr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zvoj turistiky a kultu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lepšování mezilidských vztah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tatní organiz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836280"/>
            <a:ext cx="594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N – ČR byla přijata 19.1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99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o 179. členský stát OSN, jejímž byl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Československ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 roce 1945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akladatel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CD - Cílem organizace je napomáhat k dalším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konomickému rozvo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otlačení nezaměstnanosti, stabilizaci a rozvoji mezinárodních finančních trhů. ČR se připojila v ro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(ČR ke o členem dalších ekonomických organizací – CEFTA, MMF, W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O –  v ro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19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k NATO připojilo Polsko, Maďarsko a Česko (12. března), všechny tři země byly prvními zeměmi, které se k NATO připojily ze zemí Východního bloku. Účast v alianci nám přinesla spolehlivé bezpečnostní garance, ale také povinnosti zúčastnit se akcí zajišťující bezpečnost současného svě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R udržuj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plomatické styky s více než 180 stá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U nás působí na 70 cizineckých zastupitelských úřadů a naše velvyslanectví pracuje zhruba ve stejném počtu zemí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17748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588000" y="2060640"/>
            <a:ext cx="1924200" cy="280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12000" y="4941720"/>
            <a:ext cx="2981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53:09Z</dcterms:created>
  <dc:creator>jj</dc:creator>
  <dc:description/>
  <dc:language>en-US</dc:language>
  <cp:lastModifiedBy>jj</cp:lastModifiedBy>
  <dcterms:modified xsi:type="dcterms:W3CDTF">2008-02-21T16:39:11Z</dcterms:modified>
  <cp:revision>7</cp:revision>
  <dc:subject/>
  <dc:title>VNĚJŠÍ VZTAHY</dc:title>
</cp:coreProperties>
</file>