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1AA-0153-455D-ADE5-CA0A66A4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8A3-6F3F-4520-A2A4-A333F6B9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BFA-1652-4C9F-9DC0-5D8457E2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68A-60FC-462A-B176-608ABC20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095-44A1-4FAB-90E3-60A9BEF5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8D9-2353-46FB-9C5D-42465883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683-730B-43F0-AB1A-9E89D02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38A-8E09-4B97-BB32-0F096A37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68A-A527-4FDE-A4EF-962D71AE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184-D7C8-4211-BDCE-57F0039A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9D4-3AD7-4519-8C74-5A2361F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A6C-6846-4D31-8A7C-42CAC35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BB6D-670D-41FB-B6EE-744304D5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4.xml"/><Relationship Id="rId16" Type="http://schemas.openxmlformats.org/officeDocument/2006/relationships/slide" Target="slide4.xml"/><Relationship Id="rId17" Type="http://schemas.openxmlformats.org/officeDocument/2006/relationships/slide" Target="slide4.xml"/><Relationship Id="rId18" Type="http://schemas.openxmlformats.org/officeDocument/2006/relationships/slide" Target="slide4.xml"/><Relationship Id="rId19" Type="http://schemas.openxmlformats.org/officeDocument/2006/relationships/slide" Target="slide4.xml"/><Relationship Id="rId20" Type="http://schemas.openxmlformats.org/officeDocument/2006/relationships/slide" Target="slide4.xml"/><Relationship Id="rId21" Type="http://schemas.openxmlformats.org/officeDocument/2006/relationships/slide" Target="slide4.xml"/><Relationship Id="rId22" Type="http://schemas.openxmlformats.org/officeDocument/2006/relationships/slide" Target="slide4.xml"/><Relationship Id="rId23" Type="http://schemas.openxmlformats.org/officeDocument/2006/relationships/slide" Target="slide4.xml"/><Relationship Id="rId24" Type="http://schemas.openxmlformats.org/officeDocument/2006/relationships/slide" Target="slide4.xml"/><Relationship Id="rId25" Type="http://schemas.openxmlformats.org/officeDocument/2006/relationships/slide" Target="slide4.xml"/><Relationship Id="rId26" Type="http://schemas.openxmlformats.org/officeDocument/2006/relationships/slide" Target="slide4.xml"/><Relationship Id="rId27" Type="http://schemas.openxmlformats.org/officeDocument/2006/relationships/slide" Target="slide4.xml"/><Relationship Id="rId28" Type="http://schemas.openxmlformats.org/officeDocument/2006/relationships/slide" Target="slide4.xml"/><Relationship Id="rId29" Type="http://schemas.openxmlformats.org/officeDocument/2006/relationships/slide" Target="slide4.xml"/><Relationship Id="rId30" Type="http://schemas.openxmlformats.org/officeDocument/2006/relationships/slide" Target="slide4.xml"/><Relationship Id="rId31" Type="http://schemas.openxmlformats.org/officeDocument/2006/relationships/slide" Target="slide4.xml"/><Relationship Id="rId32" Type="http://schemas.openxmlformats.org/officeDocument/2006/relationships/slide" Target="slide4.xml"/><Relationship Id="rId33" Type="http://schemas.openxmlformats.org/officeDocument/2006/relationships/slide" Target="slide4.xml"/><Relationship Id="rId34" Type="http://schemas.openxmlformats.org/officeDocument/2006/relationships/slide" Target="slide4.xml"/><Relationship Id="rId35" Type="http://schemas.openxmlformats.org/officeDocument/2006/relationships/slide" Target="slide4.xml"/><Relationship Id="rId36" Type="http://schemas.openxmlformats.org/officeDocument/2006/relationships/slide" Target="slide4.xml"/><Relationship Id="rId37" Type="http://schemas.openxmlformats.org/officeDocument/2006/relationships/slide" Target="slide4.xml"/><Relationship Id="rId38" Type="http://schemas.openxmlformats.org/officeDocument/2006/relationships/slide" Target="slide4.xml"/><Relationship Id="rId39" Type="http://schemas.openxmlformats.org/officeDocument/2006/relationships/slide" Target="slide4.xml"/><Relationship Id="rId40" Type="http://schemas.openxmlformats.org/officeDocument/2006/relationships/slide" Target="slide4.xml"/><Relationship Id="rId41" Type="http://schemas.openxmlformats.org/officeDocument/2006/relationships/slide" Target="slide4.xml"/><Relationship Id="rId42" Type="http://schemas.openxmlformats.org/officeDocument/2006/relationships/slide" Target="slide4.xml"/><Relationship Id="rId4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DSTVO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907560"/>
            <a:ext cx="85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íky poloze můžeme ČR označit za „střechu Evropy“ – ČR prochází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lavní evropské rozvod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ré rozděluje řeku d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ří úmoř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iz. obráz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977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Ře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5219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Evropské rozvodí (tří úmoř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ní zásoby jsou závislé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rážká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 průměru 679 mm) z toho 189 mm od náš odteče = necelá 1/3 odteče, více než 1/3 se vsákne a 1/3 se vypaří – důležité je vodní hospodář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ou našich řek je proměnlivá vodnost během roku: záplavy (jaro – tání sněhu, léto – velké úhrny srážek), málo vody (na konci zimy – řeky na horách, v září – v nížiná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86240" y="1413000"/>
            <a:ext cx="3857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Řeky samostatná prá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atlasu nebo tabulek vyhled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ři nejdelší řeky v Č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ři řeky podle rozlohy povod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ři řeky podle průměrného prů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jisti z literatury (učebnice, internetu), kde pramení řeky: Vltava, Labe, Mo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povědi na otáz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tava (430 km), Labe (370 km), Dyje (285 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be (49 964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Vltava (28 090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Morava (24 266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be (308,2 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Vltava (150 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Morava (109 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tava – na Šumavě pod Černou horou, Labe – Krkonoše na Labské louce, Morava – pod Kralickým sněžník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 názvy ř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05636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5997600" y="3284640"/>
            <a:ext cx="669960" cy="2141280"/>
          </a:xfrm>
          <a:custGeom>
            <a:avLst/>
            <a:gdLst/>
            <a:ahLst/>
            <a:rect l="l" t="t" r="r" b="b"/>
            <a:pathLst>
              <a:path w="422" h="1349">
                <a:moveTo>
                  <a:pt x="148" y="1326"/>
                </a:moveTo>
                <a:cubicBezTo>
                  <a:pt x="178" y="1311"/>
                  <a:pt x="196" y="1291"/>
                  <a:pt x="224" y="1273"/>
                </a:cubicBezTo>
                <a:cubicBezTo>
                  <a:pt x="245" y="1242"/>
                  <a:pt x="263" y="1225"/>
                  <a:pt x="299" y="1213"/>
                </a:cubicBezTo>
                <a:cubicBezTo>
                  <a:pt x="313" y="1117"/>
                  <a:pt x="328" y="1103"/>
                  <a:pt x="307" y="978"/>
                </a:cubicBezTo>
                <a:cubicBezTo>
                  <a:pt x="304" y="958"/>
                  <a:pt x="280" y="949"/>
                  <a:pt x="269" y="932"/>
                </a:cubicBezTo>
                <a:cubicBezTo>
                  <a:pt x="260" y="904"/>
                  <a:pt x="246" y="894"/>
                  <a:pt x="239" y="864"/>
                </a:cubicBezTo>
                <a:cubicBezTo>
                  <a:pt x="236" y="798"/>
                  <a:pt x="235" y="733"/>
                  <a:pt x="231" y="667"/>
                </a:cubicBezTo>
                <a:cubicBezTo>
                  <a:pt x="229" y="642"/>
                  <a:pt x="204" y="615"/>
                  <a:pt x="193" y="599"/>
                </a:cubicBezTo>
                <a:cubicBezTo>
                  <a:pt x="143" y="528"/>
                  <a:pt x="82" y="467"/>
                  <a:pt x="34" y="394"/>
                </a:cubicBezTo>
                <a:cubicBezTo>
                  <a:pt x="18" y="341"/>
                  <a:pt x="20" y="343"/>
                  <a:pt x="27" y="273"/>
                </a:cubicBezTo>
                <a:cubicBezTo>
                  <a:pt x="25" y="237"/>
                  <a:pt x="0" y="70"/>
                  <a:pt x="19" y="15"/>
                </a:cubicBezTo>
                <a:cubicBezTo>
                  <a:pt x="22" y="6"/>
                  <a:pt x="34" y="5"/>
                  <a:pt x="42" y="0"/>
                </a:cubicBezTo>
                <a:cubicBezTo>
                  <a:pt x="55" y="3"/>
                  <a:pt x="70" y="0"/>
                  <a:pt x="80" y="8"/>
                </a:cubicBezTo>
                <a:cubicBezTo>
                  <a:pt x="94" y="19"/>
                  <a:pt x="110" y="53"/>
                  <a:pt x="110" y="53"/>
                </a:cubicBezTo>
                <a:cubicBezTo>
                  <a:pt x="95" y="149"/>
                  <a:pt x="135" y="233"/>
                  <a:pt x="155" y="326"/>
                </a:cubicBezTo>
                <a:cubicBezTo>
                  <a:pt x="159" y="345"/>
                  <a:pt x="163" y="398"/>
                  <a:pt x="178" y="417"/>
                </a:cubicBezTo>
                <a:cubicBezTo>
                  <a:pt x="188" y="430"/>
                  <a:pt x="210" y="435"/>
                  <a:pt x="224" y="440"/>
                </a:cubicBezTo>
                <a:cubicBezTo>
                  <a:pt x="237" y="453"/>
                  <a:pt x="249" y="465"/>
                  <a:pt x="262" y="478"/>
                </a:cubicBezTo>
                <a:cubicBezTo>
                  <a:pt x="275" y="491"/>
                  <a:pt x="292" y="523"/>
                  <a:pt x="292" y="523"/>
                </a:cubicBezTo>
                <a:cubicBezTo>
                  <a:pt x="320" y="615"/>
                  <a:pt x="276" y="724"/>
                  <a:pt x="330" y="803"/>
                </a:cubicBezTo>
                <a:cubicBezTo>
                  <a:pt x="341" y="838"/>
                  <a:pt x="347" y="865"/>
                  <a:pt x="353" y="902"/>
                </a:cubicBezTo>
                <a:cubicBezTo>
                  <a:pt x="348" y="910"/>
                  <a:pt x="337" y="916"/>
                  <a:pt x="337" y="925"/>
                </a:cubicBezTo>
                <a:cubicBezTo>
                  <a:pt x="337" y="932"/>
                  <a:pt x="348" y="935"/>
                  <a:pt x="353" y="940"/>
                </a:cubicBezTo>
                <a:cubicBezTo>
                  <a:pt x="368" y="955"/>
                  <a:pt x="398" y="985"/>
                  <a:pt x="398" y="985"/>
                </a:cubicBezTo>
                <a:cubicBezTo>
                  <a:pt x="422" y="1054"/>
                  <a:pt x="401" y="1080"/>
                  <a:pt x="368" y="1129"/>
                </a:cubicBezTo>
                <a:cubicBezTo>
                  <a:pt x="365" y="1157"/>
                  <a:pt x="368" y="1186"/>
                  <a:pt x="360" y="1213"/>
                </a:cubicBezTo>
                <a:cubicBezTo>
                  <a:pt x="353" y="1238"/>
                  <a:pt x="309" y="1243"/>
                  <a:pt x="292" y="1258"/>
                </a:cubicBezTo>
                <a:cubicBezTo>
                  <a:pt x="260" y="1286"/>
                  <a:pt x="234" y="1337"/>
                  <a:pt x="193" y="1349"/>
                </a:cubicBezTo>
                <a:cubicBezTo>
                  <a:pt x="156" y="1340"/>
                  <a:pt x="170" y="1349"/>
                  <a:pt x="148" y="132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6040440" y="4613400"/>
            <a:ext cx="396720" cy="298440"/>
          </a:xfrm>
          <a:custGeom>
            <a:avLst/>
            <a:gdLst/>
            <a:ahLst/>
            <a:rect l="l" t="t" r="r" b="b"/>
            <a:pathLst>
              <a:path w="250" h="188">
                <a:moveTo>
                  <a:pt x="250" y="19"/>
                </a:moveTo>
                <a:cubicBezTo>
                  <a:pt x="186" y="0"/>
                  <a:pt x="116" y="4"/>
                  <a:pt x="53" y="27"/>
                </a:cubicBezTo>
                <a:cubicBezTo>
                  <a:pt x="30" y="50"/>
                  <a:pt x="23" y="72"/>
                  <a:pt x="0" y="95"/>
                </a:cubicBezTo>
                <a:cubicBezTo>
                  <a:pt x="28" y="188"/>
                  <a:pt x="172" y="140"/>
                  <a:pt x="242" y="95"/>
                </a:cubicBezTo>
                <a:cubicBezTo>
                  <a:pt x="237" y="72"/>
                  <a:pt x="209" y="19"/>
                  <a:pt x="250" y="1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6472080" y="4346640"/>
            <a:ext cx="1132200" cy="582480"/>
          </a:xfrm>
          <a:custGeom>
            <a:avLst/>
            <a:gdLst/>
            <a:ahLst/>
            <a:rect l="l" t="t" r="r" b="b"/>
            <a:pathLst>
              <a:path w="713" h="367">
                <a:moveTo>
                  <a:pt x="0" y="74"/>
                </a:moveTo>
                <a:cubicBezTo>
                  <a:pt x="57" y="91"/>
                  <a:pt x="132" y="53"/>
                  <a:pt x="182" y="28"/>
                </a:cubicBezTo>
                <a:cubicBezTo>
                  <a:pt x="212" y="13"/>
                  <a:pt x="299" y="13"/>
                  <a:pt x="304" y="13"/>
                </a:cubicBezTo>
                <a:cubicBezTo>
                  <a:pt x="340" y="5"/>
                  <a:pt x="343" y="0"/>
                  <a:pt x="387" y="13"/>
                </a:cubicBezTo>
                <a:cubicBezTo>
                  <a:pt x="453" y="32"/>
                  <a:pt x="364" y="23"/>
                  <a:pt x="432" y="51"/>
                </a:cubicBezTo>
                <a:cubicBezTo>
                  <a:pt x="458" y="62"/>
                  <a:pt x="489" y="58"/>
                  <a:pt x="516" y="66"/>
                </a:cubicBezTo>
                <a:cubicBezTo>
                  <a:pt x="559" y="79"/>
                  <a:pt x="595" y="101"/>
                  <a:pt x="637" y="112"/>
                </a:cubicBezTo>
                <a:cubicBezTo>
                  <a:pt x="697" y="151"/>
                  <a:pt x="676" y="215"/>
                  <a:pt x="713" y="271"/>
                </a:cubicBezTo>
                <a:cubicBezTo>
                  <a:pt x="608" y="339"/>
                  <a:pt x="417" y="367"/>
                  <a:pt x="357" y="248"/>
                </a:cubicBezTo>
                <a:cubicBezTo>
                  <a:pt x="349" y="129"/>
                  <a:pt x="377" y="132"/>
                  <a:pt x="296" y="104"/>
                </a:cubicBezTo>
                <a:cubicBezTo>
                  <a:pt x="229" y="108"/>
                  <a:pt x="85" y="121"/>
                  <a:pt x="16" y="104"/>
                </a:cubicBezTo>
                <a:cubicBezTo>
                  <a:pt x="5" y="101"/>
                  <a:pt x="5" y="84"/>
                  <a:pt x="0" y="7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7578720" y="3741840"/>
            <a:ext cx="506520" cy="807840"/>
          </a:xfrm>
          <a:custGeom>
            <a:avLst/>
            <a:gdLst/>
            <a:ahLst/>
            <a:rect l="l" t="t" r="r" b="b"/>
            <a:pathLst>
              <a:path w="319" h="509">
                <a:moveTo>
                  <a:pt x="289" y="493"/>
                </a:moveTo>
                <a:cubicBezTo>
                  <a:pt x="248" y="452"/>
                  <a:pt x="209" y="412"/>
                  <a:pt x="190" y="356"/>
                </a:cubicBezTo>
                <a:cubicBezTo>
                  <a:pt x="188" y="318"/>
                  <a:pt x="190" y="280"/>
                  <a:pt x="183" y="243"/>
                </a:cubicBezTo>
                <a:cubicBezTo>
                  <a:pt x="182" y="236"/>
                  <a:pt x="172" y="233"/>
                  <a:pt x="167" y="227"/>
                </a:cubicBezTo>
                <a:cubicBezTo>
                  <a:pt x="156" y="213"/>
                  <a:pt x="147" y="197"/>
                  <a:pt x="137" y="182"/>
                </a:cubicBezTo>
                <a:cubicBezTo>
                  <a:pt x="112" y="145"/>
                  <a:pt x="99" y="98"/>
                  <a:pt x="54" y="83"/>
                </a:cubicBezTo>
                <a:cubicBezTo>
                  <a:pt x="39" y="86"/>
                  <a:pt x="23" y="95"/>
                  <a:pt x="8" y="91"/>
                </a:cubicBezTo>
                <a:cubicBezTo>
                  <a:pt x="0" y="89"/>
                  <a:pt x="1" y="76"/>
                  <a:pt x="1" y="68"/>
                </a:cubicBezTo>
                <a:cubicBezTo>
                  <a:pt x="1" y="32"/>
                  <a:pt x="8" y="11"/>
                  <a:pt x="39" y="0"/>
                </a:cubicBezTo>
                <a:cubicBezTo>
                  <a:pt x="69" y="3"/>
                  <a:pt x="101" y="0"/>
                  <a:pt x="130" y="8"/>
                </a:cubicBezTo>
                <a:cubicBezTo>
                  <a:pt x="146" y="13"/>
                  <a:pt x="146" y="43"/>
                  <a:pt x="152" y="53"/>
                </a:cubicBezTo>
                <a:cubicBezTo>
                  <a:pt x="173" y="86"/>
                  <a:pt x="213" y="102"/>
                  <a:pt x="236" y="136"/>
                </a:cubicBezTo>
                <a:cubicBezTo>
                  <a:pt x="238" y="146"/>
                  <a:pt x="242" y="156"/>
                  <a:pt x="243" y="167"/>
                </a:cubicBezTo>
                <a:cubicBezTo>
                  <a:pt x="247" y="210"/>
                  <a:pt x="245" y="253"/>
                  <a:pt x="251" y="296"/>
                </a:cubicBezTo>
                <a:cubicBezTo>
                  <a:pt x="254" y="314"/>
                  <a:pt x="295" y="353"/>
                  <a:pt x="304" y="379"/>
                </a:cubicBezTo>
                <a:cubicBezTo>
                  <a:pt x="306" y="394"/>
                  <a:pt x="308" y="409"/>
                  <a:pt x="311" y="424"/>
                </a:cubicBezTo>
                <a:cubicBezTo>
                  <a:pt x="313" y="432"/>
                  <a:pt x="319" y="439"/>
                  <a:pt x="319" y="447"/>
                </a:cubicBezTo>
                <a:cubicBezTo>
                  <a:pt x="319" y="458"/>
                  <a:pt x="318" y="470"/>
                  <a:pt x="311" y="478"/>
                </a:cubicBezTo>
                <a:cubicBezTo>
                  <a:pt x="286" y="509"/>
                  <a:pt x="289" y="469"/>
                  <a:pt x="289" y="49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7470720" y="3970440"/>
            <a:ext cx="181080" cy="625320"/>
          </a:xfrm>
          <a:custGeom>
            <a:avLst/>
            <a:gdLst/>
            <a:ahLst/>
            <a:rect l="l" t="t" r="r" b="b"/>
            <a:pathLst>
              <a:path w="114" h="394">
                <a:moveTo>
                  <a:pt x="107" y="394"/>
                </a:moveTo>
                <a:cubicBezTo>
                  <a:pt x="95" y="359"/>
                  <a:pt x="91" y="313"/>
                  <a:pt x="76" y="280"/>
                </a:cubicBezTo>
                <a:cubicBezTo>
                  <a:pt x="65" y="255"/>
                  <a:pt x="46" y="235"/>
                  <a:pt x="31" y="212"/>
                </a:cubicBezTo>
                <a:cubicBezTo>
                  <a:pt x="26" y="205"/>
                  <a:pt x="16" y="190"/>
                  <a:pt x="16" y="190"/>
                </a:cubicBezTo>
                <a:cubicBezTo>
                  <a:pt x="0" y="128"/>
                  <a:pt x="10" y="60"/>
                  <a:pt x="31" y="0"/>
                </a:cubicBezTo>
                <a:cubicBezTo>
                  <a:pt x="83" y="18"/>
                  <a:pt x="65" y="87"/>
                  <a:pt x="76" y="136"/>
                </a:cubicBezTo>
                <a:cubicBezTo>
                  <a:pt x="65" y="187"/>
                  <a:pt x="67" y="265"/>
                  <a:pt x="107" y="303"/>
                </a:cubicBezTo>
                <a:cubicBezTo>
                  <a:pt x="109" y="311"/>
                  <a:pt x="114" y="318"/>
                  <a:pt x="114" y="326"/>
                </a:cubicBezTo>
                <a:cubicBezTo>
                  <a:pt x="114" y="345"/>
                  <a:pt x="92" y="381"/>
                  <a:pt x="107" y="39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6635880" y="3824280"/>
            <a:ext cx="1006200" cy="471600"/>
          </a:xfrm>
          <a:custGeom>
            <a:avLst/>
            <a:gdLst/>
            <a:ahLst/>
            <a:rect l="l" t="t" r="r" b="b"/>
            <a:pathLst>
              <a:path w="634" h="297">
                <a:moveTo>
                  <a:pt x="4" y="259"/>
                </a:moveTo>
                <a:cubicBezTo>
                  <a:pt x="11" y="251"/>
                  <a:pt x="23" y="246"/>
                  <a:pt x="26" y="236"/>
                </a:cubicBezTo>
                <a:cubicBezTo>
                  <a:pt x="53" y="154"/>
                  <a:pt x="6" y="178"/>
                  <a:pt x="57" y="160"/>
                </a:cubicBezTo>
                <a:cubicBezTo>
                  <a:pt x="80" y="137"/>
                  <a:pt x="101" y="125"/>
                  <a:pt x="132" y="115"/>
                </a:cubicBezTo>
                <a:cubicBezTo>
                  <a:pt x="236" y="138"/>
                  <a:pt x="171" y="119"/>
                  <a:pt x="239" y="160"/>
                </a:cubicBezTo>
                <a:cubicBezTo>
                  <a:pt x="246" y="164"/>
                  <a:pt x="254" y="164"/>
                  <a:pt x="261" y="168"/>
                </a:cubicBezTo>
                <a:cubicBezTo>
                  <a:pt x="269" y="172"/>
                  <a:pt x="276" y="178"/>
                  <a:pt x="284" y="183"/>
                </a:cubicBezTo>
                <a:cubicBezTo>
                  <a:pt x="302" y="210"/>
                  <a:pt x="314" y="219"/>
                  <a:pt x="345" y="228"/>
                </a:cubicBezTo>
                <a:cubicBezTo>
                  <a:pt x="351" y="227"/>
                  <a:pt x="391" y="218"/>
                  <a:pt x="398" y="213"/>
                </a:cubicBezTo>
                <a:cubicBezTo>
                  <a:pt x="421" y="196"/>
                  <a:pt x="438" y="173"/>
                  <a:pt x="458" y="153"/>
                </a:cubicBezTo>
                <a:cubicBezTo>
                  <a:pt x="464" y="147"/>
                  <a:pt x="466" y="136"/>
                  <a:pt x="473" y="130"/>
                </a:cubicBezTo>
                <a:cubicBezTo>
                  <a:pt x="479" y="125"/>
                  <a:pt x="489" y="126"/>
                  <a:pt x="496" y="122"/>
                </a:cubicBezTo>
                <a:cubicBezTo>
                  <a:pt x="512" y="113"/>
                  <a:pt x="542" y="92"/>
                  <a:pt x="542" y="92"/>
                </a:cubicBezTo>
                <a:cubicBezTo>
                  <a:pt x="554" y="54"/>
                  <a:pt x="553" y="23"/>
                  <a:pt x="587" y="1"/>
                </a:cubicBezTo>
                <a:cubicBezTo>
                  <a:pt x="600" y="4"/>
                  <a:pt x="616" y="0"/>
                  <a:pt x="625" y="9"/>
                </a:cubicBezTo>
                <a:cubicBezTo>
                  <a:pt x="634" y="18"/>
                  <a:pt x="604" y="44"/>
                  <a:pt x="602" y="47"/>
                </a:cubicBezTo>
                <a:cubicBezTo>
                  <a:pt x="591" y="62"/>
                  <a:pt x="572" y="92"/>
                  <a:pt x="572" y="92"/>
                </a:cubicBezTo>
                <a:cubicBezTo>
                  <a:pt x="558" y="158"/>
                  <a:pt x="494" y="231"/>
                  <a:pt x="428" y="251"/>
                </a:cubicBezTo>
                <a:cubicBezTo>
                  <a:pt x="406" y="266"/>
                  <a:pt x="389" y="282"/>
                  <a:pt x="367" y="297"/>
                </a:cubicBezTo>
                <a:cubicBezTo>
                  <a:pt x="281" y="290"/>
                  <a:pt x="215" y="292"/>
                  <a:pt x="155" y="228"/>
                </a:cubicBezTo>
                <a:cubicBezTo>
                  <a:pt x="140" y="231"/>
                  <a:pt x="124" y="231"/>
                  <a:pt x="110" y="236"/>
                </a:cubicBezTo>
                <a:cubicBezTo>
                  <a:pt x="69" y="250"/>
                  <a:pt x="102" y="250"/>
                  <a:pt x="72" y="274"/>
                </a:cubicBezTo>
                <a:cubicBezTo>
                  <a:pt x="69" y="276"/>
                  <a:pt x="29" y="288"/>
                  <a:pt x="26" y="289"/>
                </a:cubicBezTo>
                <a:cubicBezTo>
                  <a:pt x="0" y="271"/>
                  <a:pt x="4" y="283"/>
                  <a:pt x="4" y="25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4307040" y="4594320"/>
            <a:ext cx="1627200" cy="1135080"/>
          </a:xfrm>
          <a:custGeom>
            <a:avLst/>
            <a:gdLst/>
            <a:ahLst/>
            <a:rect l="l" t="t" r="r" b="b"/>
            <a:pathLst>
              <a:path w="1025" h="715">
                <a:moveTo>
                  <a:pt x="53" y="47"/>
                </a:moveTo>
                <a:cubicBezTo>
                  <a:pt x="91" y="37"/>
                  <a:pt x="121" y="18"/>
                  <a:pt x="159" y="9"/>
                </a:cubicBezTo>
                <a:cubicBezTo>
                  <a:pt x="169" y="11"/>
                  <a:pt x="187" y="6"/>
                  <a:pt x="190" y="16"/>
                </a:cubicBezTo>
                <a:cubicBezTo>
                  <a:pt x="206" y="80"/>
                  <a:pt x="165" y="150"/>
                  <a:pt x="114" y="183"/>
                </a:cubicBezTo>
                <a:cubicBezTo>
                  <a:pt x="113" y="186"/>
                  <a:pt x="99" y="225"/>
                  <a:pt x="99" y="229"/>
                </a:cubicBezTo>
                <a:cubicBezTo>
                  <a:pt x="99" y="335"/>
                  <a:pt x="174" y="314"/>
                  <a:pt x="266" y="319"/>
                </a:cubicBezTo>
                <a:cubicBezTo>
                  <a:pt x="293" y="329"/>
                  <a:pt x="315" y="344"/>
                  <a:pt x="341" y="357"/>
                </a:cubicBezTo>
                <a:cubicBezTo>
                  <a:pt x="360" y="377"/>
                  <a:pt x="377" y="379"/>
                  <a:pt x="402" y="388"/>
                </a:cubicBezTo>
                <a:cubicBezTo>
                  <a:pt x="440" y="424"/>
                  <a:pt x="472" y="432"/>
                  <a:pt x="523" y="441"/>
                </a:cubicBezTo>
                <a:cubicBezTo>
                  <a:pt x="554" y="461"/>
                  <a:pt x="584" y="474"/>
                  <a:pt x="614" y="494"/>
                </a:cubicBezTo>
                <a:cubicBezTo>
                  <a:pt x="668" y="475"/>
                  <a:pt x="604" y="499"/>
                  <a:pt x="660" y="471"/>
                </a:cubicBezTo>
                <a:cubicBezTo>
                  <a:pt x="687" y="457"/>
                  <a:pt x="722" y="450"/>
                  <a:pt x="751" y="441"/>
                </a:cubicBezTo>
                <a:cubicBezTo>
                  <a:pt x="806" y="443"/>
                  <a:pt x="864" y="433"/>
                  <a:pt x="917" y="448"/>
                </a:cubicBezTo>
                <a:cubicBezTo>
                  <a:pt x="941" y="455"/>
                  <a:pt x="952" y="483"/>
                  <a:pt x="970" y="501"/>
                </a:cubicBezTo>
                <a:cubicBezTo>
                  <a:pt x="975" y="506"/>
                  <a:pt x="986" y="517"/>
                  <a:pt x="986" y="517"/>
                </a:cubicBezTo>
                <a:cubicBezTo>
                  <a:pt x="991" y="533"/>
                  <a:pt x="1006" y="545"/>
                  <a:pt x="1008" y="562"/>
                </a:cubicBezTo>
                <a:cubicBezTo>
                  <a:pt x="1010" y="577"/>
                  <a:pt x="1003" y="592"/>
                  <a:pt x="1001" y="607"/>
                </a:cubicBezTo>
                <a:cubicBezTo>
                  <a:pt x="990" y="715"/>
                  <a:pt x="1025" y="695"/>
                  <a:pt x="970" y="714"/>
                </a:cubicBezTo>
                <a:cubicBezTo>
                  <a:pt x="915" y="694"/>
                  <a:pt x="944" y="680"/>
                  <a:pt x="917" y="645"/>
                </a:cubicBezTo>
                <a:cubicBezTo>
                  <a:pt x="907" y="632"/>
                  <a:pt x="889" y="628"/>
                  <a:pt x="879" y="615"/>
                </a:cubicBezTo>
                <a:cubicBezTo>
                  <a:pt x="851" y="581"/>
                  <a:pt x="839" y="557"/>
                  <a:pt x="796" y="547"/>
                </a:cubicBezTo>
                <a:cubicBezTo>
                  <a:pt x="711" y="557"/>
                  <a:pt x="730" y="559"/>
                  <a:pt x="667" y="600"/>
                </a:cubicBezTo>
                <a:cubicBezTo>
                  <a:pt x="638" y="644"/>
                  <a:pt x="617" y="629"/>
                  <a:pt x="561" y="623"/>
                </a:cubicBezTo>
                <a:cubicBezTo>
                  <a:pt x="522" y="581"/>
                  <a:pt x="508" y="565"/>
                  <a:pt x="455" y="539"/>
                </a:cubicBezTo>
                <a:cubicBezTo>
                  <a:pt x="447" y="535"/>
                  <a:pt x="441" y="526"/>
                  <a:pt x="432" y="524"/>
                </a:cubicBezTo>
                <a:cubicBezTo>
                  <a:pt x="397" y="518"/>
                  <a:pt x="361" y="519"/>
                  <a:pt x="326" y="517"/>
                </a:cubicBezTo>
                <a:cubicBezTo>
                  <a:pt x="273" y="498"/>
                  <a:pt x="296" y="506"/>
                  <a:pt x="258" y="494"/>
                </a:cubicBezTo>
                <a:cubicBezTo>
                  <a:pt x="236" y="479"/>
                  <a:pt x="219" y="463"/>
                  <a:pt x="197" y="448"/>
                </a:cubicBezTo>
                <a:cubicBezTo>
                  <a:pt x="182" y="400"/>
                  <a:pt x="152" y="429"/>
                  <a:pt x="114" y="410"/>
                </a:cubicBezTo>
                <a:cubicBezTo>
                  <a:pt x="82" y="394"/>
                  <a:pt x="58" y="364"/>
                  <a:pt x="38" y="335"/>
                </a:cubicBezTo>
                <a:cubicBezTo>
                  <a:pt x="28" y="302"/>
                  <a:pt x="12" y="276"/>
                  <a:pt x="0" y="244"/>
                </a:cubicBezTo>
                <a:cubicBezTo>
                  <a:pt x="6" y="215"/>
                  <a:pt x="13" y="188"/>
                  <a:pt x="23" y="160"/>
                </a:cubicBezTo>
                <a:cubicBezTo>
                  <a:pt x="26" y="135"/>
                  <a:pt x="23" y="109"/>
                  <a:pt x="31" y="85"/>
                </a:cubicBezTo>
                <a:cubicBezTo>
                  <a:pt x="59" y="0"/>
                  <a:pt x="53" y="130"/>
                  <a:pt x="53" y="4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5546880" y="3855960"/>
            <a:ext cx="344160" cy="992160"/>
          </a:xfrm>
          <a:custGeom>
            <a:avLst/>
            <a:gdLst/>
            <a:ahLst/>
            <a:rect l="l" t="t" r="r" b="b"/>
            <a:pathLst>
              <a:path w="217" h="625">
                <a:moveTo>
                  <a:pt x="76" y="587"/>
                </a:moveTo>
                <a:cubicBezTo>
                  <a:pt x="65" y="537"/>
                  <a:pt x="61" y="486"/>
                  <a:pt x="53" y="436"/>
                </a:cubicBezTo>
                <a:cubicBezTo>
                  <a:pt x="50" y="358"/>
                  <a:pt x="50" y="279"/>
                  <a:pt x="45" y="201"/>
                </a:cubicBezTo>
                <a:cubicBezTo>
                  <a:pt x="43" y="162"/>
                  <a:pt x="11" y="124"/>
                  <a:pt x="0" y="87"/>
                </a:cubicBezTo>
                <a:cubicBezTo>
                  <a:pt x="7" y="42"/>
                  <a:pt x="16" y="18"/>
                  <a:pt x="61" y="4"/>
                </a:cubicBezTo>
                <a:cubicBezTo>
                  <a:pt x="113" y="21"/>
                  <a:pt x="70" y="0"/>
                  <a:pt x="91" y="95"/>
                </a:cubicBezTo>
                <a:cubicBezTo>
                  <a:pt x="93" y="104"/>
                  <a:pt x="102" y="110"/>
                  <a:pt x="106" y="118"/>
                </a:cubicBezTo>
                <a:cubicBezTo>
                  <a:pt x="118" y="142"/>
                  <a:pt x="119" y="190"/>
                  <a:pt x="136" y="208"/>
                </a:cubicBezTo>
                <a:cubicBezTo>
                  <a:pt x="157" y="231"/>
                  <a:pt x="147" y="218"/>
                  <a:pt x="167" y="246"/>
                </a:cubicBezTo>
                <a:cubicBezTo>
                  <a:pt x="175" y="271"/>
                  <a:pt x="181" y="297"/>
                  <a:pt x="189" y="322"/>
                </a:cubicBezTo>
                <a:cubicBezTo>
                  <a:pt x="182" y="572"/>
                  <a:pt x="217" y="506"/>
                  <a:pt x="136" y="625"/>
                </a:cubicBezTo>
                <a:cubicBezTo>
                  <a:pt x="110" y="619"/>
                  <a:pt x="76" y="619"/>
                  <a:pt x="76" y="58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6603840" y="3340080"/>
            <a:ext cx="903600" cy="622440"/>
          </a:xfrm>
          <a:custGeom>
            <a:avLst/>
            <a:gdLst/>
            <a:ahLst/>
            <a:rect l="l" t="t" r="r" b="b"/>
            <a:pathLst>
              <a:path w="569" h="392">
                <a:moveTo>
                  <a:pt x="8" y="94"/>
                </a:moveTo>
                <a:cubicBezTo>
                  <a:pt x="11" y="66"/>
                  <a:pt x="0" y="34"/>
                  <a:pt x="16" y="11"/>
                </a:cubicBezTo>
                <a:cubicBezTo>
                  <a:pt x="24" y="0"/>
                  <a:pt x="42" y="20"/>
                  <a:pt x="54" y="26"/>
                </a:cubicBezTo>
                <a:cubicBezTo>
                  <a:pt x="106" y="51"/>
                  <a:pt x="124" y="123"/>
                  <a:pt x="175" y="139"/>
                </a:cubicBezTo>
                <a:cubicBezTo>
                  <a:pt x="205" y="132"/>
                  <a:pt x="225" y="126"/>
                  <a:pt x="251" y="109"/>
                </a:cubicBezTo>
                <a:cubicBezTo>
                  <a:pt x="269" y="81"/>
                  <a:pt x="285" y="82"/>
                  <a:pt x="312" y="64"/>
                </a:cubicBezTo>
                <a:cubicBezTo>
                  <a:pt x="356" y="108"/>
                  <a:pt x="329" y="145"/>
                  <a:pt x="357" y="192"/>
                </a:cubicBezTo>
                <a:cubicBezTo>
                  <a:pt x="370" y="213"/>
                  <a:pt x="460" y="275"/>
                  <a:pt x="486" y="283"/>
                </a:cubicBezTo>
                <a:cubicBezTo>
                  <a:pt x="507" y="306"/>
                  <a:pt x="493" y="296"/>
                  <a:pt x="524" y="306"/>
                </a:cubicBezTo>
                <a:cubicBezTo>
                  <a:pt x="539" y="311"/>
                  <a:pt x="569" y="321"/>
                  <a:pt x="569" y="321"/>
                </a:cubicBezTo>
                <a:cubicBezTo>
                  <a:pt x="556" y="392"/>
                  <a:pt x="545" y="375"/>
                  <a:pt x="471" y="367"/>
                </a:cubicBezTo>
                <a:cubicBezTo>
                  <a:pt x="456" y="357"/>
                  <a:pt x="438" y="349"/>
                  <a:pt x="425" y="336"/>
                </a:cubicBezTo>
                <a:cubicBezTo>
                  <a:pt x="418" y="329"/>
                  <a:pt x="412" y="318"/>
                  <a:pt x="403" y="314"/>
                </a:cubicBezTo>
                <a:cubicBezTo>
                  <a:pt x="381" y="304"/>
                  <a:pt x="357" y="306"/>
                  <a:pt x="334" y="299"/>
                </a:cubicBezTo>
                <a:cubicBezTo>
                  <a:pt x="310" y="274"/>
                  <a:pt x="296" y="249"/>
                  <a:pt x="266" y="230"/>
                </a:cubicBezTo>
                <a:cubicBezTo>
                  <a:pt x="241" y="151"/>
                  <a:pt x="144" y="173"/>
                  <a:pt x="77" y="170"/>
                </a:cubicBezTo>
                <a:cubicBezTo>
                  <a:pt x="58" y="152"/>
                  <a:pt x="38" y="138"/>
                  <a:pt x="16" y="124"/>
                </a:cubicBezTo>
                <a:cubicBezTo>
                  <a:pt x="7" y="99"/>
                  <a:pt x="8" y="109"/>
                  <a:pt x="8" y="9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6400800" y="3476520"/>
            <a:ext cx="771480" cy="530280"/>
          </a:xfrm>
          <a:custGeom>
            <a:avLst/>
            <a:gdLst/>
            <a:ahLst/>
            <a:rect l="l" t="t" r="r" b="b"/>
            <a:pathLst>
              <a:path w="486" h="334">
                <a:moveTo>
                  <a:pt x="83" y="159"/>
                </a:moveTo>
                <a:cubicBezTo>
                  <a:pt x="55" y="140"/>
                  <a:pt x="34" y="112"/>
                  <a:pt x="15" y="84"/>
                </a:cubicBezTo>
                <a:cubicBezTo>
                  <a:pt x="0" y="35"/>
                  <a:pt x="16" y="16"/>
                  <a:pt x="61" y="0"/>
                </a:cubicBezTo>
                <a:cubicBezTo>
                  <a:pt x="85" y="16"/>
                  <a:pt x="98" y="29"/>
                  <a:pt x="114" y="53"/>
                </a:cubicBezTo>
                <a:cubicBezTo>
                  <a:pt x="122" y="98"/>
                  <a:pt x="126" y="129"/>
                  <a:pt x="174" y="144"/>
                </a:cubicBezTo>
                <a:cubicBezTo>
                  <a:pt x="210" y="168"/>
                  <a:pt x="255" y="169"/>
                  <a:pt x="296" y="182"/>
                </a:cubicBezTo>
                <a:cubicBezTo>
                  <a:pt x="347" y="234"/>
                  <a:pt x="320" y="222"/>
                  <a:pt x="364" y="235"/>
                </a:cubicBezTo>
                <a:cubicBezTo>
                  <a:pt x="397" y="225"/>
                  <a:pt x="430" y="217"/>
                  <a:pt x="462" y="205"/>
                </a:cubicBezTo>
                <a:cubicBezTo>
                  <a:pt x="470" y="208"/>
                  <a:pt x="486" y="205"/>
                  <a:pt x="485" y="213"/>
                </a:cubicBezTo>
                <a:cubicBezTo>
                  <a:pt x="479" y="258"/>
                  <a:pt x="455" y="252"/>
                  <a:pt x="432" y="273"/>
                </a:cubicBezTo>
                <a:cubicBezTo>
                  <a:pt x="411" y="292"/>
                  <a:pt x="392" y="314"/>
                  <a:pt x="371" y="334"/>
                </a:cubicBezTo>
                <a:cubicBezTo>
                  <a:pt x="353" y="331"/>
                  <a:pt x="335" y="331"/>
                  <a:pt x="318" y="326"/>
                </a:cubicBezTo>
                <a:cubicBezTo>
                  <a:pt x="302" y="321"/>
                  <a:pt x="293" y="305"/>
                  <a:pt x="280" y="296"/>
                </a:cubicBezTo>
                <a:cubicBezTo>
                  <a:pt x="245" y="270"/>
                  <a:pt x="210" y="243"/>
                  <a:pt x="174" y="220"/>
                </a:cubicBezTo>
                <a:cubicBezTo>
                  <a:pt x="151" y="205"/>
                  <a:pt x="122" y="205"/>
                  <a:pt x="99" y="190"/>
                </a:cubicBezTo>
                <a:cubicBezTo>
                  <a:pt x="88" y="183"/>
                  <a:pt x="49" y="159"/>
                  <a:pt x="83" y="15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2" action="ppaction://hlinksldjump"/>
          </p:cNvPr>
          <p:cNvSpPr/>
          <p:nvPr/>
        </p:nvSpPr>
        <p:spPr>
          <a:xfrm>
            <a:off x="4984920" y="3933720"/>
            <a:ext cx="776160" cy="1360440"/>
          </a:xfrm>
          <a:custGeom>
            <a:avLst/>
            <a:gdLst/>
            <a:ahLst/>
            <a:rect l="l" t="t" r="r" b="b"/>
            <a:pathLst>
              <a:path w="489" h="857">
                <a:moveTo>
                  <a:pt x="73" y="99"/>
                </a:moveTo>
                <a:cubicBezTo>
                  <a:pt x="66" y="96"/>
                  <a:pt x="57" y="96"/>
                  <a:pt x="51" y="91"/>
                </a:cubicBezTo>
                <a:cubicBezTo>
                  <a:pt x="0" y="50"/>
                  <a:pt x="88" y="15"/>
                  <a:pt x="119" y="0"/>
                </a:cubicBezTo>
                <a:cubicBezTo>
                  <a:pt x="137" y="3"/>
                  <a:pt x="155" y="3"/>
                  <a:pt x="172" y="8"/>
                </a:cubicBezTo>
                <a:cubicBezTo>
                  <a:pt x="203" y="17"/>
                  <a:pt x="190" y="26"/>
                  <a:pt x="210" y="46"/>
                </a:cubicBezTo>
                <a:cubicBezTo>
                  <a:pt x="229" y="65"/>
                  <a:pt x="255" y="84"/>
                  <a:pt x="278" y="99"/>
                </a:cubicBezTo>
                <a:cubicBezTo>
                  <a:pt x="297" y="154"/>
                  <a:pt x="294" y="211"/>
                  <a:pt x="316" y="266"/>
                </a:cubicBezTo>
                <a:cubicBezTo>
                  <a:pt x="323" y="336"/>
                  <a:pt x="338" y="369"/>
                  <a:pt x="354" y="432"/>
                </a:cubicBezTo>
                <a:cubicBezTo>
                  <a:pt x="357" y="444"/>
                  <a:pt x="356" y="458"/>
                  <a:pt x="361" y="470"/>
                </a:cubicBezTo>
                <a:cubicBezTo>
                  <a:pt x="369" y="487"/>
                  <a:pt x="392" y="516"/>
                  <a:pt x="392" y="516"/>
                </a:cubicBezTo>
                <a:cubicBezTo>
                  <a:pt x="409" y="567"/>
                  <a:pt x="423" y="605"/>
                  <a:pt x="460" y="645"/>
                </a:cubicBezTo>
                <a:cubicBezTo>
                  <a:pt x="489" y="726"/>
                  <a:pt x="479" y="800"/>
                  <a:pt x="422" y="857"/>
                </a:cubicBezTo>
                <a:cubicBezTo>
                  <a:pt x="387" y="848"/>
                  <a:pt x="372" y="841"/>
                  <a:pt x="384" y="804"/>
                </a:cubicBezTo>
                <a:cubicBezTo>
                  <a:pt x="378" y="696"/>
                  <a:pt x="386" y="561"/>
                  <a:pt x="286" y="493"/>
                </a:cubicBezTo>
                <a:cubicBezTo>
                  <a:pt x="257" y="408"/>
                  <a:pt x="295" y="526"/>
                  <a:pt x="271" y="296"/>
                </a:cubicBezTo>
                <a:cubicBezTo>
                  <a:pt x="269" y="272"/>
                  <a:pt x="256" y="251"/>
                  <a:pt x="248" y="228"/>
                </a:cubicBezTo>
                <a:cubicBezTo>
                  <a:pt x="245" y="220"/>
                  <a:pt x="240" y="205"/>
                  <a:pt x="240" y="205"/>
                </a:cubicBezTo>
                <a:cubicBezTo>
                  <a:pt x="230" y="133"/>
                  <a:pt x="238" y="149"/>
                  <a:pt x="172" y="137"/>
                </a:cubicBezTo>
                <a:cubicBezTo>
                  <a:pt x="127" y="107"/>
                  <a:pt x="133" y="99"/>
                  <a:pt x="73" y="9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4929120" y="4195800"/>
            <a:ext cx="412920" cy="736560"/>
          </a:xfrm>
          <a:custGeom>
            <a:avLst/>
            <a:gdLst/>
            <a:ahLst/>
            <a:rect l="l" t="t" r="r" b="b"/>
            <a:pathLst>
              <a:path w="260" h="464">
                <a:moveTo>
                  <a:pt x="245" y="464"/>
                </a:moveTo>
                <a:cubicBezTo>
                  <a:pt x="223" y="461"/>
                  <a:pt x="186" y="464"/>
                  <a:pt x="169" y="442"/>
                </a:cubicBezTo>
                <a:cubicBezTo>
                  <a:pt x="154" y="423"/>
                  <a:pt x="154" y="396"/>
                  <a:pt x="146" y="373"/>
                </a:cubicBezTo>
                <a:cubicBezTo>
                  <a:pt x="140" y="354"/>
                  <a:pt x="119" y="344"/>
                  <a:pt x="108" y="328"/>
                </a:cubicBezTo>
                <a:cubicBezTo>
                  <a:pt x="100" y="295"/>
                  <a:pt x="86" y="253"/>
                  <a:pt x="63" y="229"/>
                </a:cubicBezTo>
                <a:cubicBezTo>
                  <a:pt x="43" y="175"/>
                  <a:pt x="71" y="243"/>
                  <a:pt x="33" y="184"/>
                </a:cubicBezTo>
                <a:cubicBezTo>
                  <a:pt x="21" y="166"/>
                  <a:pt x="17" y="136"/>
                  <a:pt x="10" y="116"/>
                </a:cubicBezTo>
                <a:cubicBezTo>
                  <a:pt x="19" y="0"/>
                  <a:pt x="0" y="5"/>
                  <a:pt x="101" y="17"/>
                </a:cubicBezTo>
                <a:cubicBezTo>
                  <a:pt x="96" y="65"/>
                  <a:pt x="93" y="102"/>
                  <a:pt x="78" y="146"/>
                </a:cubicBezTo>
                <a:cubicBezTo>
                  <a:pt x="86" y="186"/>
                  <a:pt x="93" y="238"/>
                  <a:pt x="124" y="267"/>
                </a:cubicBezTo>
                <a:cubicBezTo>
                  <a:pt x="133" y="297"/>
                  <a:pt x="138" y="310"/>
                  <a:pt x="169" y="320"/>
                </a:cubicBezTo>
                <a:cubicBezTo>
                  <a:pt x="181" y="333"/>
                  <a:pt x="197" y="343"/>
                  <a:pt x="207" y="358"/>
                </a:cubicBezTo>
                <a:cubicBezTo>
                  <a:pt x="255" y="427"/>
                  <a:pt x="176" y="335"/>
                  <a:pt x="222" y="404"/>
                </a:cubicBezTo>
                <a:cubicBezTo>
                  <a:pt x="232" y="419"/>
                  <a:pt x="260" y="424"/>
                  <a:pt x="260" y="442"/>
                </a:cubicBezTo>
                <a:cubicBezTo>
                  <a:pt x="260" y="451"/>
                  <a:pt x="250" y="457"/>
                  <a:pt x="245" y="4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4" action="ppaction://hlinksldjump"/>
          </p:cNvPr>
          <p:cNvSpPr/>
          <p:nvPr/>
        </p:nvSpPr>
        <p:spPr>
          <a:xfrm>
            <a:off x="4206960" y="4246560"/>
            <a:ext cx="1195200" cy="763560"/>
          </a:xfrm>
          <a:custGeom>
            <a:avLst/>
            <a:gdLst/>
            <a:ahLst/>
            <a:rect l="l" t="t" r="r" b="b"/>
            <a:pathLst>
              <a:path w="753" h="481">
                <a:moveTo>
                  <a:pt x="753" y="455"/>
                </a:moveTo>
                <a:cubicBezTo>
                  <a:pt x="745" y="453"/>
                  <a:pt x="737" y="452"/>
                  <a:pt x="730" y="448"/>
                </a:cubicBezTo>
                <a:cubicBezTo>
                  <a:pt x="722" y="444"/>
                  <a:pt x="716" y="435"/>
                  <a:pt x="707" y="432"/>
                </a:cubicBezTo>
                <a:cubicBezTo>
                  <a:pt x="683" y="423"/>
                  <a:pt x="657" y="422"/>
                  <a:pt x="632" y="417"/>
                </a:cubicBezTo>
                <a:cubicBezTo>
                  <a:pt x="588" y="388"/>
                  <a:pt x="627" y="418"/>
                  <a:pt x="594" y="379"/>
                </a:cubicBezTo>
                <a:cubicBezTo>
                  <a:pt x="566" y="346"/>
                  <a:pt x="528" y="316"/>
                  <a:pt x="495" y="288"/>
                </a:cubicBezTo>
                <a:cubicBezTo>
                  <a:pt x="446" y="247"/>
                  <a:pt x="388" y="214"/>
                  <a:pt x="351" y="160"/>
                </a:cubicBezTo>
                <a:cubicBezTo>
                  <a:pt x="339" y="122"/>
                  <a:pt x="326" y="84"/>
                  <a:pt x="313" y="46"/>
                </a:cubicBezTo>
                <a:cubicBezTo>
                  <a:pt x="310" y="38"/>
                  <a:pt x="298" y="36"/>
                  <a:pt x="291" y="31"/>
                </a:cubicBezTo>
                <a:cubicBezTo>
                  <a:pt x="285" y="26"/>
                  <a:pt x="282" y="19"/>
                  <a:pt x="275" y="16"/>
                </a:cubicBezTo>
                <a:cubicBezTo>
                  <a:pt x="261" y="9"/>
                  <a:pt x="230" y="0"/>
                  <a:pt x="230" y="0"/>
                </a:cubicBezTo>
                <a:cubicBezTo>
                  <a:pt x="207" y="3"/>
                  <a:pt x="184" y="1"/>
                  <a:pt x="162" y="8"/>
                </a:cubicBezTo>
                <a:cubicBezTo>
                  <a:pt x="145" y="14"/>
                  <a:pt x="116" y="38"/>
                  <a:pt x="116" y="38"/>
                </a:cubicBezTo>
                <a:cubicBezTo>
                  <a:pt x="95" y="70"/>
                  <a:pt x="63" y="88"/>
                  <a:pt x="41" y="122"/>
                </a:cubicBezTo>
                <a:cubicBezTo>
                  <a:pt x="31" y="161"/>
                  <a:pt x="0" y="218"/>
                  <a:pt x="56" y="235"/>
                </a:cubicBezTo>
                <a:cubicBezTo>
                  <a:pt x="148" y="228"/>
                  <a:pt x="162" y="227"/>
                  <a:pt x="230" y="182"/>
                </a:cubicBezTo>
                <a:cubicBezTo>
                  <a:pt x="253" y="148"/>
                  <a:pt x="261" y="149"/>
                  <a:pt x="298" y="167"/>
                </a:cubicBezTo>
                <a:cubicBezTo>
                  <a:pt x="312" y="188"/>
                  <a:pt x="315" y="214"/>
                  <a:pt x="329" y="235"/>
                </a:cubicBezTo>
                <a:cubicBezTo>
                  <a:pt x="344" y="258"/>
                  <a:pt x="365" y="278"/>
                  <a:pt x="374" y="304"/>
                </a:cubicBezTo>
                <a:cubicBezTo>
                  <a:pt x="377" y="311"/>
                  <a:pt x="377" y="320"/>
                  <a:pt x="382" y="326"/>
                </a:cubicBezTo>
                <a:cubicBezTo>
                  <a:pt x="398" y="345"/>
                  <a:pt x="408" y="338"/>
                  <a:pt x="427" y="349"/>
                </a:cubicBezTo>
                <a:cubicBezTo>
                  <a:pt x="443" y="358"/>
                  <a:pt x="458" y="369"/>
                  <a:pt x="473" y="379"/>
                </a:cubicBezTo>
                <a:cubicBezTo>
                  <a:pt x="502" y="398"/>
                  <a:pt x="560" y="410"/>
                  <a:pt x="594" y="425"/>
                </a:cubicBezTo>
                <a:cubicBezTo>
                  <a:pt x="672" y="459"/>
                  <a:pt x="578" y="418"/>
                  <a:pt x="647" y="463"/>
                </a:cubicBezTo>
                <a:cubicBezTo>
                  <a:pt x="660" y="472"/>
                  <a:pt x="677" y="473"/>
                  <a:pt x="692" y="478"/>
                </a:cubicBezTo>
                <a:cubicBezTo>
                  <a:pt x="745" y="469"/>
                  <a:pt x="727" y="481"/>
                  <a:pt x="753" y="45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5" action="ppaction://hlinksldjump"/>
          </p:cNvPr>
          <p:cNvSpPr/>
          <p:nvPr/>
        </p:nvSpPr>
        <p:spPr>
          <a:xfrm>
            <a:off x="3513240" y="3427560"/>
            <a:ext cx="1547640" cy="771480"/>
          </a:xfrm>
          <a:custGeom>
            <a:avLst/>
            <a:gdLst/>
            <a:ahLst/>
            <a:rect l="l" t="t" r="r" b="b"/>
            <a:pathLst>
              <a:path w="975" h="486">
                <a:moveTo>
                  <a:pt x="925" y="342"/>
                </a:moveTo>
                <a:cubicBezTo>
                  <a:pt x="876" y="374"/>
                  <a:pt x="919" y="401"/>
                  <a:pt x="872" y="433"/>
                </a:cubicBezTo>
                <a:cubicBezTo>
                  <a:pt x="847" y="424"/>
                  <a:pt x="817" y="410"/>
                  <a:pt x="796" y="395"/>
                </a:cubicBezTo>
                <a:cubicBezTo>
                  <a:pt x="748" y="360"/>
                  <a:pt x="798" y="380"/>
                  <a:pt x="750" y="365"/>
                </a:cubicBezTo>
                <a:cubicBezTo>
                  <a:pt x="725" y="346"/>
                  <a:pt x="699" y="338"/>
                  <a:pt x="675" y="319"/>
                </a:cubicBezTo>
                <a:cubicBezTo>
                  <a:pt x="661" y="308"/>
                  <a:pt x="652" y="291"/>
                  <a:pt x="637" y="281"/>
                </a:cubicBezTo>
                <a:cubicBezTo>
                  <a:pt x="609" y="262"/>
                  <a:pt x="567" y="267"/>
                  <a:pt x="538" y="251"/>
                </a:cubicBezTo>
                <a:cubicBezTo>
                  <a:pt x="499" y="229"/>
                  <a:pt x="467" y="179"/>
                  <a:pt x="432" y="168"/>
                </a:cubicBezTo>
                <a:cubicBezTo>
                  <a:pt x="424" y="160"/>
                  <a:pt x="418" y="151"/>
                  <a:pt x="409" y="145"/>
                </a:cubicBezTo>
                <a:cubicBezTo>
                  <a:pt x="403" y="141"/>
                  <a:pt x="393" y="142"/>
                  <a:pt x="387" y="137"/>
                </a:cubicBezTo>
                <a:cubicBezTo>
                  <a:pt x="357" y="114"/>
                  <a:pt x="339" y="70"/>
                  <a:pt x="311" y="46"/>
                </a:cubicBezTo>
                <a:cubicBezTo>
                  <a:pt x="297" y="34"/>
                  <a:pt x="280" y="26"/>
                  <a:pt x="265" y="16"/>
                </a:cubicBezTo>
                <a:cubicBezTo>
                  <a:pt x="258" y="11"/>
                  <a:pt x="243" y="1"/>
                  <a:pt x="243" y="1"/>
                </a:cubicBezTo>
                <a:cubicBezTo>
                  <a:pt x="170" y="4"/>
                  <a:pt x="96" y="0"/>
                  <a:pt x="23" y="9"/>
                </a:cubicBezTo>
                <a:cubicBezTo>
                  <a:pt x="0" y="12"/>
                  <a:pt x="8" y="46"/>
                  <a:pt x="15" y="54"/>
                </a:cubicBezTo>
                <a:cubicBezTo>
                  <a:pt x="37" y="82"/>
                  <a:pt x="103" y="75"/>
                  <a:pt x="121" y="77"/>
                </a:cubicBezTo>
                <a:cubicBezTo>
                  <a:pt x="173" y="93"/>
                  <a:pt x="194" y="94"/>
                  <a:pt x="258" y="100"/>
                </a:cubicBezTo>
                <a:cubicBezTo>
                  <a:pt x="276" y="124"/>
                  <a:pt x="295" y="143"/>
                  <a:pt x="311" y="168"/>
                </a:cubicBezTo>
                <a:cubicBezTo>
                  <a:pt x="329" y="224"/>
                  <a:pt x="403" y="250"/>
                  <a:pt x="455" y="266"/>
                </a:cubicBezTo>
                <a:cubicBezTo>
                  <a:pt x="514" y="325"/>
                  <a:pt x="590" y="348"/>
                  <a:pt x="667" y="372"/>
                </a:cubicBezTo>
                <a:cubicBezTo>
                  <a:pt x="730" y="415"/>
                  <a:pt x="745" y="437"/>
                  <a:pt x="826" y="448"/>
                </a:cubicBezTo>
                <a:cubicBezTo>
                  <a:pt x="879" y="482"/>
                  <a:pt x="855" y="472"/>
                  <a:pt x="894" y="486"/>
                </a:cubicBezTo>
                <a:cubicBezTo>
                  <a:pt x="965" y="475"/>
                  <a:pt x="975" y="464"/>
                  <a:pt x="947" y="372"/>
                </a:cubicBezTo>
                <a:cubicBezTo>
                  <a:pt x="921" y="286"/>
                  <a:pt x="925" y="404"/>
                  <a:pt x="925" y="34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6" action="ppaction://hlinksldjump"/>
          </p:cNvPr>
          <p:cNvSpPr/>
          <p:nvPr/>
        </p:nvSpPr>
        <p:spPr>
          <a:xfrm>
            <a:off x="3786120" y="3693960"/>
            <a:ext cx="196920" cy="528840"/>
          </a:xfrm>
          <a:custGeom>
            <a:avLst/>
            <a:gdLst/>
            <a:ahLst/>
            <a:rect l="l" t="t" r="r" b="b"/>
            <a:pathLst>
              <a:path w="124" h="333">
                <a:moveTo>
                  <a:pt x="101" y="0"/>
                </a:moveTo>
                <a:cubicBezTo>
                  <a:pt x="87" y="14"/>
                  <a:pt x="68" y="23"/>
                  <a:pt x="55" y="38"/>
                </a:cubicBezTo>
                <a:cubicBezTo>
                  <a:pt x="42" y="54"/>
                  <a:pt x="36" y="74"/>
                  <a:pt x="25" y="91"/>
                </a:cubicBezTo>
                <a:cubicBezTo>
                  <a:pt x="10" y="172"/>
                  <a:pt x="0" y="252"/>
                  <a:pt x="25" y="333"/>
                </a:cubicBezTo>
                <a:cubicBezTo>
                  <a:pt x="67" y="320"/>
                  <a:pt x="54" y="298"/>
                  <a:pt x="48" y="257"/>
                </a:cubicBezTo>
                <a:cubicBezTo>
                  <a:pt x="49" y="252"/>
                  <a:pt x="56" y="206"/>
                  <a:pt x="63" y="197"/>
                </a:cubicBezTo>
                <a:cubicBezTo>
                  <a:pt x="73" y="184"/>
                  <a:pt x="90" y="178"/>
                  <a:pt x="101" y="166"/>
                </a:cubicBezTo>
                <a:cubicBezTo>
                  <a:pt x="117" y="75"/>
                  <a:pt x="107" y="110"/>
                  <a:pt x="124" y="60"/>
                </a:cubicBezTo>
                <a:cubicBezTo>
                  <a:pt x="106" y="10"/>
                  <a:pt x="115" y="29"/>
                  <a:pt x="101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7" action="ppaction://hlinksldjump"/>
          </p:cNvPr>
          <p:cNvSpPr/>
          <p:nvPr/>
        </p:nvSpPr>
        <p:spPr>
          <a:xfrm>
            <a:off x="3300480" y="4186080"/>
            <a:ext cx="514440" cy="1127160"/>
          </a:xfrm>
          <a:custGeom>
            <a:avLst/>
            <a:gdLst/>
            <a:ahLst/>
            <a:rect l="l" t="t" r="r" b="b"/>
            <a:pathLst>
              <a:path w="324" h="710">
                <a:moveTo>
                  <a:pt x="286" y="705"/>
                </a:moveTo>
                <a:cubicBezTo>
                  <a:pt x="283" y="677"/>
                  <a:pt x="284" y="649"/>
                  <a:pt x="278" y="622"/>
                </a:cubicBezTo>
                <a:cubicBezTo>
                  <a:pt x="276" y="613"/>
                  <a:pt x="267" y="607"/>
                  <a:pt x="263" y="599"/>
                </a:cubicBezTo>
                <a:cubicBezTo>
                  <a:pt x="257" y="585"/>
                  <a:pt x="253" y="569"/>
                  <a:pt x="248" y="554"/>
                </a:cubicBezTo>
                <a:cubicBezTo>
                  <a:pt x="245" y="546"/>
                  <a:pt x="240" y="531"/>
                  <a:pt x="240" y="531"/>
                </a:cubicBezTo>
                <a:cubicBezTo>
                  <a:pt x="235" y="460"/>
                  <a:pt x="247" y="438"/>
                  <a:pt x="202" y="395"/>
                </a:cubicBezTo>
                <a:cubicBezTo>
                  <a:pt x="197" y="379"/>
                  <a:pt x="181" y="366"/>
                  <a:pt x="180" y="349"/>
                </a:cubicBezTo>
                <a:cubicBezTo>
                  <a:pt x="158" y="94"/>
                  <a:pt x="250" y="134"/>
                  <a:pt x="149" y="99"/>
                </a:cubicBezTo>
                <a:cubicBezTo>
                  <a:pt x="107" y="114"/>
                  <a:pt x="100" y="127"/>
                  <a:pt x="73" y="167"/>
                </a:cubicBezTo>
                <a:cubicBezTo>
                  <a:pt x="68" y="175"/>
                  <a:pt x="58" y="190"/>
                  <a:pt x="58" y="190"/>
                </a:cubicBezTo>
                <a:cubicBezTo>
                  <a:pt x="0" y="169"/>
                  <a:pt x="22" y="164"/>
                  <a:pt x="43" y="122"/>
                </a:cubicBezTo>
                <a:cubicBezTo>
                  <a:pt x="50" y="108"/>
                  <a:pt x="47" y="87"/>
                  <a:pt x="58" y="76"/>
                </a:cubicBezTo>
                <a:cubicBezTo>
                  <a:pt x="90" y="44"/>
                  <a:pt x="144" y="15"/>
                  <a:pt x="187" y="0"/>
                </a:cubicBezTo>
                <a:cubicBezTo>
                  <a:pt x="205" y="3"/>
                  <a:pt x="224" y="0"/>
                  <a:pt x="240" y="8"/>
                </a:cubicBezTo>
                <a:cubicBezTo>
                  <a:pt x="247" y="12"/>
                  <a:pt x="248" y="23"/>
                  <a:pt x="248" y="31"/>
                </a:cubicBezTo>
                <a:cubicBezTo>
                  <a:pt x="248" y="180"/>
                  <a:pt x="246" y="181"/>
                  <a:pt x="233" y="281"/>
                </a:cubicBezTo>
                <a:cubicBezTo>
                  <a:pt x="238" y="329"/>
                  <a:pt x="242" y="353"/>
                  <a:pt x="255" y="395"/>
                </a:cubicBezTo>
                <a:cubicBezTo>
                  <a:pt x="258" y="418"/>
                  <a:pt x="256" y="441"/>
                  <a:pt x="263" y="463"/>
                </a:cubicBezTo>
                <a:cubicBezTo>
                  <a:pt x="269" y="480"/>
                  <a:pt x="287" y="491"/>
                  <a:pt x="293" y="508"/>
                </a:cubicBezTo>
                <a:cubicBezTo>
                  <a:pt x="296" y="516"/>
                  <a:pt x="299" y="523"/>
                  <a:pt x="301" y="531"/>
                </a:cubicBezTo>
                <a:cubicBezTo>
                  <a:pt x="313" y="579"/>
                  <a:pt x="308" y="628"/>
                  <a:pt x="324" y="675"/>
                </a:cubicBezTo>
                <a:cubicBezTo>
                  <a:pt x="321" y="685"/>
                  <a:pt x="324" y="699"/>
                  <a:pt x="316" y="705"/>
                </a:cubicBezTo>
                <a:cubicBezTo>
                  <a:pt x="310" y="710"/>
                  <a:pt x="301" y="698"/>
                  <a:pt x="293" y="698"/>
                </a:cubicBezTo>
                <a:cubicBezTo>
                  <a:pt x="290" y="698"/>
                  <a:pt x="288" y="703"/>
                  <a:pt x="286" y="70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8" action="ppaction://hlinksldjump"/>
          </p:cNvPr>
          <p:cNvSpPr/>
          <p:nvPr/>
        </p:nvSpPr>
        <p:spPr>
          <a:xfrm>
            <a:off x="3670200" y="4608360"/>
            <a:ext cx="444600" cy="304920"/>
          </a:xfrm>
          <a:custGeom>
            <a:avLst/>
            <a:gdLst/>
            <a:ahLst/>
            <a:rect l="l" t="t" r="r" b="b"/>
            <a:pathLst>
              <a:path w="280" h="192">
                <a:moveTo>
                  <a:pt x="15" y="0"/>
                </a:moveTo>
                <a:cubicBezTo>
                  <a:pt x="10" y="7"/>
                  <a:pt x="2" y="13"/>
                  <a:pt x="0" y="22"/>
                </a:cubicBezTo>
                <a:cubicBezTo>
                  <a:pt x="0" y="25"/>
                  <a:pt x="14" y="66"/>
                  <a:pt x="15" y="68"/>
                </a:cubicBezTo>
                <a:cubicBezTo>
                  <a:pt x="27" y="105"/>
                  <a:pt x="34" y="129"/>
                  <a:pt x="68" y="151"/>
                </a:cubicBezTo>
                <a:cubicBezTo>
                  <a:pt x="95" y="192"/>
                  <a:pt x="109" y="182"/>
                  <a:pt x="159" y="174"/>
                </a:cubicBezTo>
                <a:cubicBezTo>
                  <a:pt x="183" y="165"/>
                  <a:pt x="202" y="152"/>
                  <a:pt x="227" y="144"/>
                </a:cubicBezTo>
                <a:cubicBezTo>
                  <a:pt x="252" y="128"/>
                  <a:pt x="263" y="115"/>
                  <a:pt x="280" y="91"/>
                </a:cubicBezTo>
                <a:cubicBezTo>
                  <a:pt x="271" y="31"/>
                  <a:pt x="271" y="18"/>
                  <a:pt x="212" y="0"/>
                </a:cubicBezTo>
                <a:cubicBezTo>
                  <a:pt x="158" y="8"/>
                  <a:pt x="136" y="22"/>
                  <a:pt x="106" y="68"/>
                </a:cubicBezTo>
                <a:cubicBezTo>
                  <a:pt x="98" y="44"/>
                  <a:pt x="99" y="38"/>
                  <a:pt x="75" y="22"/>
                </a:cubicBezTo>
                <a:cubicBezTo>
                  <a:pt x="56" y="10"/>
                  <a:pt x="32" y="17"/>
                  <a:pt x="15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9" action="ppaction://hlinksldjump"/>
          </p:cNvPr>
          <p:cNvSpPr/>
          <p:nvPr/>
        </p:nvSpPr>
        <p:spPr>
          <a:xfrm>
            <a:off x="3233880" y="5003640"/>
            <a:ext cx="158760" cy="482760"/>
          </a:xfrm>
          <a:custGeom>
            <a:avLst/>
            <a:gdLst/>
            <a:ahLst/>
            <a:rect l="l" t="t" r="r" b="b"/>
            <a:pathLst>
              <a:path w="100" h="304">
                <a:moveTo>
                  <a:pt x="2" y="289"/>
                </a:moveTo>
                <a:cubicBezTo>
                  <a:pt x="7" y="197"/>
                  <a:pt x="6" y="166"/>
                  <a:pt x="32" y="92"/>
                </a:cubicBezTo>
                <a:cubicBezTo>
                  <a:pt x="35" y="83"/>
                  <a:pt x="43" y="77"/>
                  <a:pt x="47" y="69"/>
                </a:cubicBezTo>
                <a:cubicBezTo>
                  <a:pt x="53" y="55"/>
                  <a:pt x="57" y="39"/>
                  <a:pt x="62" y="24"/>
                </a:cubicBezTo>
                <a:cubicBezTo>
                  <a:pt x="65" y="16"/>
                  <a:pt x="70" y="1"/>
                  <a:pt x="70" y="1"/>
                </a:cubicBezTo>
                <a:cubicBezTo>
                  <a:pt x="78" y="3"/>
                  <a:pt x="92" y="0"/>
                  <a:pt x="93" y="8"/>
                </a:cubicBezTo>
                <a:cubicBezTo>
                  <a:pt x="100" y="44"/>
                  <a:pt x="83" y="108"/>
                  <a:pt x="70" y="145"/>
                </a:cubicBezTo>
                <a:cubicBezTo>
                  <a:pt x="67" y="175"/>
                  <a:pt x="70" y="207"/>
                  <a:pt x="62" y="236"/>
                </a:cubicBezTo>
                <a:cubicBezTo>
                  <a:pt x="60" y="245"/>
                  <a:pt x="45" y="244"/>
                  <a:pt x="40" y="251"/>
                </a:cubicBezTo>
                <a:cubicBezTo>
                  <a:pt x="30" y="266"/>
                  <a:pt x="30" y="287"/>
                  <a:pt x="24" y="304"/>
                </a:cubicBezTo>
                <a:cubicBezTo>
                  <a:pt x="0" y="295"/>
                  <a:pt x="2" y="304"/>
                  <a:pt x="2" y="28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0" action="ppaction://hlinksldjump"/>
          </p:cNvPr>
          <p:cNvSpPr/>
          <p:nvPr/>
        </p:nvSpPr>
        <p:spPr>
          <a:xfrm>
            <a:off x="2266920" y="2697120"/>
            <a:ext cx="1378080" cy="2819520"/>
          </a:xfrm>
          <a:custGeom>
            <a:avLst/>
            <a:gdLst/>
            <a:ahLst/>
            <a:rect l="l" t="t" r="r" b="b"/>
            <a:pathLst>
              <a:path w="868" h="1776">
                <a:moveTo>
                  <a:pt x="20" y="1325"/>
                </a:moveTo>
                <a:cubicBezTo>
                  <a:pt x="0" y="1269"/>
                  <a:pt x="62" y="1270"/>
                  <a:pt x="103" y="1257"/>
                </a:cubicBezTo>
                <a:cubicBezTo>
                  <a:pt x="106" y="1258"/>
                  <a:pt x="162" y="1271"/>
                  <a:pt x="164" y="1272"/>
                </a:cubicBezTo>
                <a:cubicBezTo>
                  <a:pt x="170" y="1277"/>
                  <a:pt x="167" y="1288"/>
                  <a:pt x="171" y="1295"/>
                </a:cubicBezTo>
                <a:cubicBezTo>
                  <a:pt x="175" y="1303"/>
                  <a:pt x="181" y="1310"/>
                  <a:pt x="186" y="1317"/>
                </a:cubicBezTo>
                <a:cubicBezTo>
                  <a:pt x="205" y="1341"/>
                  <a:pt x="226" y="1364"/>
                  <a:pt x="247" y="1386"/>
                </a:cubicBezTo>
                <a:cubicBezTo>
                  <a:pt x="272" y="1453"/>
                  <a:pt x="237" y="1366"/>
                  <a:pt x="270" y="1424"/>
                </a:cubicBezTo>
                <a:cubicBezTo>
                  <a:pt x="296" y="1469"/>
                  <a:pt x="308" y="1521"/>
                  <a:pt x="345" y="1560"/>
                </a:cubicBezTo>
                <a:cubicBezTo>
                  <a:pt x="356" y="1591"/>
                  <a:pt x="422" y="1659"/>
                  <a:pt x="452" y="1674"/>
                </a:cubicBezTo>
                <a:cubicBezTo>
                  <a:pt x="466" y="1681"/>
                  <a:pt x="497" y="1689"/>
                  <a:pt x="497" y="1689"/>
                </a:cubicBezTo>
                <a:cubicBezTo>
                  <a:pt x="510" y="1686"/>
                  <a:pt x="529" y="1692"/>
                  <a:pt x="535" y="1681"/>
                </a:cubicBezTo>
                <a:cubicBezTo>
                  <a:pt x="543" y="1666"/>
                  <a:pt x="518" y="1608"/>
                  <a:pt x="512" y="1590"/>
                </a:cubicBezTo>
                <a:cubicBezTo>
                  <a:pt x="519" y="1534"/>
                  <a:pt x="524" y="1504"/>
                  <a:pt x="580" y="1484"/>
                </a:cubicBezTo>
                <a:cubicBezTo>
                  <a:pt x="617" y="1449"/>
                  <a:pt x="574" y="1495"/>
                  <a:pt x="603" y="1431"/>
                </a:cubicBezTo>
                <a:cubicBezTo>
                  <a:pt x="610" y="1415"/>
                  <a:pt x="633" y="1386"/>
                  <a:pt x="633" y="1386"/>
                </a:cubicBezTo>
                <a:cubicBezTo>
                  <a:pt x="636" y="1366"/>
                  <a:pt x="637" y="1345"/>
                  <a:pt x="641" y="1325"/>
                </a:cubicBezTo>
                <a:cubicBezTo>
                  <a:pt x="644" y="1310"/>
                  <a:pt x="656" y="1280"/>
                  <a:pt x="656" y="1280"/>
                </a:cubicBezTo>
                <a:cubicBezTo>
                  <a:pt x="654" y="1249"/>
                  <a:pt x="656" y="1177"/>
                  <a:pt x="633" y="1143"/>
                </a:cubicBezTo>
                <a:cubicBezTo>
                  <a:pt x="623" y="1128"/>
                  <a:pt x="603" y="1098"/>
                  <a:pt x="603" y="1098"/>
                </a:cubicBezTo>
                <a:cubicBezTo>
                  <a:pt x="581" y="1027"/>
                  <a:pt x="582" y="940"/>
                  <a:pt x="527" y="885"/>
                </a:cubicBezTo>
                <a:cubicBezTo>
                  <a:pt x="525" y="878"/>
                  <a:pt x="520" y="871"/>
                  <a:pt x="520" y="863"/>
                </a:cubicBezTo>
                <a:cubicBezTo>
                  <a:pt x="520" y="799"/>
                  <a:pt x="500" y="721"/>
                  <a:pt x="565" y="688"/>
                </a:cubicBezTo>
                <a:cubicBezTo>
                  <a:pt x="579" y="681"/>
                  <a:pt x="597" y="680"/>
                  <a:pt x="611" y="673"/>
                </a:cubicBezTo>
                <a:cubicBezTo>
                  <a:pt x="636" y="660"/>
                  <a:pt x="653" y="641"/>
                  <a:pt x="679" y="628"/>
                </a:cubicBezTo>
                <a:cubicBezTo>
                  <a:pt x="684" y="620"/>
                  <a:pt x="687" y="611"/>
                  <a:pt x="694" y="605"/>
                </a:cubicBezTo>
                <a:cubicBezTo>
                  <a:pt x="708" y="593"/>
                  <a:pt x="740" y="575"/>
                  <a:pt x="740" y="575"/>
                </a:cubicBezTo>
                <a:cubicBezTo>
                  <a:pt x="753" y="531"/>
                  <a:pt x="761" y="495"/>
                  <a:pt x="724" y="461"/>
                </a:cubicBezTo>
                <a:cubicBezTo>
                  <a:pt x="735" y="296"/>
                  <a:pt x="749" y="213"/>
                  <a:pt x="732" y="67"/>
                </a:cubicBezTo>
                <a:cubicBezTo>
                  <a:pt x="746" y="3"/>
                  <a:pt x="759" y="21"/>
                  <a:pt x="831" y="14"/>
                </a:cubicBezTo>
                <a:cubicBezTo>
                  <a:pt x="841" y="11"/>
                  <a:pt x="852" y="0"/>
                  <a:pt x="861" y="6"/>
                </a:cubicBezTo>
                <a:cubicBezTo>
                  <a:pt x="868" y="11"/>
                  <a:pt x="858" y="23"/>
                  <a:pt x="853" y="29"/>
                </a:cubicBezTo>
                <a:cubicBezTo>
                  <a:pt x="843" y="42"/>
                  <a:pt x="827" y="48"/>
                  <a:pt x="815" y="59"/>
                </a:cubicBezTo>
                <a:cubicBezTo>
                  <a:pt x="796" y="203"/>
                  <a:pt x="830" y="369"/>
                  <a:pt x="785" y="499"/>
                </a:cubicBezTo>
                <a:cubicBezTo>
                  <a:pt x="788" y="512"/>
                  <a:pt x="793" y="524"/>
                  <a:pt x="793" y="537"/>
                </a:cubicBezTo>
                <a:cubicBezTo>
                  <a:pt x="793" y="574"/>
                  <a:pt x="768" y="577"/>
                  <a:pt x="755" y="613"/>
                </a:cubicBezTo>
                <a:cubicBezTo>
                  <a:pt x="739" y="656"/>
                  <a:pt x="725" y="688"/>
                  <a:pt x="679" y="704"/>
                </a:cubicBezTo>
                <a:cubicBezTo>
                  <a:pt x="655" y="727"/>
                  <a:pt x="628" y="754"/>
                  <a:pt x="596" y="764"/>
                </a:cubicBezTo>
                <a:cubicBezTo>
                  <a:pt x="584" y="808"/>
                  <a:pt x="571" y="850"/>
                  <a:pt x="558" y="893"/>
                </a:cubicBezTo>
                <a:cubicBezTo>
                  <a:pt x="578" y="914"/>
                  <a:pt x="594" y="930"/>
                  <a:pt x="618" y="946"/>
                </a:cubicBezTo>
                <a:cubicBezTo>
                  <a:pt x="623" y="1005"/>
                  <a:pt x="614" y="1098"/>
                  <a:pt x="687" y="1120"/>
                </a:cubicBezTo>
                <a:cubicBezTo>
                  <a:pt x="756" y="1194"/>
                  <a:pt x="719" y="1211"/>
                  <a:pt x="709" y="1363"/>
                </a:cubicBezTo>
                <a:cubicBezTo>
                  <a:pt x="708" y="1381"/>
                  <a:pt x="705" y="1401"/>
                  <a:pt x="694" y="1416"/>
                </a:cubicBezTo>
                <a:cubicBezTo>
                  <a:pt x="682" y="1433"/>
                  <a:pt x="664" y="1446"/>
                  <a:pt x="649" y="1461"/>
                </a:cubicBezTo>
                <a:cubicBezTo>
                  <a:pt x="644" y="1466"/>
                  <a:pt x="633" y="1477"/>
                  <a:pt x="633" y="1477"/>
                </a:cubicBezTo>
                <a:cubicBezTo>
                  <a:pt x="619" y="1535"/>
                  <a:pt x="599" y="1576"/>
                  <a:pt x="573" y="1628"/>
                </a:cubicBezTo>
                <a:cubicBezTo>
                  <a:pt x="564" y="1762"/>
                  <a:pt x="600" y="1776"/>
                  <a:pt x="489" y="1765"/>
                </a:cubicBezTo>
                <a:cubicBezTo>
                  <a:pt x="462" y="1755"/>
                  <a:pt x="448" y="1725"/>
                  <a:pt x="421" y="1719"/>
                </a:cubicBezTo>
                <a:cubicBezTo>
                  <a:pt x="399" y="1714"/>
                  <a:pt x="376" y="1714"/>
                  <a:pt x="353" y="1712"/>
                </a:cubicBezTo>
                <a:cubicBezTo>
                  <a:pt x="298" y="1653"/>
                  <a:pt x="369" y="1587"/>
                  <a:pt x="292" y="1537"/>
                </a:cubicBezTo>
                <a:cubicBezTo>
                  <a:pt x="276" y="1513"/>
                  <a:pt x="259" y="1504"/>
                  <a:pt x="239" y="1484"/>
                </a:cubicBezTo>
                <a:cubicBezTo>
                  <a:pt x="194" y="1439"/>
                  <a:pt x="152" y="1394"/>
                  <a:pt x="103" y="1355"/>
                </a:cubicBezTo>
                <a:cubicBezTo>
                  <a:pt x="91" y="1346"/>
                  <a:pt x="20" y="1279"/>
                  <a:pt x="20" y="132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1" action="ppaction://hlinksldjump"/>
          </p:cNvPr>
          <p:cNvSpPr/>
          <p:nvPr/>
        </p:nvSpPr>
        <p:spPr>
          <a:xfrm>
            <a:off x="2298600" y="4170240"/>
            <a:ext cx="889200" cy="486000"/>
          </a:xfrm>
          <a:custGeom>
            <a:avLst/>
            <a:gdLst/>
            <a:ahLst/>
            <a:rect l="l" t="t" r="r" b="b"/>
            <a:pathLst>
              <a:path w="560" h="306">
                <a:moveTo>
                  <a:pt x="0" y="291"/>
                </a:moveTo>
                <a:cubicBezTo>
                  <a:pt x="2" y="281"/>
                  <a:pt x="6" y="271"/>
                  <a:pt x="7" y="261"/>
                </a:cubicBezTo>
                <a:cubicBezTo>
                  <a:pt x="11" y="213"/>
                  <a:pt x="8" y="165"/>
                  <a:pt x="15" y="117"/>
                </a:cubicBezTo>
                <a:cubicBezTo>
                  <a:pt x="16" y="108"/>
                  <a:pt x="49" y="87"/>
                  <a:pt x="53" y="86"/>
                </a:cubicBezTo>
                <a:cubicBezTo>
                  <a:pt x="97" y="70"/>
                  <a:pt x="80" y="88"/>
                  <a:pt x="113" y="71"/>
                </a:cubicBezTo>
                <a:cubicBezTo>
                  <a:pt x="143" y="55"/>
                  <a:pt x="171" y="36"/>
                  <a:pt x="204" y="26"/>
                </a:cubicBezTo>
                <a:cubicBezTo>
                  <a:pt x="227" y="28"/>
                  <a:pt x="250" y="27"/>
                  <a:pt x="272" y="33"/>
                </a:cubicBezTo>
                <a:cubicBezTo>
                  <a:pt x="292" y="38"/>
                  <a:pt x="304" y="74"/>
                  <a:pt x="318" y="86"/>
                </a:cubicBezTo>
                <a:cubicBezTo>
                  <a:pt x="327" y="93"/>
                  <a:pt x="338" y="96"/>
                  <a:pt x="348" y="101"/>
                </a:cubicBezTo>
                <a:cubicBezTo>
                  <a:pt x="383" y="99"/>
                  <a:pt x="426" y="116"/>
                  <a:pt x="454" y="94"/>
                </a:cubicBezTo>
                <a:cubicBezTo>
                  <a:pt x="476" y="76"/>
                  <a:pt x="453" y="37"/>
                  <a:pt x="462" y="10"/>
                </a:cubicBezTo>
                <a:cubicBezTo>
                  <a:pt x="465" y="2"/>
                  <a:pt x="477" y="5"/>
                  <a:pt x="485" y="3"/>
                </a:cubicBezTo>
                <a:cubicBezTo>
                  <a:pt x="508" y="5"/>
                  <a:pt x="533" y="0"/>
                  <a:pt x="553" y="10"/>
                </a:cubicBezTo>
                <a:cubicBezTo>
                  <a:pt x="560" y="14"/>
                  <a:pt x="549" y="26"/>
                  <a:pt x="545" y="33"/>
                </a:cubicBezTo>
                <a:cubicBezTo>
                  <a:pt x="540" y="41"/>
                  <a:pt x="515" y="63"/>
                  <a:pt x="507" y="71"/>
                </a:cubicBezTo>
                <a:cubicBezTo>
                  <a:pt x="498" y="99"/>
                  <a:pt x="493" y="122"/>
                  <a:pt x="477" y="147"/>
                </a:cubicBezTo>
                <a:cubicBezTo>
                  <a:pt x="399" y="144"/>
                  <a:pt x="320" y="148"/>
                  <a:pt x="242" y="139"/>
                </a:cubicBezTo>
                <a:cubicBezTo>
                  <a:pt x="233" y="138"/>
                  <a:pt x="233" y="123"/>
                  <a:pt x="227" y="117"/>
                </a:cubicBezTo>
                <a:cubicBezTo>
                  <a:pt x="210" y="100"/>
                  <a:pt x="202" y="100"/>
                  <a:pt x="181" y="94"/>
                </a:cubicBezTo>
                <a:cubicBezTo>
                  <a:pt x="153" y="98"/>
                  <a:pt x="132" y="95"/>
                  <a:pt x="113" y="117"/>
                </a:cubicBezTo>
                <a:cubicBezTo>
                  <a:pt x="64" y="174"/>
                  <a:pt x="107" y="154"/>
                  <a:pt x="60" y="170"/>
                </a:cubicBezTo>
                <a:cubicBezTo>
                  <a:pt x="36" y="205"/>
                  <a:pt x="37" y="238"/>
                  <a:pt x="22" y="276"/>
                </a:cubicBezTo>
                <a:cubicBezTo>
                  <a:pt x="10" y="306"/>
                  <a:pt x="11" y="302"/>
                  <a:pt x="0" y="2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2" action="ppaction://hlinksldjump"/>
          </p:cNvPr>
          <p:cNvSpPr/>
          <p:nvPr/>
        </p:nvSpPr>
        <p:spPr>
          <a:xfrm>
            <a:off x="2730600" y="4403880"/>
            <a:ext cx="441360" cy="685800"/>
          </a:xfrm>
          <a:custGeom>
            <a:avLst/>
            <a:gdLst/>
            <a:ahLst/>
            <a:rect l="l" t="t" r="r" b="b"/>
            <a:pathLst>
              <a:path w="278" h="432">
                <a:moveTo>
                  <a:pt x="38" y="394"/>
                </a:moveTo>
                <a:cubicBezTo>
                  <a:pt x="36" y="376"/>
                  <a:pt x="37" y="358"/>
                  <a:pt x="31" y="341"/>
                </a:cubicBezTo>
                <a:cubicBezTo>
                  <a:pt x="27" y="329"/>
                  <a:pt x="14" y="322"/>
                  <a:pt x="8" y="311"/>
                </a:cubicBezTo>
                <a:cubicBezTo>
                  <a:pt x="4" y="304"/>
                  <a:pt x="3" y="296"/>
                  <a:pt x="0" y="288"/>
                </a:cubicBezTo>
                <a:cubicBezTo>
                  <a:pt x="6" y="253"/>
                  <a:pt x="11" y="217"/>
                  <a:pt x="46" y="197"/>
                </a:cubicBezTo>
                <a:cubicBezTo>
                  <a:pt x="60" y="189"/>
                  <a:pt x="91" y="182"/>
                  <a:pt x="91" y="182"/>
                </a:cubicBezTo>
                <a:cubicBezTo>
                  <a:pt x="112" y="162"/>
                  <a:pt x="136" y="160"/>
                  <a:pt x="160" y="144"/>
                </a:cubicBezTo>
                <a:cubicBezTo>
                  <a:pt x="176" y="119"/>
                  <a:pt x="180" y="96"/>
                  <a:pt x="190" y="68"/>
                </a:cubicBezTo>
                <a:cubicBezTo>
                  <a:pt x="177" y="30"/>
                  <a:pt x="191" y="11"/>
                  <a:pt x="228" y="0"/>
                </a:cubicBezTo>
                <a:cubicBezTo>
                  <a:pt x="255" y="18"/>
                  <a:pt x="264" y="30"/>
                  <a:pt x="273" y="61"/>
                </a:cubicBezTo>
                <a:cubicBezTo>
                  <a:pt x="260" y="116"/>
                  <a:pt x="278" y="71"/>
                  <a:pt x="243" y="106"/>
                </a:cubicBezTo>
                <a:cubicBezTo>
                  <a:pt x="215" y="134"/>
                  <a:pt x="239" y="144"/>
                  <a:pt x="197" y="159"/>
                </a:cubicBezTo>
                <a:cubicBezTo>
                  <a:pt x="163" y="212"/>
                  <a:pt x="185" y="200"/>
                  <a:pt x="144" y="212"/>
                </a:cubicBezTo>
                <a:cubicBezTo>
                  <a:pt x="128" y="236"/>
                  <a:pt x="107" y="243"/>
                  <a:pt x="91" y="265"/>
                </a:cubicBezTo>
                <a:cubicBezTo>
                  <a:pt x="80" y="280"/>
                  <a:pt x="61" y="311"/>
                  <a:pt x="61" y="311"/>
                </a:cubicBezTo>
                <a:cubicBezTo>
                  <a:pt x="52" y="416"/>
                  <a:pt x="76" y="432"/>
                  <a:pt x="38" y="39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3" action="ppaction://hlinksldjump"/>
          </p:cNvPr>
          <p:cNvSpPr/>
          <p:nvPr/>
        </p:nvSpPr>
        <p:spPr>
          <a:xfrm>
            <a:off x="2378160" y="3032280"/>
            <a:ext cx="1096920" cy="461880"/>
          </a:xfrm>
          <a:custGeom>
            <a:avLst/>
            <a:gdLst/>
            <a:ahLst/>
            <a:rect l="l" t="t" r="r" b="b"/>
            <a:pathLst>
              <a:path w="691" h="291">
                <a:moveTo>
                  <a:pt x="0" y="287"/>
                </a:moveTo>
                <a:cubicBezTo>
                  <a:pt x="3" y="271"/>
                  <a:pt x="0" y="252"/>
                  <a:pt x="8" y="238"/>
                </a:cubicBezTo>
                <a:cubicBezTo>
                  <a:pt x="12" y="230"/>
                  <a:pt x="25" y="233"/>
                  <a:pt x="33" y="229"/>
                </a:cubicBezTo>
                <a:cubicBezTo>
                  <a:pt x="52" y="219"/>
                  <a:pt x="59" y="211"/>
                  <a:pt x="74" y="197"/>
                </a:cubicBezTo>
                <a:cubicBezTo>
                  <a:pt x="81" y="175"/>
                  <a:pt x="78" y="150"/>
                  <a:pt x="90" y="131"/>
                </a:cubicBezTo>
                <a:cubicBezTo>
                  <a:pt x="144" y="44"/>
                  <a:pt x="218" y="40"/>
                  <a:pt x="312" y="32"/>
                </a:cubicBezTo>
                <a:cubicBezTo>
                  <a:pt x="359" y="0"/>
                  <a:pt x="409" y="28"/>
                  <a:pt x="460" y="40"/>
                </a:cubicBezTo>
                <a:cubicBezTo>
                  <a:pt x="468" y="46"/>
                  <a:pt x="479" y="49"/>
                  <a:pt x="485" y="57"/>
                </a:cubicBezTo>
                <a:cubicBezTo>
                  <a:pt x="502" y="79"/>
                  <a:pt x="488" y="116"/>
                  <a:pt x="518" y="131"/>
                </a:cubicBezTo>
                <a:cubicBezTo>
                  <a:pt x="533" y="139"/>
                  <a:pt x="551" y="142"/>
                  <a:pt x="567" y="147"/>
                </a:cubicBezTo>
                <a:cubicBezTo>
                  <a:pt x="575" y="150"/>
                  <a:pt x="592" y="155"/>
                  <a:pt x="592" y="155"/>
                </a:cubicBezTo>
                <a:cubicBezTo>
                  <a:pt x="617" y="152"/>
                  <a:pt x="642" y="153"/>
                  <a:pt x="666" y="147"/>
                </a:cubicBezTo>
                <a:cubicBezTo>
                  <a:pt x="674" y="145"/>
                  <a:pt x="676" y="129"/>
                  <a:pt x="683" y="131"/>
                </a:cubicBezTo>
                <a:cubicBezTo>
                  <a:pt x="691" y="134"/>
                  <a:pt x="688" y="147"/>
                  <a:pt x="691" y="155"/>
                </a:cubicBezTo>
                <a:cubicBezTo>
                  <a:pt x="666" y="193"/>
                  <a:pt x="658" y="223"/>
                  <a:pt x="617" y="238"/>
                </a:cubicBezTo>
                <a:cubicBezTo>
                  <a:pt x="600" y="235"/>
                  <a:pt x="555" y="232"/>
                  <a:pt x="534" y="221"/>
                </a:cubicBezTo>
                <a:cubicBezTo>
                  <a:pt x="476" y="193"/>
                  <a:pt x="442" y="134"/>
                  <a:pt x="378" y="114"/>
                </a:cubicBezTo>
                <a:cubicBezTo>
                  <a:pt x="184" y="128"/>
                  <a:pt x="320" y="114"/>
                  <a:pt x="222" y="147"/>
                </a:cubicBezTo>
                <a:cubicBezTo>
                  <a:pt x="197" y="164"/>
                  <a:pt x="177" y="183"/>
                  <a:pt x="156" y="205"/>
                </a:cubicBezTo>
                <a:cubicBezTo>
                  <a:pt x="127" y="291"/>
                  <a:pt x="47" y="240"/>
                  <a:pt x="0" y="28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4" action="ppaction://hlinksldjump"/>
          </p:cNvPr>
          <p:cNvSpPr/>
          <p:nvPr/>
        </p:nvSpPr>
        <p:spPr>
          <a:xfrm>
            <a:off x="1944720" y="2841480"/>
            <a:ext cx="563400" cy="457200"/>
          </a:xfrm>
          <a:custGeom>
            <a:avLst/>
            <a:gdLst/>
            <a:ahLst/>
            <a:rect l="l" t="t" r="r" b="b"/>
            <a:pathLst>
              <a:path w="355" h="288">
                <a:moveTo>
                  <a:pt x="26" y="135"/>
                </a:moveTo>
                <a:cubicBezTo>
                  <a:pt x="22" y="112"/>
                  <a:pt x="0" y="60"/>
                  <a:pt x="18" y="37"/>
                </a:cubicBezTo>
                <a:cubicBezTo>
                  <a:pt x="29" y="23"/>
                  <a:pt x="46" y="16"/>
                  <a:pt x="59" y="4"/>
                </a:cubicBezTo>
                <a:cubicBezTo>
                  <a:pt x="162" y="11"/>
                  <a:pt x="149" y="0"/>
                  <a:pt x="207" y="20"/>
                </a:cubicBezTo>
                <a:cubicBezTo>
                  <a:pt x="236" y="30"/>
                  <a:pt x="297" y="45"/>
                  <a:pt x="297" y="45"/>
                </a:cubicBezTo>
                <a:cubicBezTo>
                  <a:pt x="315" y="96"/>
                  <a:pt x="305" y="162"/>
                  <a:pt x="347" y="201"/>
                </a:cubicBezTo>
                <a:cubicBezTo>
                  <a:pt x="350" y="220"/>
                  <a:pt x="355" y="239"/>
                  <a:pt x="355" y="259"/>
                </a:cubicBezTo>
                <a:cubicBezTo>
                  <a:pt x="355" y="268"/>
                  <a:pt x="355" y="281"/>
                  <a:pt x="347" y="284"/>
                </a:cubicBezTo>
                <a:cubicBezTo>
                  <a:pt x="334" y="288"/>
                  <a:pt x="320" y="278"/>
                  <a:pt x="306" y="275"/>
                </a:cubicBezTo>
                <a:cubicBezTo>
                  <a:pt x="300" y="267"/>
                  <a:pt x="296" y="258"/>
                  <a:pt x="289" y="251"/>
                </a:cubicBezTo>
                <a:cubicBezTo>
                  <a:pt x="282" y="244"/>
                  <a:pt x="268" y="243"/>
                  <a:pt x="264" y="234"/>
                </a:cubicBezTo>
                <a:cubicBezTo>
                  <a:pt x="256" y="216"/>
                  <a:pt x="260" y="196"/>
                  <a:pt x="256" y="177"/>
                </a:cubicBezTo>
                <a:cubicBezTo>
                  <a:pt x="245" y="130"/>
                  <a:pt x="229" y="101"/>
                  <a:pt x="182" y="86"/>
                </a:cubicBezTo>
                <a:cubicBezTo>
                  <a:pt x="94" y="92"/>
                  <a:pt x="67" y="73"/>
                  <a:pt x="26" y="13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5" action="ppaction://hlinksldjump"/>
          </p:cNvPr>
          <p:cNvSpPr/>
          <p:nvPr/>
        </p:nvSpPr>
        <p:spPr>
          <a:xfrm>
            <a:off x="2313000" y="3552840"/>
            <a:ext cx="357120" cy="679320"/>
          </a:xfrm>
          <a:custGeom>
            <a:avLst/>
            <a:gdLst/>
            <a:ahLst/>
            <a:rect l="l" t="t" r="r" b="b"/>
            <a:pathLst>
              <a:path w="225" h="428">
                <a:moveTo>
                  <a:pt x="82" y="17"/>
                </a:moveTo>
                <a:cubicBezTo>
                  <a:pt x="91" y="44"/>
                  <a:pt x="97" y="72"/>
                  <a:pt x="106" y="99"/>
                </a:cubicBezTo>
                <a:cubicBezTo>
                  <a:pt x="100" y="146"/>
                  <a:pt x="105" y="173"/>
                  <a:pt x="74" y="206"/>
                </a:cubicBezTo>
                <a:cubicBezTo>
                  <a:pt x="54" y="263"/>
                  <a:pt x="73" y="250"/>
                  <a:pt x="32" y="263"/>
                </a:cubicBezTo>
                <a:cubicBezTo>
                  <a:pt x="0" y="313"/>
                  <a:pt x="2" y="371"/>
                  <a:pt x="16" y="428"/>
                </a:cubicBezTo>
                <a:cubicBezTo>
                  <a:pt x="38" y="425"/>
                  <a:pt x="61" y="426"/>
                  <a:pt x="82" y="420"/>
                </a:cubicBezTo>
                <a:cubicBezTo>
                  <a:pt x="112" y="411"/>
                  <a:pt x="98" y="359"/>
                  <a:pt x="106" y="329"/>
                </a:cubicBezTo>
                <a:cubicBezTo>
                  <a:pt x="114" y="297"/>
                  <a:pt x="138" y="302"/>
                  <a:pt x="164" y="296"/>
                </a:cubicBezTo>
                <a:cubicBezTo>
                  <a:pt x="225" y="257"/>
                  <a:pt x="172" y="213"/>
                  <a:pt x="156" y="165"/>
                </a:cubicBezTo>
                <a:cubicBezTo>
                  <a:pt x="150" y="89"/>
                  <a:pt x="157" y="51"/>
                  <a:pt x="106" y="0"/>
                </a:cubicBezTo>
                <a:cubicBezTo>
                  <a:pt x="79" y="9"/>
                  <a:pt x="82" y="0"/>
                  <a:pt x="82" y="1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6" action="ppaction://hlinksldjump"/>
          </p:cNvPr>
          <p:cNvSpPr/>
          <p:nvPr/>
        </p:nvSpPr>
        <p:spPr>
          <a:xfrm>
            <a:off x="1959120" y="3546360"/>
            <a:ext cx="477720" cy="959040"/>
          </a:xfrm>
          <a:custGeom>
            <a:avLst/>
            <a:gdLst/>
            <a:ahLst/>
            <a:rect l="l" t="t" r="r" b="b"/>
            <a:pathLst>
              <a:path w="301" h="604">
                <a:moveTo>
                  <a:pt x="132" y="547"/>
                </a:moveTo>
                <a:cubicBezTo>
                  <a:pt x="135" y="498"/>
                  <a:pt x="130" y="447"/>
                  <a:pt x="140" y="399"/>
                </a:cubicBezTo>
                <a:cubicBezTo>
                  <a:pt x="144" y="380"/>
                  <a:pt x="173" y="350"/>
                  <a:pt x="173" y="350"/>
                </a:cubicBezTo>
                <a:cubicBezTo>
                  <a:pt x="176" y="342"/>
                  <a:pt x="176" y="332"/>
                  <a:pt x="181" y="325"/>
                </a:cubicBezTo>
                <a:cubicBezTo>
                  <a:pt x="185" y="318"/>
                  <a:pt x="195" y="316"/>
                  <a:pt x="198" y="309"/>
                </a:cubicBezTo>
                <a:cubicBezTo>
                  <a:pt x="212" y="281"/>
                  <a:pt x="220" y="241"/>
                  <a:pt x="231" y="210"/>
                </a:cubicBezTo>
                <a:cubicBezTo>
                  <a:pt x="237" y="193"/>
                  <a:pt x="270" y="168"/>
                  <a:pt x="280" y="152"/>
                </a:cubicBezTo>
                <a:cubicBezTo>
                  <a:pt x="287" y="112"/>
                  <a:pt x="301" y="47"/>
                  <a:pt x="280" y="12"/>
                </a:cubicBezTo>
                <a:cubicBezTo>
                  <a:pt x="273" y="0"/>
                  <a:pt x="253" y="18"/>
                  <a:pt x="239" y="21"/>
                </a:cubicBezTo>
                <a:cubicBezTo>
                  <a:pt x="207" y="66"/>
                  <a:pt x="188" y="121"/>
                  <a:pt x="148" y="161"/>
                </a:cubicBezTo>
                <a:cubicBezTo>
                  <a:pt x="136" y="173"/>
                  <a:pt x="120" y="181"/>
                  <a:pt x="107" y="193"/>
                </a:cubicBezTo>
                <a:cubicBezTo>
                  <a:pt x="98" y="221"/>
                  <a:pt x="83" y="235"/>
                  <a:pt x="66" y="259"/>
                </a:cubicBezTo>
                <a:cubicBezTo>
                  <a:pt x="57" y="321"/>
                  <a:pt x="60" y="313"/>
                  <a:pt x="25" y="350"/>
                </a:cubicBezTo>
                <a:cubicBezTo>
                  <a:pt x="6" y="407"/>
                  <a:pt x="15" y="383"/>
                  <a:pt x="0" y="424"/>
                </a:cubicBezTo>
                <a:cubicBezTo>
                  <a:pt x="8" y="479"/>
                  <a:pt x="11" y="532"/>
                  <a:pt x="41" y="580"/>
                </a:cubicBezTo>
                <a:cubicBezTo>
                  <a:pt x="149" y="571"/>
                  <a:pt x="150" y="604"/>
                  <a:pt x="132" y="54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7" action="ppaction://hlinksldjump"/>
          </p:cNvPr>
          <p:cNvSpPr/>
          <p:nvPr/>
        </p:nvSpPr>
        <p:spPr>
          <a:xfrm>
            <a:off x="1501920" y="3530520"/>
            <a:ext cx="849240" cy="349200"/>
          </a:xfrm>
          <a:custGeom>
            <a:avLst/>
            <a:gdLst/>
            <a:ahLst/>
            <a:rect l="l" t="t" r="r" b="b"/>
            <a:pathLst>
              <a:path w="535" h="220">
                <a:moveTo>
                  <a:pt x="74" y="212"/>
                </a:moveTo>
                <a:cubicBezTo>
                  <a:pt x="41" y="203"/>
                  <a:pt x="24" y="194"/>
                  <a:pt x="0" y="171"/>
                </a:cubicBezTo>
                <a:cubicBezTo>
                  <a:pt x="13" y="90"/>
                  <a:pt x="22" y="71"/>
                  <a:pt x="99" y="47"/>
                </a:cubicBezTo>
                <a:cubicBezTo>
                  <a:pt x="121" y="54"/>
                  <a:pt x="130" y="54"/>
                  <a:pt x="148" y="72"/>
                </a:cubicBezTo>
                <a:cubicBezTo>
                  <a:pt x="155" y="79"/>
                  <a:pt x="157" y="90"/>
                  <a:pt x="165" y="96"/>
                </a:cubicBezTo>
                <a:cubicBezTo>
                  <a:pt x="179" y="107"/>
                  <a:pt x="199" y="111"/>
                  <a:pt x="214" y="121"/>
                </a:cubicBezTo>
                <a:cubicBezTo>
                  <a:pt x="231" y="175"/>
                  <a:pt x="267" y="151"/>
                  <a:pt x="297" y="121"/>
                </a:cubicBezTo>
                <a:cubicBezTo>
                  <a:pt x="323" y="12"/>
                  <a:pt x="387" y="47"/>
                  <a:pt x="486" y="31"/>
                </a:cubicBezTo>
                <a:cubicBezTo>
                  <a:pt x="515" y="0"/>
                  <a:pt x="524" y="11"/>
                  <a:pt x="535" y="47"/>
                </a:cubicBezTo>
                <a:cubicBezTo>
                  <a:pt x="500" y="84"/>
                  <a:pt x="450" y="82"/>
                  <a:pt x="403" y="88"/>
                </a:cubicBezTo>
                <a:cubicBezTo>
                  <a:pt x="372" y="110"/>
                  <a:pt x="353" y="142"/>
                  <a:pt x="329" y="171"/>
                </a:cubicBezTo>
                <a:cubicBezTo>
                  <a:pt x="323" y="179"/>
                  <a:pt x="308" y="206"/>
                  <a:pt x="297" y="212"/>
                </a:cubicBezTo>
                <a:cubicBezTo>
                  <a:pt x="287" y="217"/>
                  <a:pt x="275" y="217"/>
                  <a:pt x="264" y="220"/>
                </a:cubicBezTo>
                <a:cubicBezTo>
                  <a:pt x="227" y="208"/>
                  <a:pt x="202" y="183"/>
                  <a:pt x="165" y="171"/>
                </a:cubicBezTo>
                <a:cubicBezTo>
                  <a:pt x="135" y="174"/>
                  <a:pt x="103" y="170"/>
                  <a:pt x="74" y="179"/>
                </a:cubicBezTo>
                <a:cubicBezTo>
                  <a:pt x="48" y="188"/>
                  <a:pt x="69" y="206"/>
                  <a:pt x="74" y="21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8" action="ppaction://hlinksldjump"/>
          </p:cNvPr>
          <p:cNvSpPr/>
          <p:nvPr/>
        </p:nvSpPr>
        <p:spPr>
          <a:xfrm>
            <a:off x="1424160" y="3166920"/>
            <a:ext cx="906120" cy="360360"/>
          </a:xfrm>
          <a:custGeom>
            <a:avLst/>
            <a:gdLst/>
            <a:ahLst/>
            <a:rect l="l" t="t" r="r" b="b"/>
            <a:pathLst>
              <a:path w="571" h="227">
                <a:moveTo>
                  <a:pt x="551" y="136"/>
                </a:moveTo>
                <a:cubicBezTo>
                  <a:pt x="556" y="153"/>
                  <a:pt x="571" y="169"/>
                  <a:pt x="568" y="186"/>
                </a:cubicBezTo>
                <a:cubicBezTo>
                  <a:pt x="567" y="194"/>
                  <a:pt x="557" y="196"/>
                  <a:pt x="551" y="202"/>
                </a:cubicBezTo>
                <a:cubicBezTo>
                  <a:pt x="543" y="210"/>
                  <a:pt x="535" y="219"/>
                  <a:pt x="527" y="227"/>
                </a:cubicBezTo>
                <a:cubicBezTo>
                  <a:pt x="421" y="217"/>
                  <a:pt x="458" y="218"/>
                  <a:pt x="387" y="194"/>
                </a:cubicBezTo>
                <a:cubicBezTo>
                  <a:pt x="376" y="197"/>
                  <a:pt x="365" y="199"/>
                  <a:pt x="354" y="202"/>
                </a:cubicBezTo>
                <a:cubicBezTo>
                  <a:pt x="346" y="204"/>
                  <a:pt x="337" y="213"/>
                  <a:pt x="329" y="210"/>
                </a:cubicBezTo>
                <a:cubicBezTo>
                  <a:pt x="298" y="200"/>
                  <a:pt x="312" y="181"/>
                  <a:pt x="288" y="169"/>
                </a:cubicBezTo>
                <a:cubicBezTo>
                  <a:pt x="273" y="161"/>
                  <a:pt x="239" y="153"/>
                  <a:pt x="239" y="153"/>
                </a:cubicBezTo>
                <a:cubicBezTo>
                  <a:pt x="222" y="142"/>
                  <a:pt x="209" y="123"/>
                  <a:pt x="189" y="120"/>
                </a:cubicBezTo>
                <a:cubicBezTo>
                  <a:pt x="152" y="114"/>
                  <a:pt x="118" y="106"/>
                  <a:pt x="82" y="95"/>
                </a:cubicBezTo>
                <a:cubicBezTo>
                  <a:pt x="53" y="76"/>
                  <a:pt x="23" y="54"/>
                  <a:pt x="0" y="29"/>
                </a:cubicBezTo>
                <a:cubicBezTo>
                  <a:pt x="45" y="0"/>
                  <a:pt x="157" y="27"/>
                  <a:pt x="197" y="29"/>
                </a:cubicBezTo>
                <a:cubicBezTo>
                  <a:pt x="219" y="36"/>
                  <a:pt x="242" y="37"/>
                  <a:pt x="263" y="46"/>
                </a:cubicBezTo>
                <a:cubicBezTo>
                  <a:pt x="280" y="53"/>
                  <a:pt x="295" y="93"/>
                  <a:pt x="313" y="95"/>
                </a:cubicBezTo>
                <a:cubicBezTo>
                  <a:pt x="376" y="102"/>
                  <a:pt x="439" y="100"/>
                  <a:pt x="502" y="103"/>
                </a:cubicBezTo>
                <a:cubicBezTo>
                  <a:pt x="542" y="123"/>
                  <a:pt x="526" y="111"/>
                  <a:pt x="551" y="1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9" action="ppaction://hlinksldjump"/>
          </p:cNvPr>
          <p:cNvSpPr/>
          <p:nvPr/>
        </p:nvSpPr>
        <p:spPr>
          <a:xfrm>
            <a:off x="1673280" y="2708280"/>
            <a:ext cx="299880" cy="488880"/>
          </a:xfrm>
          <a:custGeom>
            <a:avLst/>
            <a:gdLst/>
            <a:ahLst/>
            <a:rect l="l" t="t" r="r" b="b"/>
            <a:pathLst>
              <a:path w="189" h="308">
                <a:moveTo>
                  <a:pt x="57" y="145"/>
                </a:moveTo>
                <a:cubicBezTo>
                  <a:pt x="46" y="148"/>
                  <a:pt x="33" y="147"/>
                  <a:pt x="24" y="154"/>
                </a:cubicBezTo>
                <a:cubicBezTo>
                  <a:pt x="0" y="173"/>
                  <a:pt x="20" y="236"/>
                  <a:pt x="40" y="252"/>
                </a:cubicBezTo>
                <a:cubicBezTo>
                  <a:pt x="56" y="265"/>
                  <a:pt x="131" y="269"/>
                  <a:pt x="131" y="269"/>
                </a:cubicBezTo>
                <a:cubicBezTo>
                  <a:pt x="136" y="272"/>
                  <a:pt x="175" y="308"/>
                  <a:pt x="180" y="269"/>
                </a:cubicBezTo>
                <a:cubicBezTo>
                  <a:pt x="182" y="252"/>
                  <a:pt x="164" y="219"/>
                  <a:pt x="164" y="219"/>
                </a:cubicBezTo>
                <a:cubicBezTo>
                  <a:pt x="169" y="166"/>
                  <a:pt x="171" y="120"/>
                  <a:pt x="189" y="71"/>
                </a:cubicBezTo>
                <a:cubicBezTo>
                  <a:pt x="179" y="7"/>
                  <a:pt x="182" y="0"/>
                  <a:pt x="123" y="14"/>
                </a:cubicBezTo>
                <a:cubicBezTo>
                  <a:pt x="87" y="48"/>
                  <a:pt x="115" y="15"/>
                  <a:pt x="98" y="96"/>
                </a:cubicBezTo>
                <a:cubicBezTo>
                  <a:pt x="95" y="109"/>
                  <a:pt x="87" y="162"/>
                  <a:pt x="57" y="162"/>
                </a:cubicBezTo>
                <a:cubicBezTo>
                  <a:pt x="51" y="162"/>
                  <a:pt x="57" y="151"/>
                  <a:pt x="57" y="14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0" action="ppaction://hlinksldjump"/>
          </p:cNvPr>
          <p:cNvSpPr/>
          <p:nvPr/>
        </p:nvSpPr>
        <p:spPr>
          <a:xfrm>
            <a:off x="1254240" y="2390760"/>
            <a:ext cx="2141280" cy="473040"/>
          </a:xfrm>
          <a:custGeom>
            <a:avLst/>
            <a:gdLst/>
            <a:ahLst/>
            <a:rect l="l" t="t" r="r" b="b"/>
            <a:pathLst>
              <a:path w="1349" h="298">
                <a:moveTo>
                  <a:pt x="90" y="296"/>
                </a:moveTo>
                <a:cubicBezTo>
                  <a:pt x="31" y="289"/>
                  <a:pt x="17" y="298"/>
                  <a:pt x="0" y="247"/>
                </a:cubicBezTo>
                <a:cubicBezTo>
                  <a:pt x="27" y="136"/>
                  <a:pt x="105" y="194"/>
                  <a:pt x="247" y="189"/>
                </a:cubicBezTo>
                <a:cubicBezTo>
                  <a:pt x="289" y="175"/>
                  <a:pt x="265" y="185"/>
                  <a:pt x="321" y="148"/>
                </a:cubicBezTo>
                <a:cubicBezTo>
                  <a:pt x="337" y="137"/>
                  <a:pt x="350" y="116"/>
                  <a:pt x="370" y="115"/>
                </a:cubicBezTo>
                <a:cubicBezTo>
                  <a:pt x="406" y="112"/>
                  <a:pt x="441" y="110"/>
                  <a:pt x="477" y="107"/>
                </a:cubicBezTo>
                <a:cubicBezTo>
                  <a:pt x="522" y="77"/>
                  <a:pt x="567" y="34"/>
                  <a:pt x="617" y="16"/>
                </a:cubicBezTo>
                <a:cubicBezTo>
                  <a:pt x="805" y="31"/>
                  <a:pt x="739" y="40"/>
                  <a:pt x="987" y="49"/>
                </a:cubicBezTo>
                <a:cubicBezTo>
                  <a:pt x="1089" y="58"/>
                  <a:pt x="1144" y="67"/>
                  <a:pt x="1259" y="49"/>
                </a:cubicBezTo>
                <a:cubicBezTo>
                  <a:pt x="1276" y="46"/>
                  <a:pt x="1303" y="7"/>
                  <a:pt x="1325" y="0"/>
                </a:cubicBezTo>
                <a:cubicBezTo>
                  <a:pt x="1330" y="8"/>
                  <a:pt x="1340" y="15"/>
                  <a:pt x="1341" y="25"/>
                </a:cubicBezTo>
                <a:cubicBezTo>
                  <a:pt x="1349" y="129"/>
                  <a:pt x="1324" y="113"/>
                  <a:pt x="1242" y="123"/>
                </a:cubicBezTo>
                <a:cubicBezTo>
                  <a:pt x="1199" y="137"/>
                  <a:pt x="1154" y="134"/>
                  <a:pt x="1111" y="148"/>
                </a:cubicBezTo>
                <a:cubicBezTo>
                  <a:pt x="1015" y="145"/>
                  <a:pt x="919" y="148"/>
                  <a:pt x="823" y="140"/>
                </a:cubicBezTo>
                <a:cubicBezTo>
                  <a:pt x="815" y="139"/>
                  <a:pt x="813" y="127"/>
                  <a:pt x="806" y="123"/>
                </a:cubicBezTo>
                <a:cubicBezTo>
                  <a:pt x="790" y="114"/>
                  <a:pt x="774" y="106"/>
                  <a:pt x="757" y="99"/>
                </a:cubicBezTo>
                <a:cubicBezTo>
                  <a:pt x="718" y="81"/>
                  <a:pt x="674" y="72"/>
                  <a:pt x="634" y="57"/>
                </a:cubicBezTo>
                <a:cubicBezTo>
                  <a:pt x="595" y="64"/>
                  <a:pt x="581" y="57"/>
                  <a:pt x="559" y="90"/>
                </a:cubicBezTo>
                <a:cubicBezTo>
                  <a:pt x="546" y="109"/>
                  <a:pt x="546" y="146"/>
                  <a:pt x="518" y="156"/>
                </a:cubicBezTo>
                <a:cubicBezTo>
                  <a:pt x="482" y="169"/>
                  <a:pt x="441" y="168"/>
                  <a:pt x="403" y="173"/>
                </a:cubicBezTo>
                <a:cubicBezTo>
                  <a:pt x="333" y="196"/>
                  <a:pt x="300" y="214"/>
                  <a:pt x="222" y="222"/>
                </a:cubicBezTo>
                <a:cubicBezTo>
                  <a:pt x="171" y="255"/>
                  <a:pt x="171" y="255"/>
                  <a:pt x="99" y="263"/>
                </a:cubicBezTo>
                <a:cubicBezTo>
                  <a:pt x="81" y="269"/>
                  <a:pt x="50" y="276"/>
                  <a:pt x="58" y="288"/>
                </a:cubicBezTo>
                <a:cubicBezTo>
                  <a:pt x="64" y="297"/>
                  <a:pt x="79" y="293"/>
                  <a:pt x="90" y="2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1" action="ppaction://hlinksldjump"/>
          </p:cNvPr>
          <p:cNvSpPr/>
          <p:nvPr/>
        </p:nvSpPr>
        <p:spPr>
          <a:xfrm>
            <a:off x="2422440" y="2127240"/>
            <a:ext cx="817560" cy="211320"/>
          </a:xfrm>
          <a:custGeom>
            <a:avLst/>
            <a:gdLst/>
            <a:ahLst/>
            <a:rect l="l" t="t" r="r" b="b"/>
            <a:pathLst>
              <a:path w="515" h="133">
                <a:moveTo>
                  <a:pt x="70" y="133"/>
                </a:moveTo>
                <a:cubicBezTo>
                  <a:pt x="59" y="122"/>
                  <a:pt x="44" y="114"/>
                  <a:pt x="37" y="100"/>
                </a:cubicBezTo>
                <a:cubicBezTo>
                  <a:pt x="29" y="85"/>
                  <a:pt x="21" y="51"/>
                  <a:pt x="21" y="51"/>
                </a:cubicBezTo>
                <a:cubicBezTo>
                  <a:pt x="51" y="4"/>
                  <a:pt x="70" y="19"/>
                  <a:pt x="128" y="26"/>
                </a:cubicBezTo>
                <a:cubicBezTo>
                  <a:pt x="213" y="53"/>
                  <a:pt x="311" y="28"/>
                  <a:pt x="399" y="18"/>
                </a:cubicBezTo>
                <a:cubicBezTo>
                  <a:pt x="448" y="0"/>
                  <a:pt x="455" y="2"/>
                  <a:pt x="515" y="9"/>
                </a:cubicBezTo>
                <a:cubicBezTo>
                  <a:pt x="495" y="38"/>
                  <a:pt x="463" y="82"/>
                  <a:pt x="432" y="100"/>
                </a:cubicBezTo>
                <a:cubicBezTo>
                  <a:pt x="403" y="117"/>
                  <a:pt x="358" y="123"/>
                  <a:pt x="325" y="133"/>
                </a:cubicBezTo>
                <a:cubicBezTo>
                  <a:pt x="58" y="125"/>
                  <a:pt x="0" y="63"/>
                  <a:pt x="70" y="133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2" action="ppaction://hlinksldjump"/>
          </p:cNvPr>
          <p:cNvSpPr/>
          <p:nvPr/>
        </p:nvSpPr>
        <p:spPr>
          <a:xfrm>
            <a:off x="3473280" y="1959120"/>
            <a:ext cx="746280" cy="352440"/>
          </a:xfrm>
          <a:custGeom>
            <a:avLst/>
            <a:gdLst/>
            <a:ahLst/>
            <a:rect l="l" t="t" r="r" b="b"/>
            <a:pathLst>
              <a:path w="470" h="222">
                <a:moveTo>
                  <a:pt x="42" y="0"/>
                </a:moveTo>
                <a:cubicBezTo>
                  <a:pt x="0" y="15"/>
                  <a:pt x="1" y="45"/>
                  <a:pt x="17" y="91"/>
                </a:cubicBezTo>
                <a:cubicBezTo>
                  <a:pt x="27" y="120"/>
                  <a:pt x="89" y="134"/>
                  <a:pt x="108" y="140"/>
                </a:cubicBezTo>
                <a:cubicBezTo>
                  <a:pt x="116" y="143"/>
                  <a:pt x="132" y="148"/>
                  <a:pt x="132" y="148"/>
                </a:cubicBezTo>
                <a:cubicBezTo>
                  <a:pt x="182" y="198"/>
                  <a:pt x="207" y="200"/>
                  <a:pt x="272" y="222"/>
                </a:cubicBezTo>
                <a:cubicBezTo>
                  <a:pt x="369" y="210"/>
                  <a:pt x="314" y="212"/>
                  <a:pt x="379" y="190"/>
                </a:cubicBezTo>
                <a:cubicBezTo>
                  <a:pt x="417" y="199"/>
                  <a:pt x="441" y="202"/>
                  <a:pt x="470" y="173"/>
                </a:cubicBezTo>
                <a:cubicBezTo>
                  <a:pt x="438" y="125"/>
                  <a:pt x="392" y="120"/>
                  <a:pt x="338" y="107"/>
                </a:cubicBezTo>
                <a:cubicBezTo>
                  <a:pt x="327" y="110"/>
                  <a:pt x="314" y="108"/>
                  <a:pt x="305" y="115"/>
                </a:cubicBezTo>
                <a:cubicBezTo>
                  <a:pt x="298" y="120"/>
                  <a:pt x="305" y="138"/>
                  <a:pt x="297" y="140"/>
                </a:cubicBezTo>
                <a:cubicBezTo>
                  <a:pt x="287" y="143"/>
                  <a:pt x="280" y="130"/>
                  <a:pt x="272" y="124"/>
                </a:cubicBezTo>
                <a:cubicBezTo>
                  <a:pt x="249" y="106"/>
                  <a:pt x="244" y="93"/>
                  <a:pt x="215" y="83"/>
                </a:cubicBezTo>
                <a:cubicBezTo>
                  <a:pt x="202" y="70"/>
                  <a:pt x="197" y="50"/>
                  <a:pt x="182" y="41"/>
                </a:cubicBezTo>
                <a:cubicBezTo>
                  <a:pt x="167" y="32"/>
                  <a:pt x="132" y="25"/>
                  <a:pt x="132" y="25"/>
                </a:cubicBezTo>
                <a:cubicBezTo>
                  <a:pt x="121" y="17"/>
                  <a:pt x="99" y="0"/>
                  <a:pt x="83" y="0"/>
                </a:cubicBezTo>
                <a:cubicBezTo>
                  <a:pt x="39" y="0"/>
                  <a:pt x="42" y="25"/>
                  <a:pt x="42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3" action="ppaction://hlinksldjump"/>
          </p:cNvPr>
          <p:cNvSpPr/>
          <p:nvPr/>
        </p:nvSpPr>
        <p:spPr>
          <a:xfrm>
            <a:off x="4113360" y="1871640"/>
            <a:ext cx="276120" cy="244440"/>
          </a:xfrm>
          <a:custGeom>
            <a:avLst/>
            <a:gdLst/>
            <a:ahLst/>
            <a:rect l="l" t="t" r="r" b="b"/>
            <a:pathLst>
              <a:path w="174" h="154">
                <a:moveTo>
                  <a:pt x="141" y="154"/>
                </a:moveTo>
                <a:cubicBezTo>
                  <a:pt x="89" y="137"/>
                  <a:pt x="50" y="110"/>
                  <a:pt x="9" y="72"/>
                </a:cubicBezTo>
                <a:cubicBezTo>
                  <a:pt x="26" y="0"/>
                  <a:pt x="0" y="2"/>
                  <a:pt x="83" y="14"/>
                </a:cubicBezTo>
                <a:cubicBezTo>
                  <a:pt x="110" y="41"/>
                  <a:pt x="130" y="69"/>
                  <a:pt x="157" y="96"/>
                </a:cubicBezTo>
                <a:cubicBezTo>
                  <a:pt x="163" y="102"/>
                  <a:pt x="174" y="113"/>
                  <a:pt x="174" y="113"/>
                </a:cubicBezTo>
                <a:cubicBezTo>
                  <a:pt x="171" y="124"/>
                  <a:pt x="173" y="137"/>
                  <a:pt x="166" y="146"/>
                </a:cubicBezTo>
                <a:cubicBezTo>
                  <a:pt x="161" y="153"/>
                  <a:pt x="141" y="154"/>
                  <a:pt x="141" y="15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4" action="ppaction://hlinksldjump"/>
          </p:cNvPr>
          <p:cNvSpPr/>
          <p:nvPr/>
        </p:nvSpPr>
        <p:spPr>
          <a:xfrm>
            <a:off x="3187800" y="1803240"/>
            <a:ext cx="2100240" cy="1627200"/>
          </a:xfrm>
          <a:custGeom>
            <a:avLst/>
            <a:gdLst/>
            <a:ahLst/>
            <a:rect l="l" t="t" r="r" b="b"/>
            <a:pathLst>
              <a:path w="1323" h="1025">
                <a:moveTo>
                  <a:pt x="148" y="49"/>
                </a:moveTo>
                <a:cubicBezTo>
                  <a:pt x="138" y="113"/>
                  <a:pt x="115" y="176"/>
                  <a:pt x="49" y="197"/>
                </a:cubicBezTo>
                <a:cubicBezTo>
                  <a:pt x="41" y="205"/>
                  <a:pt x="29" y="211"/>
                  <a:pt x="24" y="222"/>
                </a:cubicBezTo>
                <a:cubicBezTo>
                  <a:pt x="2" y="272"/>
                  <a:pt x="0" y="374"/>
                  <a:pt x="57" y="395"/>
                </a:cubicBezTo>
                <a:cubicBezTo>
                  <a:pt x="74" y="392"/>
                  <a:pt x="90" y="384"/>
                  <a:pt x="107" y="386"/>
                </a:cubicBezTo>
                <a:cubicBezTo>
                  <a:pt x="115" y="387"/>
                  <a:pt x="138" y="434"/>
                  <a:pt x="148" y="444"/>
                </a:cubicBezTo>
                <a:cubicBezTo>
                  <a:pt x="169" y="511"/>
                  <a:pt x="153" y="513"/>
                  <a:pt x="230" y="526"/>
                </a:cubicBezTo>
                <a:cubicBezTo>
                  <a:pt x="244" y="540"/>
                  <a:pt x="267" y="548"/>
                  <a:pt x="271" y="567"/>
                </a:cubicBezTo>
                <a:cubicBezTo>
                  <a:pt x="286" y="636"/>
                  <a:pt x="293" y="729"/>
                  <a:pt x="370" y="757"/>
                </a:cubicBezTo>
                <a:cubicBezTo>
                  <a:pt x="393" y="789"/>
                  <a:pt x="410" y="783"/>
                  <a:pt x="444" y="798"/>
                </a:cubicBezTo>
                <a:cubicBezTo>
                  <a:pt x="509" y="826"/>
                  <a:pt x="576" y="840"/>
                  <a:pt x="642" y="864"/>
                </a:cubicBezTo>
                <a:cubicBezTo>
                  <a:pt x="652" y="879"/>
                  <a:pt x="667" y="889"/>
                  <a:pt x="675" y="905"/>
                </a:cubicBezTo>
                <a:cubicBezTo>
                  <a:pt x="695" y="946"/>
                  <a:pt x="693" y="994"/>
                  <a:pt x="740" y="1012"/>
                </a:cubicBezTo>
                <a:cubicBezTo>
                  <a:pt x="899" y="977"/>
                  <a:pt x="668" y="1025"/>
                  <a:pt x="1102" y="995"/>
                </a:cubicBezTo>
                <a:cubicBezTo>
                  <a:pt x="1120" y="994"/>
                  <a:pt x="1134" y="977"/>
                  <a:pt x="1152" y="971"/>
                </a:cubicBezTo>
                <a:cubicBezTo>
                  <a:pt x="1204" y="916"/>
                  <a:pt x="1121" y="1011"/>
                  <a:pt x="1176" y="839"/>
                </a:cubicBezTo>
                <a:cubicBezTo>
                  <a:pt x="1187" y="806"/>
                  <a:pt x="1216" y="799"/>
                  <a:pt x="1242" y="789"/>
                </a:cubicBezTo>
                <a:cubicBezTo>
                  <a:pt x="1263" y="769"/>
                  <a:pt x="1281" y="758"/>
                  <a:pt x="1308" y="748"/>
                </a:cubicBezTo>
                <a:cubicBezTo>
                  <a:pt x="1323" y="703"/>
                  <a:pt x="1320" y="702"/>
                  <a:pt x="1275" y="691"/>
                </a:cubicBezTo>
                <a:cubicBezTo>
                  <a:pt x="1250" y="652"/>
                  <a:pt x="1269" y="602"/>
                  <a:pt x="1242" y="567"/>
                </a:cubicBezTo>
                <a:cubicBezTo>
                  <a:pt x="1230" y="552"/>
                  <a:pt x="1201" y="526"/>
                  <a:pt x="1201" y="526"/>
                </a:cubicBezTo>
                <a:cubicBezTo>
                  <a:pt x="1188" y="487"/>
                  <a:pt x="1157" y="449"/>
                  <a:pt x="1127" y="419"/>
                </a:cubicBezTo>
                <a:cubicBezTo>
                  <a:pt x="1101" y="366"/>
                  <a:pt x="1109" y="351"/>
                  <a:pt x="1094" y="288"/>
                </a:cubicBezTo>
                <a:cubicBezTo>
                  <a:pt x="1087" y="261"/>
                  <a:pt x="1062" y="233"/>
                  <a:pt x="1053" y="205"/>
                </a:cubicBezTo>
                <a:cubicBezTo>
                  <a:pt x="949" y="238"/>
                  <a:pt x="966" y="521"/>
                  <a:pt x="1086" y="559"/>
                </a:cubicBezTo>
                <a:cubicBezTo>
                  <a:pt x="1116" y="590"/>
                  <a:pt x="1145" y="622"/>
                  <a:pt x="1168" y="658"/>
                </a:cubicBezTo>
                <a:cubicBezTo>
                  <a:pt x="1159" y="685"/>
                  <a:pt x="1145" y="705"/>
                  <a:pt x="1135" y="732"/>
                </a:cubicBezTo>
                <a:cubicBezTo>
                  <a:pt x="1132" y="751"/>
                  <a:pt x="1132" y="770"/>
                  <a:pt x="1127" y="789"/>
                </a:cubicBezTo>
                <a:cubicBezTo>
                  <a:pt x="1124" y="801"/>
                  <a:pt x="1114" y="810"/>
                  <a:pt x="1111" y="822"/>
                </a:cubicBezTo>
                <a:cubicBezTo>
                  <a:pt x="1097" y="878"/>
                  <a:pt x="1115" y="899"/>
                  <a:pt x="1069" y="929"/>
                </a:cubicBezTo>
                <a:cubicBezTo>
                  <a:pt x="954" y="917"/>
                  <a:pt x="848" y="887"/>
                  <a:pt x="732" y="880"/>
                </a:cubicBezTo>
                <a:cubicBezTo>
                  <a:pt x="723" y="865"/>
                  <a:pt x="708" y="854"/>
                  <a:pt x="699" y="839"/>
                </a:cubicBezTo>
                <a:cubicBezTo>
                  <a:pt x="694" y="832"/>
                  <a:pt x="695" y="822"/>
                  <a:pt x="691" y="814"/>
                </a:cubicBezTo>
                <a:cubicBezTo>
                  <a:pt x="670" y="770"/>
                  <a:pt x="622" y="722"/>
                  <a:pt x="576" y="707"/>
                </a:cubicBezTo>
                <a:cubicBezTo>
                  <a:pt x="467" y="724"/>
                  <a:pt x="564" y="736"/>
                  <a:pt x="411" y="724"/>
                </a:cubicBezTo>
                <a:cubicBezTo>
                  <a:pt x="403" y="684"/>
                  <a:pt x="398" y="669"/>
                  <a:pt x="370" y="641"/>
                </a:cubicBezTo>
                <a:cubicBezTo>
                  <a:pt x="352" y="587"/>
                  <a:pt x="356" y="518"/>
                  <a:pt x="312" y="477"/>
                </a:cubicBezTo>
                <a:cubicBezTo>
                  <a:pt x="309" y="458"/>
                  <a:pt x="309" y="438"/>
                  <a:pt x="304" y="419"/>
                </a:cubicBezTo>
                <a:cubicBezTo>
                  <a:pt x="290" y="370"/>
                  <a:pt x="206" y="344"/>
                  <a:pt x="164" y="337"/>
                </a:cubicBezTo>
                <a:cubicBezTo>
                  <a:pt x="148" y="326"/>
                  <a:pt x="131" y="315"/>
                  <a:pt x="115" y="304"/>
                </a:cubicBezTo>
                <a:cubicBezTo>
                  <a:pt x="106" y="298"/>
                  <a:pt x="117" y="280"/>
                  <a:pt x="123" y="271"/>
                </a:cubicBezTo>
                <a:cubicBezTo>
                  <a:pt x="133" y="255"/>
                  <a:pt x="166" y="250"/>
                  <a:pt x="181" y="246"/>
                </a:cubicBezTo>
                <a:cubicBezTo>
                  <a:pt x="192" y="214"/>
                  <a:pt x="179" y="198"/>
                  <a:pt x="189" y="164"/>
                </a:cubicBezTo>
                <a:cubicBezTo>
                  <a:pt x="194" y="148"/>
                  <a:pt x="205" y="115"/>
                  <a:pt x="205" y="115"/>
                </a:cubicBezTo>
                <a:cubicBezTo>
                  <a:pt x="202" y="79"/>
                  <a:pt x="208" y="42"/>
                  <a:pt x="197" y="8"/>
                </a:cubicBezTo>
                <a:cubicBezTo>
                  <a:pt x="194" y="0"/>
                  <a:pt x="181" y="12"/>
                  <a:pt x="173" y="16"/>
                </a:cubicBezTo>
                <a:cubicBezTo>
                  <a:pt x="143" y="31"/>
                  <a:pt x="148" y="25"/>
                  <a:pt x="148" y="4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5" action="ppaction://hlinksldjump"/>
          </p:cNvPr>
          <p:cNvSpPr/>
          <p:nvPr/>
        </p:nvSpPr>
        <p:spPr>
          <a:xfrm>
            <a:off x="3840120" y="2116080"/>
            <a:ext cx="952560" cy="822240"/>
          </a:xfrm>
          <a:custGeom>
            <a:avLst/>
            <a:gdLst/>
            <a:ahLst/>
            <a:rect l="l" t="t" r="r" b="b"/>
            <a:pathLst>
              <a:path w="600" h="518">
                <a:moveTo>
                  <a:pt x="66" y="518"/>
                </a:moveTo>
                <a:cubicBezTo>
                  <a:pt x="52" y="515"/>
                  <a:pt x="37" y="518"/>
                  <a:pt x="25" y="510"/>
                </a:cubicBezTo>
                <a:cubicBezTo>
                  <a:pt x="0" y="494"/>
                  <a:pt x="31" y="448"/>
                  <a:pt x="41" y="436"/>
                </a:cubicBezTo>
                <a:cubicBezTo>
                  <a:pt x="80" y="388"/>
                  <a:pt x="138" y="365"/>
                  <a:pt x="173" y="313"/>
                </a:cubicBezTo>
                <a:cubicBezTo>
                  <a:pt x="180" y="252"/>
                  <a:pt x="176" y="227"/>
                  <a:pt x="222" y="189"/>
                </a:cubicBezTo>
                <a:cubicBezTo>
                  <a:pt x="236" y="178"/>
                  <a:pt x="248" y="164"/>
                  <a:pt x="264" y="156"/>
                </a:cubicBezTo>
                <a:cubicBezTo>
                  <a:pt x="279" y="148"/>
                  <a:pt x="313" y="140"/>
                  <a:pt x="313" y="140"/>
                </a:cubicBezTo>
                <a:cubicBezTo>
                  <a:pt x="328" y="124"/>
                  <a:pt x="333" y="116"/>
                  <a:pt x="354" y="107"/>
                </a:cubicBezTo>
                <a:cubicBezTo>
                  <a:pt x="370" y="100"/>
                  <a:pt x="403" y="91"/>
                  <a:pt x="403" y="91"/>
                </a:cubicBezTo>
                <a:cubicBezTo>
                  <a:pt x="414" y="94"/>
                  <a:pt x="426" y="94"/>
                  <a:pt x="436" y="99"/>
                </a:cubicBezTo>
                <a:cubicBezTo>
                  <a:pt x="454" y="108"/>
                  <a:pt x="486" y="132"/>
                  <a:pt x="486" y="132"/>
                </a:cubicBezTo>
                <a:cubicBezTo>
                  <a:pt x="540" y="117"/>
                  <a:pt x="517" y="120"/>
                  <a:pt x="502" y="74"/>
                </a:cubicBezTo>
                <a:cubicBezTo>
                  <a:pt x="511" y="45"/>
                  <a:pt x="527" y="25"/>
                  <a:pt x="543" y="0"/>
                </a:cubicBezTo>
                <a:cubicBezTo>
                  <a:pt x="600" y="18"/>
                  <a:pt x="576" y="2"/>
                  <a:pt x="576" y="115"/>
                </a:cubicBezTo>
                <a:cubicBezTo>
                  <a:pt x="576" y="178"/>
                  <a:pt x="579" y="198"/>
                  <a:pt x="527" y="214"/>
                </a:cubicBezTo>
                <a:cubicBezTo>
                  <a:pt x="508" y="211"/>
                  <a:pt x="488" y="212"/>
                  <a:pt x="469" y="206"/>
                </a:cubicBezTo>
                <a:cubicBezTo>
                  <a:pt x="443" y="198"/>
                  <a:pt x="430" y="174"/>
                  <a:pt x="403" y="165"/>
                </a:cubicBezTo>
                <a:cubicBezTo>
                  <a:pt x="350" y="182"/>
                  <a:pt x="320" y="190"/>
                  <a:pt x="264" y="198"/>
                </a:cubicBezTo>
                <a:cubicBezTo>
                  <a:pt x="254" y="225"/>
                  <a:pt x="243" y="236"/>
                  <a:pt x="222" y="255"/>
                </a:cubicBezTo>
                <a:cubicBezTo>
                  <a:pt x="204" y="312"/>
                  <a:pt x="218" y="292"/>
                  <a:pt x="189" y="321"/>
                </a:cubicBezTo>
                <a:cubicBezTo>
                  <a:pt x="179" y="351"/>
                  <a:pt x="177" y="382"/>
                  <a:pt x="165" y="411"/>
                </a:cubicBezTo>
                <a:cubicBezTo>
                  <a:pt x="162" y="418"/>
                  <a:pt x="153" y="422"/>
                  <a:pt x="148" y="428"/>
                </a:cubicBezTo>
                <a:cubicBezTo>
                  <a:pt x="136" y="444"/>
                  <a:pt x="115" y="477"/>
                  <a:pt x="115" y="477"/>
                </a:cubicBezTo>
                <a:cubicBezTo>
                  <a:pt x="103" y="516"/>
                  <a:pt x="99" y="502"/>
                  <a:pt x="66" y="51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6" action="ppaction://hlinksldjump"/>
          </p:cNvPr>
          <p:cNvSpPr/>
          <p:nvPr/>
        </p:nvSpPr>
        <p:spPr>
          <a:xfrm>
            <a:off x="4343400" y="2508120"/>
            <a:ext cx="423720" cy="736560"/>
          </a:xfrm>
          <a:custGeom>
            <a:avLst/>
            <a:gdLst/>
            <a:ahLst/>
            <a:rect l="l" t="t" r="r" b="b"/>
            <a:pathLst>
              <a:path w="267" h="464">
                <a:moveTo>
                  <a:pt x="4" y="370"/>
                </a:moveTo>
                <a:cubicBezTo>
                  <a:pt x="30" y="452"/>
                  <a:pt x="73" y="438"/>
                  <a:pt x="160" y="444"/>
                </a:cubicBezTo>
                <a:cubicBezTo>
                  <a:pt x="223" y="464"/>
                  <a:pt x="196" y="406"/>
                  <a:pt x="226" y="370"/>
                </a:cubicBezTo>
                <a:cubicBezTo>
                  <a:pt x="232" y="362"/>
                  <a:pt x="243" y="359"/>
                  <a:pt x="251" y="354"/>
                </a:cubicBezTo>
                <a:cubicBezTo>
                  <a:pt x="267" y="303"/>
                  <a:pt x="239" y="226"/>
                  <a:pt x="210" y="181"/>
                </a:cubicBezTo>
                <a:cubicBezTo>
                  <a:pt x="206" y="110"/>
                  <a:pt x="229" y="25"/>
                  <a:pt x="152" y="0"/>
                </a:cubicBezTo>
                <a:cubicBezTo>
                  <a:pt x="108" y="15"/>
                  <a:pt x="117" y="25"/>
                  <a:pt x="128" y="66"/>
                </a:cubicBezTo>
                <a:cubicBezTo>
                  <a:pt x="131" y="115"/>
                  <a:pt x="131" y="165"/>
                  <a:pt x="136" y="214"/>
                </a:cubicBezTo>
                <a:cubicBezTo>
                  <a:pt x="139" y="246"/>
                  <a:pt x="167" y="281"/>
                  <a:pt x="177" y="313"/>
                </a:cubicBezTo>
                <a:cubicBezTo>
                  <a:pt x="167" y="344"/>
                  <a:pt x="159" y="352"/>
                  <a:pt x="128" y="362"/>
                </a:cubicBezTo>
                <a:cubicBezTo>
                  <a:pt x="90" y="356"/>
                  <a:pt x="50" y="345"/>
                  <a:pt x="12" y="362"/>
                </a:cubicBezTo>
                <a:cubicBezTo>
                  <a:pt x="4" y="366"/>
                  <a:pt x="10" y="381"/>
                  <a:pt x="4" y="387"/>
                </a:cubicBezTo>
                <a:cubicBezTo>
                  <a:pt x="0" y="391"/>
                  <a:pt x="4" y="376"/>
                  <a:pt x="4" y="37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7" action="ppaction://hlinksldjump"/>
          </p:cNvPr>
          <p:cNvSpPr/>
          <p:nvPr/>
        </p:nvSpPr>
        <p:spPr>
          <a:xfrm>
            <a:off x="4707000" y="3400560"/>
            <a:ext cx="479520" cy="563400"/>
          </a:xfrm>
          <a:custGeom>
            <a:avLst/>
            <a:gdLst/>
            <a:ahLst/>
            <a:rect l="l" t="t" r="r" b="b"/>
            <a:pathLst>
              <a:path w="302" h="355">
                <a:moveTo>
                  <a:pt x="228" y="22"/>
                </a:moveTo>
                <a:cubicBezTo>
                  <a:pt x="222" y="17"/>
                  <a:pt x="219" y="7"/>
                  <a:pt x="211" y="6"/>
                </a:cubicBezTo>
                <a:cubicBezTo>
                  <a:pt x="178" y="0"/>
                  <a:pt x="143" y="49"/>
                  <a:pt x="129" y="71"/>
                </a:cubicBezTo>
                <a:cubicBezTo>
                  <a:pt x="110" y="132"/>
                  <a:pt x="84" y="136"/>
                  <a:pt x="22" y="146"/>
                </a:cubicBezTo>
                <a:cubicBezTo>
                  <a:pt x="17" y="154"/>
                  <a:pt x="7" y="160"/>
                  <a:pt x="6" y="170"/>
                </a:cubicBezTo>
                <a:cubicBezTo>
                  <a:pt x="0" y="213"/>
                  <a:pt x="75" y="271"/>
                  <a:pt x="112" y="277"/>
                </a:cubicBezTo>
                <a:cubicBezTo>
                  <a:pt x="137" y="281"/>
                  <a:pt x="162" y="282"/>
                  <a:pt x="187" y="285"/>
                </a:cubicBezTo>
                <a:cubicBezTo>
                  <a:pt x="217" y="317"/>
                  <a:pt x="204" y="335"/>
                  <a:pt x="252" y="351"/>
                </a:cubicBezTo>
                <a:cubicBezTo>
                  <a:pt x="266" y="348"/>
                  <a:pt x="286" y="355"/>
                  <a:pt x="294" y="343"/>
                </a:cubicBezTo>
                <a:cubicBezTo>
                  <a:pt x="302" y="331"/>
                  <a:pt x="292" y="314"/>
                  <a:pt x="285" y="302"/>
                </a:cubicBezTo>
                <a:cubicBezTo>
                  <a:pt x="268" y="272"/>
                  <a:pt x="194" y="244"/>
                  <a:pt x="162" y="236"/>
                </a:cubicBezTo>
                <a:cubicBezTo>
                  <a:pt x="131" y="207"/>
                  <a:pt x="143" y="199"/>
                  <a:pt x="178" y="187"/>
                </a:cubicBezTo>
                <a:cubicBezTo>
                  <a:pt x="209" y="156"/>
                  <a:pt x="228" y="66"/>
                  <a:pt x="228" y="2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38" action="ppaction://hlinksldjump"/>
          </p:cNvPr>
          <p:cNvSpPr/>
          <p:nvPr/>
        </p:nvSpPr>
        <p:spPr>
          <a:xfrm>
            <a:off x="4976640" y="2147760"/>
            <a:ext cx="395640" cy="700200"/>
          </a:xfrm>
          <a:custGeom>
            <a:avLst/>
            <a:gdLst/>
            <a:ahLst/>
            <a:rect l="l" t="t" r="r" b="b"/>
            <a:pathLst>
              <a:path w="249" h="441">
                <a:moveTo>
                  <a:pt x="173" y="441"/>
                </a:moveTo>
                <a:cubicBezTo>
                  <a:pt x="145" y="413"/>
                  <a:pt x="157" y="409"/>
                  <a:pt x="181" y="383"/>
                </a:cubicBezTo>
                <a:cubicBezTo>
                  <a:pt x="170" y="367"/>
                  <a:pt x="159" y="350"/>
                  <a:pt x="148" y="334"/>
                </a:cubicBezTo>
                <a:cubicBezTo>
                  <a:pt x="117" y="288"/>
                  <a:pt x="167" y="290"/>
                  <a:pt x="99" y="268"/>
                </a:cubicBezTo>
                <a:cubicBezTo>
                  <a:pt x="86" y="256"/>
                  <a:pt x="67" y="250"/>
                  <a:pt x="58" y="235"/>
                </a:cubicBezTo>
                <a:cubicBezTo>
                  <a:pt x="49" y="220"/>
                  <a:pt x="53" y="199"/>
                  <a:pt x="41" y="186"/>
                </a:cubicBezTo>
                <a:cubicBezTo>
                  <a:pt x="18" y="162"/>
                  <a:pt x="29" y="175"/>
                  <a:pt x="8" y="145"/>
                </a:cubicBezTo>
                <a:cubicBezTo>
                  <a:pt x="11" y="112"/>
                  <a:pt x="0" y="0"/>
                  <a:pt x="58" y="54"/>
                </a:cubicBezTo>
                <a:cubicBezTo>
                  <a:pt x="66" y="103"/>
                  <a:pt x="65" y="119"/>
                  <a:pt x="99" y="153"/>
                </a:cubicBezTo>
                <a:cubicBezTo>
                  <a:pt x="113" y="195"/>
                  <a:pt x="123" y="176"/>
                  <a:pt x="156" y="202"/>
                </a:cubicBezTo>
                <a:cubicBezTo>
                  <a:pt x="173" y="216"/>
                  <a:pt x="177" y="224"/>
                  <a:pt x="189" y="243"/>
                </a:cubicBezTo>
                <a:cubicBezTo>
                  <a:pt x="201" y="308"/>
                  <a:pt x="249" y="381"/>
                  <a:pt x="189" y="441"/>
                </a:cubicBezTo>
                <a:cubicBezTo>
                  <a:pt x="160" y="420"/>
                  <a:pt x="161" y="415"/>
                  <a:pt x="173" y="44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39" action="ppaction://hlinksldjump"/>
          </p:cNvPr>
          <p:cNvSpPr/>
          <p:nvPr/>
        </p:nvSpPr>
        <p:spPr>
          <a:xfrm>
            <a:off x="5178600" y="2443320"/>
            <a:ext cx="395280" cy="547560"/>
          </a:xfrm>
          <a:custGeom>
            <a:avLst/>
            <a:gdLst/>
            <a:ahLst/>
            <a:rect l="l" t="t" r="r" b="b"/>
            <a:pathLst>
              <a:path w="249" h="345">
                <a:moveTo>
                  <a:pt x="136" y="66"/>
                </a:moveTo>
                <a:cubicBezTo>
                  <a:pt x="124" y="27"/>
                  <a:pt x="119" y="14"/>
                  <a:pt x="161" y="0"/>
                </a:cubicBezTo>
                <a:cubicBezTo>
                  <a:pt x="249" y="21"/>
                  <a:pt x="214" y="96"/>
                  <a:pt x="202" y="189"/>
                </a:cubicBezTo>
                <a:cubicBezTo>
                  <a:pt x="200" y="207"/>
                  <a:pt x="182" y="220"/>
                  <a:pt x="178" y="238"/>
                </a:cubicBezTo>
                <a:cubicBezTo>
                  <a:pt x="167" y="286"/>
                  <a:pt x="179" y="280"/>
                  <a:pt x="153" y="312"/>
                </a:cubicBezTo>
                <a:cubicBezTo>
                  <a:pt x="139" y="329"/>
                  <a:pt x="131" y="333"/>
                  <a:pt x="112" y="345"/>
                </a:cubicBezTo>
                <a:cubicBezTo>
                  <a:pt x="71" y="339"/>
                  <a:pt x="49" y="340"/>
                  <a:pt x="21" y="312"/>
                </a:cubicBezTo>
                <a:cubicBezTo>
                  <a:pt x="0" y="249"/>
                  <a:pt x="75" y="266"/>
                  <a:pt x="120" y="255"/>
                </a:cubicBezTo>
                <a:cubicBezTo>
                  <a:pt x="164" y="187"/>
                  <a:pt x="143" y="172"/>
                  <a:pt x="136" y="6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0" action="ppaction://hlinksldjump"/>
          </p:cNvPr>
          <p:cNvSpPr/>
          <p:nvPr/>
        </p:nvSpPr>
        <p:spPr>
          <a:xfrm>
            <a:off x="5068800" y="3021120"/>
            <a:ext cx="239760" cy="218880"/>
          </a:xfrm>
          <a:custGeom>
            <a:avLst/>
            <a:gdLst/>
            <a:ahLst/>
            <a:rect l="l" t="t" r="r" b="b"/>
            <a:pathLst>
              <a:path w="151" h="138">
                <a:moveTo>
                  <a:pt x="140" y="138"/>
                </a:moveTo>
                <a:cubicBezTo>
                  <a:pt x="77" y="127"/>
                  <a:pt x="35" y="109"/>
                  <a:pt x="0" y="55"/>
                </a:cubicBezTo>
                <a:cubicBezTo>
                  <a:pt x="3" y="44"/>
                  <a:pt x="1" y="31"/>
                  <a:pt x="8" y="22"/>
                </a:cubicBezTo>
                <a:cubicBezTo>
                  <a:pt x="26" y="0"/>
                  <a:pt x="71" y="24"/>
                  <a:pt x="90" y="31"/>
                </a:cubicBezTo>
                <a:cubicBezTo>
                  <a:pt x="107" y="47"/>
                  <a:pt x="123" y="64"/>
                  <a:pt x="140" y="80"/>
                </a:cubicBezTo>
                <a:cubicBezTo>
                  <a:pt x="151" y="115"/>
                  <a:pt x="140" y="106"/>
                  <a:pt x="140" y="13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1" action="ppaction://hlinksldjump"/>
          </p:cNvPr>
          <p:cNvSpPr/>
          <p:nvPr/>
        </p:nvSpPr>
        <p:spPr>
          <a:xfrm>
            <a:off x="5343480" y="3225960"/>
            <a:ext cx="477720" cy="196560"/>
          </a:xfrm>
          <a:custGeom>
            <a:avLst/>
            <a:gdLst/>
            <a:ahLst/>
            <a:rect l="l" t="t" r="r" b="b"/>
            <a:pathLst>
              <a:path w="301" h="124">
                <a:moveTo>
                  <a:pt x="16" y="66"/>
                </a:moveTo>
                <a:cubicBezTo>
                  <a:pt x="3" y="27"/>
                  <a:pt x="0" y="15"/>
                  <a:pt x="41" y="0"/>
                </a:cubicBezTo>
                <a:cubicBezTo>
                  <a:pt x="64" y="16"/>
                  <a:pt x="79" y="33"/>
                  <a:pt x="106" y="42"/>
                </a:cubicBezTo>
                <a:cubicBezTo>
                  <a:pt x="123" y="48"/>
                  <a:pt x="156" y="58"/>
                  <a:pt x="156" y="58"/>
                </a:cubicBezTo>
                <a:cubicBezTo>
                  <a:pt x="209" y="53"/>
                  <a:pt x="262" y="69"/>
                  <a:pt x="279" y="17"/>
                </a:cubicBezTo>
                <a:cubicBezTo>
                  <a:pt x="301" y="85"/>
                  <a:pt x="277" y="85"/>
                  <a:pt x="238" y="124"/>
                </a:cubicBezTo>
                <a:cubicBezTo>
                  <a:pt x="230" y="121"/>
                  <a:pt x="222" y="117"/>
                  <a:pt x="213" y="116"/>
                </a:cubicBezTo>
                <a:cubicBezTo>
                  <a:pt x="175" y="111"/>
                  <a:pt x="136" y="114"/>
                  <a:pt x="98" y="107"/>
                </a:cubicBezTo>
                <a:cubicBezTo>
                  <a:pt x="89" y="105"/>
                  <a:pt x="83" y="95"/>
                  <a:pt x="74" y="91"/>
                </a:cubicBezTo>
                <a:cubicBezTo>
                  <a:pt x="11" y="64"/>
                  <a:pt x="38" y="90"/>
                  <a:pt x="16" y="6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2" action="ppaction://hlinksldjump"/>
          </p:cNvPr>
          <p:cNvSpPr/>
          <p:nvPr/>
        </p:nvSpPr>
        <p:spPr>
          <a:xfrm>
            <a:off x="5264280" y="3305160"/>
            <a:ext cx="744480" cy="284040"/>
          </a:xfrm>
          <a:custGeom>
            <a:avLst/>
            <a:gdLst/>
            <a:ahLst/>
            <a:rect l="l" t="t" r="r" b="b"/>
            <a:pathLst>
              <a:path w="469" h="179">
                <a:moveTo>
                  <a:pt x="0" y="25"/>
                </a:moveTo>
                <a:cubicBezTo>
                  <a:pt x="13" y="62"/>
                  <a:pt x="16" y="134"/>
                  <a:pt x="66" y="140"/>
                </a:cubicBezTo>
                <a:cubicBezTo>
                  <a:pt x="123" y="147"/>
                  <a:pt x="181" y="145"/>
                  <a:pt x="239" y="148"/>
                </a:cubicBezTo>
                <a:cubicBezTo>
                  <a:pt x="333" y="179"/>
                  <a:pt x="419" y="169"/>
                  <a:pt x="469" y="90"/>
                </a:cubicBezTo>
                <a:cubicBezTo>
                  <a:pt x="445" y="67"/>
                  <a:pt x="434" y="51"/>
                  <a:pt x="403" y="41"/>
                </a:cubicBezTo>
                <a:cubicBezTo>
                  <a:pt x="351" y="54"/>
                  <a:pt x="379" y="43"/>
                  <a:pt x="321" y="82"/>
                </a:cubicBezTo>
                <a:lnTo>
                  <a:pt x="321" y="82"/>
                </a:lnTo>
                <a:cubicBezTo>
                  <a:pt x="291" y="92"/>
                  <a:pt x="261" y="97"/>
                  <a:pt x="231" y="107"/>
                </a:cubicBezTo>
                <a:cubicBezTo>
                  <a:pt x="122" y="100"/>
                  <a:pt x="117" y="118"/>
                  <a:pt x="58" y="57"/>
                </a:cubicBezTo>
                <a:cubicBezTo>
                  <a:pt x="46" y="25"/>
                  <a:pt x="41" y="11"/>
                  <a:pt x="8" y="0"/>
                </a:cubicBezTo>
                <a:cubicBezTo>
                  <a:pt x="5" y="8"/>
                  <a:pt x="0" y="25"/>
                  <a:pt x="0" y="2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9600" y="6021360"/>
            <a:ext cx="58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 najetí kurzorem na mapu a řeky získáte jejich náz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z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824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stojaté přírodní vody je ČR chud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. ledovcová (Šumava 5 jezer – největší a nejhlubší je Černé jezero 40m hloubka a 18,5 ha rozlo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sová j. (v Macoše, v Hranické prop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razená j. (Mladotic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šelinová j. (Tříjezerní slať na Šumavě, Mechová jezírka v Jeseníkách a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333960" cy="2009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7960" y="743040"/>
            <a:ext cx="298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Černé jezero – největší a nejhlubš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zero Šum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3533760" cy="2486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49480" y="6091200"/>
            <a:ext cx="28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ezero Laka – nejmenší a nejvýš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žené jezero Šum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ybní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ování má u nás dávnou tradici (13. – 15. století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el IV. (např. Máchovo je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ém z Pernštejna –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patovický kanál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Pardubic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osef Štěpánek Netolický – Zlatá sto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ub Krčín z Jelčan – založil Novu řeku a náš největší rybník Rožmbe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tabulek nebo mapy zjisti tři nejrozlehlejší rybník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pověď: Rožmberk (489 ha), Horusický rybník (415 ha), Bezdrev (395 ha), Dvořiště (337 h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88000" y="3068640"/>
            <a:ext cx="3887640" cy="3110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8320" y="6165720"/>
            <a:ext cx="36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stava rybníků Lednicko-Valtický are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popředí největší moravský rybník - NESY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1840" y="6165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áchovo je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hradní nádrže – samostatná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78920" y="836640"/>
            <a:ext cx="8642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iš pomocí atlasu přehrady podle účelu a doplň je příklad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tabulek (atlasu) najdi nejrozlehlejší, nejhlubší a nejobjemnější přehra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pově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chranný – Slezská Harta, hydroenergetický – Dlouhé Stráně, závlahový – Nové Mlýny, vodárenský – Švih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rozlehlejší – Lipno I. (4870ha), nejhlubší – Orlík (74 m), nejobjemnější – Orlík (716 mil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8360" y="3833640"/>
            <a:ext cx="453564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00760" y="63817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lík na Vltav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zemní v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é podzemní vody jsou nejvíce zastoupeny v sedimentech České tabule a dále pak ve čtvrtohorních sedimentech větších řek. (viz. at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ální vody jsou u nás velmi čast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ělení podle teploty: chladné (do 25 °C), teplé (do 50 °C) – Teplice, Velké Losiny, horké (nad 50 °C) – Karlovy 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32000" y="3357720"/>
            <a:ext cx="2376720" cy="316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79560" y="5948280"/>
            <a:ext cx="273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rlovarské Vřídlo je nejteplejš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erální pramen v ČR 73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6760" y="6553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ální pohled Z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5:44:10Z</dcterms:created>
  <dc:creator>jj</dc:creator>
  <dc:description/>
  <dc:language>en-US</dc:language>
  <cp:lastModifiedBy>jj</cp:lastModifiedBy>
  <dcterms:modified xsi:type="dcterms:W3CDTF">2007-11-15T19:44:28Z</dcterms:modified>
  <cp:revision>29</cp:revision>
  <dc:subject/>
  <dc:title>VODSTVO ČR</dc:title>
</cp:coreProperties>
</file>