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D845-AD0E-43CE-9304-C0ED64A2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3899-F870-4E4C-A6DB-60B3C0CB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85A0-5B3C-478F-A061-6C119E96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4087-C1BE-4401-9E81-E1327AD05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F6D6-5614-484A-893A-B1362701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3045-FC4A-4842-B979-7E5B252E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3501-4438-451E-A52C-AC3389E0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5FA3-29F0-4A74-824D-D7098D7C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ED61-D7CB-47C3-B03D-1421D524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D73F-6A15-49C1-96C7-2E79617A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A2F5-C244-42F4-962E-0761B40D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AD35-3983-43F8-B6A1-9B094EFA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338C-F6EF-4EF2-AE4D-0498FB0C523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cs.wikipedia.org/wiki/Administrativn&#237;_d&#283;len&#237;_&#268;eska" TargetMode="Externa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kolazaskolou.cz/ukazkyModulu/mapa.htm?ac=336673653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ÚZEMNÍ ČLENĚNÍ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345440" cy="430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77640" y="618480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íc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Z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4865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ývoj od roku 1948 do současnos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50560" y="1413000"/>
            <a:ext cx="84978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roku 1948: Čechy , Morava, Slezs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ku 1949:14 kraj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ku 1960: 7krajů a 75 okres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ku 1989: vznik okresu Jesen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ku 2000: 14 kraj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kraje tvoří mezistupeň mezi státem a obcí, odpadl mezistupeň okres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Vyjmenuj všechny kraje a krajská města, ukaž je na mapě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řejnou správu tvoř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/ státní správ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stá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/ územní samospráv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kraje a o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87960" y="6093000"/>
            <a:ext cx="2882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nteraktivní mapa ČR kr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avomoci jednotlivých stupň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raj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hodně pravomocí převzaly od státu, řídí např. školství, zdravotnictví, kultur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dávají nařízení a vyhlášky platné v kra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kres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2003 byly zrušeny, místo nich vznikla síť 200 obcí s rozšířenou pravomocí „tzv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l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kres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- pro větší dostupnost občan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kresy jako statistické jednotky zrušeny neby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základní jednotka samosprávy – zastupitelstvo, starosta /primátor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920" y="404640"/>
            <a:ext cx="5905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dnotky NU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ČR, jakožto člen EU, můž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yužít strukturální fond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rčené pro rozvoj méně rozvinutých regionů (ne celý stát, jen region) - podmínku splňuje celá republika mimo Pra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 vytvořila 5 stupň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územních statistických jednotek (NU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TS 1 – celý stát, … NUTS 5 – ob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jdůležitější pro EU NUTS 2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sí mít 1 milion obyva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TS2 – 8 -  Ostravsko, Střední Morava, Jihovýchod, Severovýchod, Střední Čechy, Jihozápad, Severozápad a Pra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7991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pořádání a rozdělení státních pravomoc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91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i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olený na 5 let, uvažuje se o přímé vol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ákonodárná moc – Parla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terý má dvě ko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laneckou sněmov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00 poslanců volených na 4 ro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á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81 členů volených na 6 let, každé 2 roky se 1/3 obměňu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ýkonná mo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láda s ministerst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átní mo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nezávislé so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vláštní postaven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Čs. Národní banka, Čs. Statistický úřad, Nejvyšší kontrolní úř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23600" y="616572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Schéma politického systému v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908000" y="1773360"/>
            <a:ext cx="217800" cy="1222200"/>
          </a:xfrm>
          <a:prstGeom prst="downArrow">
            <a:avLst>
              <a:gd name="adj1" fmla="val 50000"/>
              <a:gd name="adj2" fmla="val 1402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Politický systém v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6720" y="620640"/>
            <a:ext cx="25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MOC ZÁKONODÁR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09800" y="62064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MOC VÝKON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89440" y="6206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MOC SOUD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6360" y="105264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7800" y="141300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L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1125360"/>
            <a:ext cx="215640" cy="43200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48360" y="1125360"/>
            <a:ext cx="215640" cy="43200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33800" y="148428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Z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61440" y="14842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Á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5640" y="177336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48360" y="1844640"/>
            <a:ext cx="215640" cy="43200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89800" y="22050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MIÉ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8360" y="2565360"/>
            <a:ext cx="215640" cy="43200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58880" y="2924280"/>
            <a:ext cx="18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Ř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4 ministerst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0" y="2133720"/>
            <a:ext cx="26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LNÍ SNĚMOV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oslanecká sněmov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44720" y="2924280"/>
            <a:ext cx="22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NÍ SNĚMOV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ná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16720" y="98100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101080" y="90792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57800" y="134136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ÚSTA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69440" y="1268280"/>
            <a:ext cx="12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JVYŠ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722000" y="2368440"/>
            <a:ext cx="11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RCH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50360" y="3448080"/>
            <a:ext cx="12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AJS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42160" y="450864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RES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101080" y="191628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101080" y="299736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101080" y="407664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692280"/>
            <a:ext cx="576000" cy="217440"/>
          </a:xfrm>
          <a:prstGeom prst="leftRightArrow">
            <a:avLst>
              <a:gd name="adj1" fmla="val 50000"/>
              <a:gd name="adj2" fmla="val 527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4360" y="692280"/>
            <a:ext cx="576360" cy="217440"/>
          </a:xfrm>
          <a:prstGeom prst="leftRightArrow">
            <a:avLst>
              <a:gd name="adj1" fmla="val 50000"/>
              <a:gd name="adj2" fmla="val 527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4237200" y="1315080"/>
            <a:ext cx="441360" cy="8126280"/>
          </a:xfrm>
          <a:custGeom>
            <a:avLst/>
            <a:gdLst>
              <a:gd name="textAreaLeft" fmla="*/ 0 w 441360"/>
              <a:gd name="textAreaRight" fmla="*/ 159480 w 441360"/>
              <a:gd name="textAreaTop" fmla="*/ 211680 h 8126280"/>
              <a:gd name="textAreaBottom" fmla="*/ 7914600 h 812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738"/>
                </a:lnTo>
                <a:cubicBezTo>
                  <a:pt x="10800" y="9638"/>
                  <a:pt x="16200" y="10538"/>
                  <a:pt x="21600" y="10538"/>
                </a:cubicBezTo>
                <a:cubicBezTo>
                  <a:pt x="16200" y="10538"/>
                  <a:pt x="10800" y="11438"/>
                  <a:pt x="10800" y="1233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05080" y="558972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EZÁVISLÉ ORGÁ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835280" y="5950080"/>
            <a:ext cx="144144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2520" y="630864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ČS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00720" y="595008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231600" y="6308640"/>
            <a:ext cx="29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ČESKÁ NÁRODNÍ BAN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65800" y="5950080"/>
            <a:ext cx="93492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1080" y="6308640"/>
            <a:ext cx="33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JVYŠŠÍ KONTROLNÍ ÚŘ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5T20:26:46Z</dcterms:created>
  <dc:creator>kk</dc:creator>
  <dc:description/>
  <dc:language>en-US</dc:language>
  <cp:lastModifiedBy>jj</cp:lastModifiedBy>
  <dcterms:modified xsi:type="dcterms:W3CDTF">2009-01-11T18:34:38Z</dcterms:modified>
  <cp:revision>13</cp:revision>
  <dc:subject/>
  <dc:title>ÚZEMNÍ ČLENĚNÍ</dc:title>
</cp:coreProperties>
</file>