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734-3042-4FCE-AE6E-B9918399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772-5872-4E19-8C6C-4F2CCF62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77EF-E664-4AB6-8915-3E29D5F3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B2E-9817-44F5-AF80-E3D6D943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1008-CA2B-48D8-BA83-163CDC13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DB4C-26CF-4102-ADC0-3A0FEA36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E506-05B7-4F99-B1A8-1B2E6D1E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EC18-1932-42D1-B3DF-894EBD49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A506-8116-4B56-8275-C641138E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CAA8-74F9-492A-BFEA-F8CE4F5F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06F-4136-4042-9C17-AC0D2343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5072-1914-42C6-90A1-297D3970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5DAE-0AEE-41BB-BA0A-0DB21A583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stecký kraj - procvič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plň chybějící poj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7561080" cy="505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743240" y="1413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743240" y="1773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440" y="450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50160" y="2276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9440" y="285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26000" y="366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13440" y="479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4520" y="465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61440" y="35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1800" y="29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50880" y="4797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6880" y="36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89440" y="27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6160" y="378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4221000"/>
            <a:ext cx="792360" cy="936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5157720"/>
            <a:ext cx="288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360" y="6165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94880" y="580536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last pěstování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2360" y="6329520"/>
            <a:ext cx="499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ké CHKO a NP se nachází v Ústeckém kraj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lň k obrázkům poj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lešovka, Porta Bohemica, Bílina, Pravčická brá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3132000" cy="234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24360" y="4289400"/>
            <a:ext cx="3167280" cy="2568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859280" y="1989000"/>
            <a:ext cx="3068640" cy="2122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258920" y="4365720"/>
            <a:ext cx="309708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iřaď k městům poj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rez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uchc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í nad Lab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omu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p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toměř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tvín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ada Č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mencové je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riánský kostel, autod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áz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finerie r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TUZA, Mariánský 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vnost a židovské gh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chodně zde žil Giacomo Casan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ktový ú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Ústeckém kraji probíhá povrchová těžba hnědého uhlí. Krajina po těžbě získala zcela jiný ráz. Celá oblast musí procházet složitou obnovou krajiny – REKULTIVAC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šim úkolem je navrhnout obnovu krajiny (rekultivaci) po ukončení těžby hnědého uhl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ečné shr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stecký kraj je jedna z nejprůmyslovějších oblastí ČR (těžební průmysl – hnědé uhlí, tepelné elektrárny, chemický průmysl) a díky tomu patří tato oblast k nejhustěji osídleným a nejvíce poškozeným přírodním oblastem Č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atecko a Lounsko, které leží ve stínu Krušných hor, patří k významné chmelařské oblasti Č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6913440" cy="5249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372000" y="1988640"/>
            <a:ext cx="2592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– Nechra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– Děč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– Ústí n. Lab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 – Chomu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 – Žat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 – Lou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7 – Litoměř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 – Tep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9 – Krušné h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 – České         Středohoř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37800" y="12682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Ří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155736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ešov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3645000"/>
            <a:ext cx="720720" cy="936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4581360"/>
            <a:ext cx="28764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59280" y="5589720"/>
            <a:ext cx="23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62160" y="522936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last pěstování chm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0" y="6491160"/>
            <a:ext cx="69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KO Labské pískovce, České středohoří a NP České Švýcarsk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9:50:38Z</dcterms:created>
  <dc:creator>jj</dc:creator>
  <dc:description/>
  <dc:language>en-US</dc:language>
  <cp:lastModifiedBy>jj</cp:lastModifiedBy>
  <dcterms:modified xsi:type="dcterms:W3CDTF">2008-03-27T19:57:06Z</dcterms:modified>
  <cp:revision>11</cp:revision>
  <dc:subject/>
  <dc:title>Ústecký kraj - procvičování</dc:title>
</cp:coreProperties>
</file>