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C36-F306-47CC-A7F9-E4885377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0A9-69CD-4F03-AE54-A5F5EE7E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3BA-B386-4096-B972-28365E21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D70-3089-4C91-A956-F8A6A228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224-07DC-496F-A0EF-770B3D73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B36-2711-4466-A5C3-0AFD9C5B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4DF-118E-47A0-9FF4-FB420DDC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98A-11FD-4C3F-909E-996964FA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2DC-0083-4964-B35C-9AF1915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A49-C224-4FB8-AD11-18422DCA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E2B-57D7-4A6F-A1B4-9A1581FA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DCC-131C-490E-93A4-AD4735B1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BD2C-86A4-4D68-84F1-E5B999CE4A9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Šumavská sub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ůstatky horského ledov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583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um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Části šumavské sub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ský les – Čerchov (1042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českoleské podhůří – Chebský vrch (679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rubská vrchovina – Kameňák (751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umava – Plechý (1378 m – nejvyšší bod subprovinc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umavské podhůří – Libín (1096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ohradské hory – Kamenec (1072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ohradské podhůří – Kohout (870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um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á prudší spád do Německa (zde najdeme i nejvyšší horu Šumavy Gross Arber – 1456 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oří se táhne od Všerubského průsmyku po Dolní Dvořiště v délce 140 k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yšší části: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Jezerní hora (pod ní Čertovo a Černé jezero) – Černá hora (pod ní pramen Teplé Vltavy) – Plechý (pod ním Plešné jezer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d roku 1991 – Šumavský národní par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Boubínský prales, Jezerní slať, Povydří atd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umavské podhůří – Kleť – meteorologická sta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vohradské h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(větší část leží v Rakousku) najdeme zde nejstarší chráněnou oblast Č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ŽOFÍNSKÝ P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lechý            Kle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54480" y="1628640"/>
            <a:ext cx="3989520" cy="5229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2068800">
            <a:off x="2842920" y="1125360"/>
            <a:ext cx="576360" cy="36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918800">
            <a:off x="6372000" y="1125360"/>
            <a:ext cx="576000" cy="36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4465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Černé je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16000" y="2708280"/>
            <a:ext cx="4038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Čertovo je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45080" y="3841920"/>
            <a:ext cx="5398920" cy="3016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068800">
            <a:off x="4140000" y="907560"/>
            <a:ext cx="57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68800">
            <a:off x="6516360" y="342900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31669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72000" y="764640"/>
            <a:ext cx="2089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ub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1280" y="4365720"/>
            <a:ext cx="19540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ezerní sla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98920" y="2698920"/>
            <a:ext cx="5545080" cy="415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89440" cy="3003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84720" y="907920"/>
            <a:ext cx="43200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4724280"/>
            <a:ext cx="47160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4653000"/>
            <a:ext cx="208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lt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59640" y="4365360"/>
            <a:ext cx="1450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vil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5840" cy="345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35640" y="0"/>
            <a:ext cx="4608360" cy="3459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124000" y="2968560"/>
            <a:ext cx="2624040" cy="388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4168800">
            <a:off x="971640" y="386028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3716280"/>
            <a:ext cx="485640" cy="647640"/>
          </a:xfrm>
          <a:prstGeom prst="up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8:00:05Z</dcterms:created>
  <dc:creator>jj</dc:creator>
  <dc:description/>
  <dc:language>en-US</dc:language>
  <cp:lastModifiedBy>jj</cp:lastModifiedBy>
  <dcterms:modified xsi:type="dcterms:W3CDTF">2007-10-18T20:17:50Z</dcterms:modified>
  <cp:revision>5</cp:revision>
  <dc:subject/>
  <dc:title>Šumavská subprovincie</dc:title>
</cp:coreProperties>
</file>