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EB1-2A57-485B-8F90-8A3A5BDC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165-93A1-4531-96D5-B1C580BF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088-F20E-4E53-B6B3-31D8E9C3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032-36B7-4D5B-80CB-008D5CD5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F4C-02F6-49C4-858A-ED8F46D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945-CF68-45B1-9D5C-1A7EC8C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962-D0FE-4C26-88B3-496174E3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C16-704F-42D1-A47A-65F3B77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7AF-0B81-4357-B77E-FE6A459F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2AD-5704-4BFE-A563-9DB81B0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315-E3C4-4AB9-A1D8-10A3E9F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1B1-A300-4748-8C22-EEBCF97C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95D7-34F1-4CDA-9447-BA84F5F13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3577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ředopolské níž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4076280"/>
            <a:ext cx="8785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Středoevropské nížiny (provincie) k nám zasahuje subprovincie Středopolské nížiny. Přesněji oblast Slezská nížina (nizina Slaska ). Ta k nám zasahuje celkem Opavská pahorkatina (plochá pahorkatina s pozůstatky čtvrtohorního zalednění). V okolí Opavy, Krnova a pak v Osoblažském výběž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-27000"/>
            <a:ext cx="5562720" cy="32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56360" y="404640"/>
            <a:ext cx="1204920" cy="716040"/>
          </a:xfrm>
          <a:custGeom>
            <a:avLst/>
            <a:gdLst/>
            <a:ahLst/>
            <a:rect l="l" t="t" r="r" b="b"/>
            <a:pathLst>
              <a:path w="759" h="451">
                <a:moveTo>
                  <a:pt x="753" y="232"/>
                </a:moveTo>
                <a:cubicBezTo>
                  <a:pt x="696" y="194"/>
                  <a:pt x="646" y="148"/>
                  <a:pt x="584" y="116"/>
                </a:cubicBezTo>
                <a:cubicBezTo>
                  <a:pt x="528" y="88"/>
                  <a:pt x="459" y="73"/>
                  <a:pt x="398" y="63"/>
                </a:cubicBezTo>
                <a:cubicBezTo>
                  <a:pt x="235" y="68"/>
                  <a:pt x="116" y="0"/>
                  <a:pt x="35" y="116"/>
                </a:cubicBezTo>
                <a:cubicBezTo>
                  <a:pt x="25" y="155"/>
                  <a:pt x="12" y="193"/>
                  <a:pt x="0" y="232"/>
                </a:cubicBezTo>
                <a:cubicBezTo>
                  <a:pt x="10" y="332"/>
                  <a:pt x="6" y="322"/>
                  <a:pt x="62" y="391"/>
                </a:cubicBezTo>
                <a:cubicBezTo>
                  <a:pt x="69" y="399"/>
                  <a:pt x="71" y="411"/>
                  <a:pt x="79" y="418"/>
                </a:cubicBezTo>
                <a:cubicBezTo>
                  <a:pt x="101" y="435"/>
                  <a:pt x="159" y="444"/>
                  <a:pt x="159" y="444"/>
                </a:cubicBezTo>
                <a:cubicBezTo>
                  <a:pt x="327" y="441"/>
                  <a:pt x="496" y="451"/>
                  <a:pt x="664" y="435"/>
                </a:cubicBezTo>
                <a:cubicBezTo>
                  <a:pt x="759" y="426"/>
                  <a:pt x="746" y="275"/>
                  <a:pt x="753" y="23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52360" y="5516640"/>
            <a:ext cx="9467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le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ředoevropská níž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tředopolské níž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lezská níž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Opavská pahorkatina (Almin kopec 31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16:50Z</dcterms:created>
  <dc:creator>jj</dc:creator>
  <dc:description/>
  <dc:language>en-US</dc:language>
  <cp:lastModifiedBy>ulu</cp:lastModifiedBy>
  <dcterms:modified xsi:type="dcterms:W3CDTF">2007-10-29T06:36:35Z</dcterms:modified>
  <cp:revision>4</cp:revision>
  <dc:subject/>
  <dc:title>Středoevropská nížina </dc:title>
</cp:coreProperties>
</file>