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A4C-B831-4058-9B6F-63C40EDC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DFE-D0A3-4133-9EB3-0F4E46BE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DF7-0676-4E9F-A955-2278E3BA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6DA-61BA-4014-97AC-F5569C9C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C5B-2A5D-4267-A059-6AD5192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37D-2D86-4C37-A29A-8D2E7ABE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EE0-118E-4450-A528-50FB6139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5A4-02D9-40F2-AA2B-5B273F0E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CD0-2B6C-4DF7-AF4C-8864ECF8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E95-D485-4D62-98DA-DB37C05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D97-52C5-4134-9145-32BF207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D1D-9C57-4380-855D-4CA5C259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D91D-871E-44CE-8FB8-A4A259261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očeský kra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oplňte názvy k číslům a názvy ř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81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74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564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200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5036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2600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108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6892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944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580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3240" y="6308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Řešení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řaď názvy k objektům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oř, Poděbrady, Karlštejn, Kutná H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81560" cy="311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112536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0328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143680" y="3789360"/>
            <a:ext cx="4000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iřaďte k sobě poj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tná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ěb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ivokl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áz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á Bolesl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34136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PC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ESCO, tabákové 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 Škoda Volksw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ESCO biosférická rezer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radní nádr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ka, vodá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ražděn sv. Václav 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ana (chemický průmy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98100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pojen četnými vazbami (rekreace, hospodářství, historie) s Prah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niká automobilový, strojírenský a chemický průmys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tné jsou zde historické památky (Kutná Hora, Karlštejn, Křivoklát, Lány, Konopiště atd.) a CHK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ředočeský kraj -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53200" y="1268280"/>
            <a:ext cx="289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– Kol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– Měl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– Mladá Bolesl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– Orl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– Švih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– Ber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– B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– L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 – Kokoř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- Karlšte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6048360" cy="436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66360" y="1216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z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59080" y="294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58720" y="4097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áz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4000" y="4673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eli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78720" y="5105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00" y="3665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u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4000" y="150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istika, rekr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HK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5 oblastí: Český ráj, Český kras – Koněpruské jeskyně (koněpruské růže – unikát), Kokořínsko, Křivoklátsko, Bla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istorické objek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štejn - u Bero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řivoklát  - Křivoklátsko - UNE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opiště – u  Beneš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tná Hora – chrám sv. Barbory - UNE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bram – Svatá hora u Příb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třediska rekre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hrady: Orlík, Kamýk, Slapy, Štěchovice, Vrané nad Vltavo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eky: Berounka, Sázava – rekreace, vodáci, ch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třediska průmys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ladá Boleslav – Auto Škoda Volksw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ín- TPCA – a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ladno – hu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ratovice – Spolana (chemick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lupy – Kaučuk (chemick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ěbrady – láz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kovník – prášky na praní, dlaždice, pivovar Krušovice (u Rakovní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oun – hutě, vápno, cementá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bram – uran, dříve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ělník – cukrovar, tepelná elektrá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tná Hora – tab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nešov – Da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šim – zbra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é Popovice - pivo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50:33Z</dcterms:created>
  <dc:creator>kk</dc:creator>
  <dc:description/>
  <dc:language>en-US</dc:language>
  <cp:lastModifiedBy>jj</cp:lastModifiedBy>
  <dcterms:modified xsi:type="dcterms:W3CDTF">2008-03-26T20:18:57Z</dcterms:modified>
  <cp:revision>13</cp:revision>
  <dc:subject/>
  <dc:title>Středočeský kraj</dc:title>
</cp:coreProperties>
</file>