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AF13-F1F1-44DE-A723-E715E223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D334-7E07-4AAF-8B8F-03318D99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5F9B-B522-49E7-9761-8DBEC60F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E940-447C-46F2-B9DB-6DA6E752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A099-7208-41B4-91A2-21CA332C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ED3B-CD36-4504-9974-FA37D6F5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9580-DA9F-46BA-9D3C-27DF8258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B150-BC06-4A10-A110-D286E9FA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5A96-2F45-49B7-96B9-2233784E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812E-F559-4514-ADA0-A2B4970B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E887-0C09-4703-ADA7-3493C972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81A5-CDD0-4361-9CF0-4E5815E9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0D15-F351-4CEE-91AF-B586CE2B4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NĚKARPATSKÉ SNÍŽEN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minulosti zality 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m, které v podobě úzkého p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vu o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valo Českou vy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u od Karp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verský pevninský ledovec pronikl do Moravské brány 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je typická příkopová propadl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Všechny úvaly jsou pokryty nánosem Moravy – ta 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íve tekla př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yškovskou bránu do Dyjsko-svrateckého úvalu; dnešní koryto Moravy vzniklo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ozděj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Ostravské pánvi – 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ka černého uhl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848720" cy="4622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63840" y="604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5240" y="580536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jsko-svratecký ú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5960" y="83664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nomoravský ú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22680" y="4797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škovská brá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5240" y="11970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avská brá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247880" y="24922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travská pán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97000"/>
            <a:ext cx="165564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59640" y="1557360"/>
            <a:ext cx="21744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596360" y="2781360"/>
            <a:ext cx="288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788000" y="4868640"/>
            <a:ext cx="72072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6011640" y="4365360"/>
            <a:ext cx="1368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Západní Vněkarpatské sníženiny</a:t>
            </a: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Dyjsko-svratecký úval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Výho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- 356 m n.m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Hornomoravský úval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Jelení vrch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- 345 m n.m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Vyškovská brána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Na hanácké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- 339 m n.m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ravská brána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Lučická Stráž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- 339 m n.m.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Severní Vněkarpatské sníženin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stravská pánev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Kout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- 333 m n.m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Členění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8:22:55Z</dcterms:created>
  <dc:creator>jj</dc:creator>
  <dc:description/>
  <dc:language>en-US</dc:language>
  <cp:lastModifiedBy>jj</cp:lastModifiedBy>
  <dcterms:modified xsi:type="dcterms:W3CDTF">2007-10-26T20:38:32Z</dcterms:modified>
  <cp:revision>3</cp:revision>
  <dc:subject/>
  <dc:title>VNĚKARPATSKÉ SNÍŽENINY</dc:title>
</cp:coreProperties>
</file>