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60F-539B-4975-9B40-D416B9C2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87A-B843-4F7E-A967-802219C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80B-425C-45FE-BB42-F2C04740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B40-11B3-4619-9FC2-71FECF0E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F29-EEC0-4A1F-8BDB-82D9CFD4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97E-09E0-4FF2-8F8B-CCDE1635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AF4-C091-4A94-BF52-5CF7729B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7F7-BEA3-4CCE-BC2C-5494D0AC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BD6-7309-42A9-8E9A-8842BCA6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332-0A8B-4D54-BADE-58CB324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17C-EE1D-40D3-8530-F5014AD5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CC3-5992-4FC2-8B66-7EA6A22F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FCE5-D8DE-4FC0-B49E-7CA1F5E28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ídl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616360" cy="507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63600" y="630864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pé mapy sídel jsou k dispozici Z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260280"/>
            <a:ext cx="3384720" cy="19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252720" y="-360"/>
            <a:ext cx="939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lň podíl sídel (vesnic a měst) a podíl (městského a venkovského obyvatelst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ový počet obcí v ČR je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větli rozdíly funkcí: starosta, primátor, hejt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uj a vysvětli  pojmy: sídlo, obec, mě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kce města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větli pojmy: urbanizace, suburbanizace, aglomerace, konurb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evně vyznač strukturu velkomě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16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4165560"/>
            <a:ext cx="6840720" cy="200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0" y="6237360"/>
            <a:ext cx="87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hledej a vypiš sídla s více než 50 000 obyvatel, která nepatří mezi krajská mě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39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lň podíl sídel (vesnic a měst) a podíl (městského a venkovského obyvatelst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kový počet obcí v ČR je 6244 z toho 487 měst (ČSÚ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světli rozdíly funkcí: starosta, primátor, hejt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uj a vysvětli  pojmy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ídl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be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mě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ce města: obytná, průmyslová, obchodní, vzdělávací, administrativní, lázeňské, dopravní, rekreační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světli pojmy: urbanizace, suburbanizace, aglomerace, konurb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evně vyznač strukturu velkomě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716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2790720" cy="143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27280" y="2565360"/>
            <a:ext cx="3600360" cy="111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76360" y="5157720"/>
            <a:ext cx="5315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lohy k sídlů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47640" y="712800"/>
            <a:ext cx="590400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854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2:16:18Z</dcterms:created>
  <dc:creator>kk</dc:creator>
  <dc:description/>
  <dc:language>en-US</dc:language>
  <cp:lastModifiedBy>jj</cp:lastModifiedBy>
  <dcterms:modified xsi:type="dcterms:W3CDTF">2009-12-01T20:03:10Z</dcterms:modified>
  <cp:revision>11</cp:revision>
  <dc:subject/>
  <dc:title>Sídla v ČR</dc:title>
</cp:coreProperties>
</file>