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AAC3-D7F2-46E9-9E07-23F2953E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0446-4AE2-491D-B1FE-BA1B8C53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306C-02B4-4CF7-B917-0D33419E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86E5-A175-4085-A0FC-ACBB7E75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3F68-76C7-4632-9B00-876C20DF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5DC9-A132-4625-B759-F59F8773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0440-E51F-43D1-A0E4-FAFBF610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6A3F-058A-46F1-A933-63ACCCF5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77D1-D914-4C00-95AC-B19E8E81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D9F3-5D1A-4BBA-9575-D20E72BE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A5B6-3A49-4097-B173-B353DD9A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BAC0-8D2E-4EDE-87A7-8F913113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C8B0-9EB1-4E21-9F81-B923DFFF3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c/Soil_profil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ůda v Č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lavní zdroj obži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10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ako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5076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ůda vzniká z mateční horniny zvětráváním (chemické, mechanické) a působením organismů (živočichové, rostliny, mikroorganismů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rodnost je závislá na obsahu humusu (viz.obr.: půdní horizon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Soubor:Soil profil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836640"/>
            <a:ext cx="2247840" cy="2743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856120" y="333360"/>
            <a:ext cx="310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ůdní horizonty (najetím na obráze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ískáte více informací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84720" y="981000"/>
            <a:ext cx="230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43760" y="1268280"/>
            <a:ext cx="2244600" cy="532080"/>
          </a:xfrm>
          <a:custGeom>
            <a:avLst/>
            <a:gdLst/>
            <a:ahLst/>
            <a:rect l="l" t="t" r="r" b="b"/>
            <a:pathLst>
              <a:path w="1414" h="335">
                <a:moveTo>
                  <a:pt x="0" y="335"/>
                </a:moveTo>
                <a:cubicBezTo>
                  <a:pt x="369" y="335"/>
                  <a:pt x="738" y="335"/>
                  <a:pt x="1107" y="335"/>
                </a:cubicBezTo>
                <a:lnTo>
                  <a:pt x="1414" y="182"/>
                </a:lnTo>
                <a:lnTo>
                  <a:pt x="1414" y="0"/>
                </a:lnTo>
                <a:lnTo>
                  <a:pt x="1097" y="136"/>
                </a:lnTo>
                <a:lnTo>
                  <a:pt x="8" y="182"/>
                </a:lnTo>
                <a:lnTo>
                  <a:pt x="0" y="33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56360" y="1628640"/>
            <a:ext cx="2232000" cy="1152720"/>
          </a:xfrm>
          <a:custGeom>
            <a:avLst/>
            <a:gdLst/>
            <a:ahLst/>
            <a:rect l="l" t="t" r="r" b="b"/>
            <a:pathLst>
              <a:path w="1406" h="726">
                <a:moveTo>
                  <a:pt x="0" y="136"/>
                </a:moveTo>
                <a:lnTo>
                  <a:pt x="1134" y="136"/>
                </a:lnTo>
                <a:lnTo>
                  <a:pt x="1406" y="0"/>
                </a:lnTo>
                <a:lnTo>
                  <a:pt x="1406" y="544"/>
                </a:lnTo>
                <a:lnTo>
                  <a:pt x="1089" y="680"/>
                </a:lnTo>
                <a:lnTo>
                  <a:pt x="0" y="726"/>
                </a:lnTo>
                <a:lnTo>
                  <a:pt x="0" y="13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56360" y="2565360"/>
            <a:ext cx="2232000" cy="934920"/>
          </a:xfrm>
          <a:custGeom>
            <a:avLst/>
            <a:gdLst/>
            <a:ahLst/>
            <a:rect l="l" t="t" r="r" b="b"/>
            <a:pathLst>
              <a:path w="1406" h="589">
                <a:moveTo>
                  <a:pt x="45" y="136"/>
                </a:moveTo>
                <a:lnTo>
                  <a:pt x="1134" y="136"/>
                </a:lnTo>
                <a:lnTo>
                  <a:pt x="1406" y="0"/>
                </a:lnTo>
                <a:lnTo>
                  <a:pt x="1406" y="408"/>
                </a:lnTo>
                <a:lnTo>
                  <a:pt x="1043" y="589"/>
                </a:lnTo>
                <a:lnTo>
                  <a:pt x="0" y="589"/>
                </a:lnTo>
                <a:lnTo>
                  <a:pt x="45" y="13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00720" y="4292640"/>
            <a:ext cx="2030400" cy="2111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00720" y="537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08720" y="4292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516720" y="5373720"/>
            <a:ext cx="7920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90520" y="4581360"/>
            <a:ext cx="7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ůd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90360" y="452916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ůd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zd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93800" y="553716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živ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át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012000" y="5589360"/>
            <a:ext cx="576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50040" y="5734080"/>
            <a:ext cx="6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živ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át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70360" y="388152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žení pů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jrozšířenější typy půd 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620280"/>
            <a:ext cx="5148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Černozemě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 nížinách, mocný humusový horizont leží přímo na mateční hornině (spraš), nejúrodnějš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nědozemě a luvizemě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 nízkých pahorkatinách, humusový horizont do 30 cm, mateční hornina spra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Zamokřené půdy (pseudogleje, gleje)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ůdy provlhčené povrchovou nebo podzemní vodou, mateční hornina – jíly, slíny, typická je špatná propustnost (louk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nědé půdy (kambizemě)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 pahorkatinách, vrchovinách a hornatinách, využití pro pastviny a les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Nivní půdy (fluvizemě)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a náplavech velkých řek, lou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zoly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labý vyluhovaný horizont (chudé půdy), jehličnaté les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Rendziny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 krasových oblastech na vápencích, malý humusový horizont s vyšším obsahem skeletu, vhodný pro lesy a lou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76720" y="2133720"/>
            <a:ext cx="1303560" cy="2879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50520" y="496584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Černoz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516720" y="2133720"/>
            <a:ext cx="1123920" cy="2879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445440" y="49417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nědá pů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740720" y="2133720"/>
            <a:ext cx="1222200" cy="2879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885440" y="496584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z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06:08:52Z</dcterms:created>
  <dc:creator>jj</dc:creator>
  <dc:description/>
  <dc:language>en-US</dc:language>
  <cp:lastModifiedBy>jj</cp:lastModifiedBy>
  <dcterms:modified xsi:type="dcterms:W3CDTF">2007-11-27T17:36:05Z</dcterms:modified>
  <cp:revision>7</cp:revision>
  <dc:subject/>
  <dc:title>Snímek 1</dc:title>
</cp:coreProperties>
</file>