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0F6-7555-4429-9A89-32CD6EE2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140-8ADC-4F19-9EE9-0944751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4F3-E9CF-4D0B-8529-3609ED33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649-951A-4D09-BE19-8B02E3FF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6DF-FF0D-4051-928C-4DD11B3B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0EF-0A2E-48BA-9A1D-715BD651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C54-CE8F-414F-9BB3-A006B38E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B7A-721F-4C4F-962B-0105E82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45D-3D13-4910-A0DB-3FAE8738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818-551C-4200-9D68-24AB034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A81-5925-4003-B2C9-1E1F2CF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AEC-B375-4B13-A023-21D4296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FC60-7D24-48A3-96AC-F399020DC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ha z leta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žkov, Hlavní nádraž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zeum, Hlavní nádraž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ohdal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ackého most a námě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ackého a Jiráskův most, Tančící dů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777440" cy="5834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lův 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žský h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šná 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2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žkovský televizní vysíla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37364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šovická rotu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tňany, v popředí Kbelská ulice, vlevo Obchodní centrum Letň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ršovická rotunda, nádraží, vrch Bohdal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5834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ršovice, vpravo nedokončené obchodní centrum u Slavie, vlevo stadion Bohem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línské námě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5780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ch Vítk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66424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le bobová dráha na Proseku, vlevo estakáda, v pozadí Sazka Aré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30840" cy="57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zka Aréna, v pozadí kolejiště nádraží Praha- Lib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243000"/>
            <a:ext cx="7775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ísařský ostrov s čističkou odpadních v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426200" cy="590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42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Úřad vlády, Valdštejnský palác, chrám sv. Mikuláše, vpravo Chotkovy sady, za Hradem Černínský palá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705800" cy="5780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oměstské námě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řín s Hladovou zdí, Staroměstské námě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705800" cy="5780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krác, hotel Forum, magistrá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9:13:25Z</dcterms:created>
  <dc:creator>CHODUR</dc:creator>
  <dc:description/>
  <dc:language>en-US</dc:language>
  <cp:lastModifiedBy>jj</cp:lastModifiedBy>
  <dcterms:modified xsi:type="dcterms:W3CDTF">2008-01-08T19:57:40Z</dcterms:modified>
  <cp:revision>10</cp:revision>
  <dc:subject/>
  <dc:title>Něco málo leteckých fotek naší Prahy</dc:title>
</cp:coreProperties>
</file>