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D6D-92C6-4CD2-8C12-588D667A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1D9-2722-486D-9442-3E85DBB2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C5B-87F9-4D43-B072-58F8A48A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662-85AE-4F50-9C72-9EC6C098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F6B-6035-49F2-BAEC-EDD1F40F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D63-73B5-4F35-9B8D-62DB7764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9C3-0330-4D26-8885-14898D04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8D3-6AAB-4C14-8734-2AC3B327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619-3C96-4F5E-A0E5-22CD2C6A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558-544F-4592-98E6-6A72021E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896-E825-4D0E-8448-A61B2C63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6FD-9142-4E3A-9677-397BF94F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C4CC-3188-4E66-A9A7-55E78E1D7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nebí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341360"/>
            <a:ext cx="856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te co je to povětrnostní singularita? Né? Ale určitě znáte některé pojmy z pranostiky? Třeba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dardovské deš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tj. evropský pseudomonzun v červnu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abí lé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tj. tlaková výše ve střední Evropě v září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ánoční oble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říliv teplého vzduchu z jihu v prosinci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doví muž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příliv chladného severního proudění v květnu) atd. ČILI SINGULARITA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 něco, co se vymyká navyklému chodu a řádu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tomto případě počasí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889440" cy="262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7640" y="61848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bí lét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Rozvodněná Blanice, 28. června 2009."/>
          <p:cNvPicPr/>
          <p:nvPr/>
        </p:nvPicPr>
        <p:blipFill>
          <a:blip r:embed="rId2"/>
          <a:stretch/>
        </p:blipFill>
        <p:spPr>
          <a:xfrm>
            <a:off x="4356000" y="3573360"/>
            <a:ext cx="3888000" cy="260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88320" y="623736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ardovs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84360" y="3068640"/>
            <a:ext cx="4680000" cy="3511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ptická mapa pro předpověď poča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0920" y="1249200"/>
            <a:ext cx="3178080" cy="156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772080" y="1146240"/>
            <a:ext cx="5121000" cy="1896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 flipV="1">
            <a:off x="4571640" y="2924280"/>
            <a:ext cx="36036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6084360" y="2923920"/>
            <a:ext cx="574920" cy="23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530064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987280" y="2565360"/>
            <a:ext cx="360360" cy="27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187280" y="2637000"/>
            <a:ext cx="244800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3141720"/>
            <a:ext cx="792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31360" y="620640"/>
            <a:ext cx="413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FÉRICKÉ FRO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jetím na jednotlivé části obrázků získáte více informac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3780000" y="1125360"/>
            <a:ext cx="1655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5580000" y="1197000"/>
            <a:ext cx="165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7" action="ppaction://hlinksldjump"/>
          </p:cNvPr>
          <p:cNvSpPr/>
          <p:nvPr/>
        </p:nvSpPr>
        <p:spPr>
          <a:xfrm>
            <a:off x="7308720" y="1197000"/>
            <a:ext cx="1584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5560" y="765000"/>
            <a:ext cx="26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LAKOVÉ ÚT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jetím na obrázek získáte více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8880" y="64911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ptická m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2050920" y="1484280"/>
            <a:ext cx="13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250920" y="1484280"/>
            <a:ext cx="1657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9640" y="220500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37000"/>
            <a:ext cx="215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10920" y="2637000"/>
            <a:ext cx="215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341360"/>
            <a:ext cx="0" cy="4320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773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843280" y="1773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ktory ovlivňující podnebí v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44276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proměnné fak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eměpisná polo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ČR leží v mírném pásu na rozhraní oceánského a pevninského podnebí) = podnebí mírné přec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iéf a nadmořská výš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xpozice svahů, teplota vzduchu v ČR klesá o 0,61°C na 100 výškových metr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0720" y="691920"/>
            <a:ext cx="46432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Proměnné faktor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větrnostní situace (převládá západní proudění): vývoj počasí u nás ovlivňuje rozložení tlakových center (cyklon a anticyklon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00720" y="2997360"/>
            <a:ext cx="4319280" cy="38574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4344840" y="2828880"/>
            <a:ext cx="1738440" cy="2184480"/>
          </a:xfrm>
          <a:custGeom>
            <a:avLst/>
            <a:gdLst/>
            <a:ahLst/>
            <a:rect l="l" t="t" r="r" b="b"/>
            <a:pathLst>
              <a:path w="1095" h="1376">
                <a:moveTo>
                  <a:pt x="98" y="106"/>
                </a:moveTo>
                <a:cubicBezTo>
                  <a:pt x="53" y="212"/>
                  <a:pt x="0" y="582"/>
                  <a:pt x="98" y="786"/>
                </a:cubicBezTo>
                <a:cubicBezTo>
                  <a:pt x="196" y="990"/>
                  <a:pt x="528" y="1286"/>
                  <a:pt x="687" y="1331"/>
                </a:cubicBezTo>
                <a:cubicBezTo>
                  <a:pt x="846" y="1376"/>
                  <a:pt x="1005" y="1141"/>
                  <a:pt x="1050" y="1058"/>
                </a:cubicBezTo>
                <a:cubicBezTo>
                  <a:pt x="1095" y="975"/>
                  <a:pt x="1072" y="983"/>
                  <a:pt x="959" y="832"/>
                </a:cubicBezTo>
                <a:cubicBezTo>
                  <a:pt x="846" y="681"/>
                  <a:pt x="513" y="264"/>
                  <a:pt x="370" y="151"/>
                </a:cubicBezTo>
                <a:cubicBezTo>
                  <a:pt x="227" y="38"/>
                  <a:pt x="143" y="0"/>
                  <a:pt x="98" y="10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 rot="11892000">
            <a:off x="7380000" y="3357360"/>
            <a:ext cx="1487520" cy="1981080"/>
          </a:xfrm>
          <a:custGeom>
            <a:avLst/>
            <a:gdLst/>
            <a:ahLst/>
            <a:rect l="l" t="t" r="r" b="b"/>
            <a:pathLst>
              <a:path w="937" h="1157">
                <a:moveTo>
                  <a:pt x="521" y="136"/>
                </a:moveTo>
                <a:cubicBezTo>
                  <a:pt x="377" y="249"/>
                  <a:pt x="136" y="651"/>
                  <a:pt x="68" y="817"/>
                </a:cubicBezTo>
                <a:cubicBezTo>
                  <a:pt x="0" y="983"/>
                  <a:pt x="53" y="1111"/>
                  <a:pt x="113" y="1134"/>
                </a:cubicBezTo>
                <a:cubicBezTo>
                  <a:pt x="173" y="1157"/>
                  <a:pt x="295" y="1119"/>
                  <a:pt x="431" y="953"/>
                </a:cubicBezTo>
                <a:cubicBezTo>
                  <a:pt x="567" y="787"/>
                  <a:pt x="923" y="272"/>
                  <a:pt x="930" y="136"/>
                </a:cubicBezTo>
                <a:cubicBezTo>
                  <a:pt x="937" y="0"/>
                  <a:pt x="665" y="23"/>
                  <a:pt x="521" y="1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6637320" y="2852640"/>
            <a:ext cx="1403280" cy="1776600"/>
          </a:xfrm>
          <a:custGeom>
            <a:avLst/>
            <a:gdLst/>
            <a:ahLst/>
            <a:rect l="l" t="t" r="r" b="b"/>
            <a:pathLst>
              <a:path w="884" h="1119">
                <a:moveTo>
                  <a:pt x="60" y="771"/>
                </a:moveTo>
                <a:cubicBezTo>
                  <a:pt x="0" y="930"/>
                  <a:pt x="7" y="1059"/>
                  <a:pt x="60" y="1089"/>
                </a:cubicBezTo>
                <a:cubicBezTo>
                  <a:pt x="113" y="1119"/>
                  <a:pt x="241" y="1112"/>
                  <a:pt x="377" y="953"/>
                </a:cubicBezTo>
                <a:cubicBezTo>
                  <a:pt x="513" y="794"/>
                  <a:pt x="868" y="272"/>
                  <a:pt x="876" y="136"/>
                </a:cubicBezTo>
                <a:cubicBezTo>
                  <a:pt x="884" y="0"/>
                  <a:pt x="559" y="23"/>
                  <a:pt x="423" y="136"/>
                </a:cubicBezTo>
                <a:cubicBezTo>
                  <a:pt x="287" y="249"/>
                  <a:pt x="120" y="612"/>
                  <a:pt x="60" y="77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4500720" y="5072040"/>
            <a:ext cx="2052360" cy="1849320"/>
          </a:xfrm>
          <a:custGeom>
            <a:avLst/>
            <a:gdLst/>
            <a:ahLst/>
            <a:rect l="l" t="t" r="r" b="b"/>
            <a:pathLst>
              <a:path w="1293" h="1165">
                <a:moveTo>
                  <a:pt x="45" y="1006"/>
                </a:moveTo>
                <a:cubicBezTo>
                  <a:pt x="90" y="847"/>
                  <a:pt x="703" y="288"/>
                  <a:pt x="907" y="144"/>
                </a:cubicBezTo>
                <a:cubicBezTo>
                  <a:pt x="1111" y="0"/>
                  <a:pt x="1247" y="68"/>
                  <a:pt x="1270" y="144"/>
                </a:cubicBezTo>
                <a:cubicBezTo>
                  <a:pt x="1293" y="220"/>
                  <a:pt x="1149" y="439"/>
                  <a:pt x="1043" y="598"/>
                </a:cubicBezTo>
                <a:cubicBezTo>
                  <a:pt x="937" y="757"/>
                  <a:pt x="801" y="1029"/>
                  <a:pt x="635" y="1097"/>
                </a:cubicBezTo>
                <a:cubicBezTo>
                  <a:pt x="469" y="1165"/>
                  <a:pt x="0" y="1165"/>
                  <a:pt x="45" y="100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6" action="ppaction://hlinksldjump"/>
          </p:cNvPr>
          <p:cNvSpPr/>
          <p:nvPr/>
        </p:nvSpPr>
        <p:spPr>
          <a:xfrm>
            <a:off x="6576840" y="5048280"/>
            <a:ext cx="2230560" cy="1946160"/>
          </a:xfrm>
          <a:custGeom>
            <a:avLst/>
            <a:gdLst/>
            <a:ahLst/>
            <a:rect l="l" t="t" r="r" b="b"/>
            <a:pathLst>
              <a:path w="1405" h="1226">
                <a:moveTo>
                  <a:pt x="1322" y="1067"/>
                </a:moveTo>
                <a:cubicBezTo>
                  <a:pt x="1239" y="908"/>
                  <a:pt x="468" y="318"/>
                  <a:pt x="279" y="159"/>
                </a:cubicBezTo>
                <a:cubicBezTo>
                  <a:pt x="90" y="0"/>
                  <a:pt x="219" y="76"/>
                  <a:pt x="189" y="114"/>
                </a:cubicBezTo>
                <a:cubicBezTo>
                  <a:pt x="159" y="152"/>
                  <a:pt x="0" y="220"/>
                  <a:pt x="98" y="386"/>
                </a:cubicBezTo>
                <a:cubicBezTo>
                  <a:pt x="196" y="552"/>
                  <a:pt x="566" y="999"/>
                  <a:pt x="778" y="1112"/>
                </a:cubicBezTo>
                <a:cubicBezTo>
                  <a:pt x="990" y="1225"/>
                  <a:pt x="1405" y="1226"/>
                  <a:pt x="1322" y="106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9320" y="2997360"/>
            <a:ext cx="40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ři najetí na vzduchové hmoty získáte více informac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4032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d tep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rozložení teplot má největší vliv nadmořská výška a členitost reliéf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škový teplotní stupe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ČR v lednu o 0,33°C a  o 0,76°C v červenci (v průměru o 0,61°C) na 100 metrů nadmořské výš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zimním období nastávají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lotní inver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kdy se v údolích hromadí těžší studený vzduch a okolní svahy a hřbety jsou teplejš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27280" y="3141720"/>
            <a:ext cx="4716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Teplotní rekordy v Č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jvyšší absolutní teplota: Praha-Uhřiněves (+40,2°C v roce 198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jnižší absolutní teplota: Litvínovice (-42,2°C v roce 192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jvyšší průměrná roční teplota: Hodonín +9,5°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jnižší průměrná roční teplota: Sněžka +0,2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572000" cy="3029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2743200" cy="2733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498000" y="98100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něž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6880" y="1557360"/>
            <a:ext cx="99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Praha-Uhřině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4000" y="26370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Litvíno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32560" y="2779560"/>
            <a:ext cx="5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doní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3457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d sráž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856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ážky u nás rostou s nadmořskou výškou a členitostí reliéfu (návětrná a závětrná strana h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ství u nás značně kolísá (viz. rekordy sráž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924000" y="4076280"/>
            <a:ext cx="5327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Srážkové rekordy v Č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Největší průměrný roční úhrn sráž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ílý Potok 1705 mm (dlouhodobý průmě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Nejmenší průměrný roční úhrn sráž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bědice 410 mm (dlouhodobý průmě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bsolutní maximum srážek za 24 hod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á Louka 345 mm (v roce 18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Nejvíce srážek během roku spadne v létě (asi40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více pak na přelomu července a června. Nej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zimě (asi 15%) sráž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256360" cy="216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3625920" cy="2484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7080" y="5013360"/>
            <a:ext cx="5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Liběd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4603680"/>
            <a:ext cx="55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ílý Poto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42760" y="4748040"/>
            <a:ext cx="61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ová Louk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nebné obla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řes nevelkou rozlohu jsou na našem území zřetelné podnebné rozdíly a ČR můžeme rozdělit do tzv. podnebných oblas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plá obl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o výšek asi 300 m.n.m., průměrná teplota nad 8°C, srážky okolo 600 mm. Polabí, Povltaví, Poohří, úvaly na Mo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írně teplá obl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zahrnuje pahorkatiny a vrchoviny (300-800 m.n.m.), průměrná teplota 5-8 °C, srážky v rozmezí 500-800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ladná obl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zahrnuje vrcholové části vrchovin a hornatin, průměrná teplota nedosahuje 5°C a množství srážek je nad 800 mm (polovina srážek padá ve formě sněh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íce viz. Atlas – klimatické charakteristi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oř klimatodiagram ročního chodu srážek a teplot: Holešova a Lysé hory. Čím se liší, do jaké podnebné oblasti tyto dvě místa patří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3357720"/>
          <a:ext cx="9144000" cy="1788840"/>
        </p:xfrm>
        <a:graphic>
          <a:graphicData uri="http://schemas.openxmlformats.org/drawingml/2006/table">
            <a:tbl>
              <a:tblPr/>
              <a:tblGrid>
                <a:gridCol w="2039760"/>
                <a:gridCol w="681120"/>
                <a:gridCol w="453960"/>
                <a:gridCol w="513000"/>
                <a:gridCol w="544320"/>
                <a:gridCol w="484200"/>
                <a:gridCol w="536760"/>
                <a:gridCol w="557280"/>
                <a:gridCol w="561960"/>
                <a:gridCol w="558720"/>
                <a:gridCol w="444600"/>
                <a:gridCol w="558720"/>
                <a:gridCol w="598320"/>
                <a:gridCol w="611280"/>
              </a:tblGrid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eorologická stani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lešov (teploty 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sá hora (teploty 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lešov (srážky v m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5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sá hora (srážky v m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83400" y="5824440"/>
            <a:ext cx="62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kud potřebujete jiné meteorologické stanice klikněte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8:41:13Z</dcterms:created>
  <dc:creator>jj</dc:creator>
  <dc:description/>
  <dc:language>en-US</dc:language>
  <cp:lastModifiedBy>jj</cp:lastModifiedBy>
  <dcterms:modified xsi:type="dcterms:W3CDTF">2009-10-30T06:36:17Z</dcterms:modified>
  <cp:revision>27</cp:revision>
  <dc:subject/>
  <dc:title>Synoptická mapa</dc:title>
</cp:coreProperties>
</file>