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44F2-24EC-4697-B4A4-1567499EB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30D7-4D45-45B7-8843-259938478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0398-A621-42CC-A501-AD8945B53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E784-5116-4A38-823B-5AD3538A3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010A-8C43-4690-9207-56BEAFCB7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010D-4B21-4E17-87FE-F269B1973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9889-0A45-42FB-86ED-937333573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45B4-9E39-4068-B610-D2E254C67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689F-B1AE-4C96-A776-D5041AA57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4530-ED34-44B1-91F9-3CD647F3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91B5-13B1-4E3D-A29C-97AA7D06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26AA-C442-4F60-A655-36EF90C9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1AB13-8CB6-454C-BC04-B2DF63D2B5B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berounská sub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630828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dna z nejstarších oblastí Českého masivu – Barrandien (prvoh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Soubor:PrahaZTremsina.jpg"/>
          <p:cNvPicPr/>
          <p:nvPr/>
        </p:nvPicPr>
        <p:blipFill>
          <a:blip r:embed="rId1"/>
          <a:stretch/>
        </p:blipFill>
        <p:spPr>
          <a:xfrm>
            <a:off x="900000" y="907920"/>
            <a:ext cx="7056720" cy="5292720"/>
          </a:xfrm>
          <a:prstGeom prst="rect">
            <a:avLst/>
          </a:prstGeom>
          <a:ln w="0">
            <a:noFill/>
          </a:ln>
        </p:spPr>
      </p:pic>
      <p:sp>
        <p:nvSpPr>
          <p:cNvPr id="44" name="TextovéPole 6"/>
          <p:cNvSpPr/>
          <p:nvPr/>
        </p:nvSpPr>
        <p:spPr>
          <a:xfrm>
            <a:off x="6014520" y="907920"/>
            <a:ext cx="189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Vrch Praha v pohoří Br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Části Poberounské subprovinc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Brdská oblas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Džbán (Louštín 537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Pražská plošina (Na rovinách 434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Křivoklátská vrchovina (Radeč 721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Hořovická pahorkatina (Na skále 508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Brdy (Tok 865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Plzeňská pahorkatin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Rakovnická pahorkatina (Lišák 677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Plaská pahorkatina (Plzeňská pahorkatina) (Vlčí hora 704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Švihovská pahorkatina (Koráb 773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aha leží v geomorfologické celku Pražská plošina, kterou významně přeměnila řeka Vltav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jímavou částí je Český kras v Hořovické pahorkatině (vápencová oblast českého masivu) – Koněpruské jeskyně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ěžba kaolínu a keramických jílů (dříve černé uhlí – Kladensko, Plzeňsk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4"/>
          <p:cNvSpPr/>
          <p:nvPr/>
        </p:nvSpPr>
        <p:spPr>
          <a:xfrm>
            <a:off x="0" y="4581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8327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oberounská subprovincie - cel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http://upload.wikimedia.org/wikipedia/commons/thumb/2/22/Poberounska_subprovincie_CZ_I5.png/800px-Poberounska_subprovincie_CZ_I5.png"/>
          <p:cNvPicPr/>
          <p:nvPr/>
        </p:nvPicPr>
        <p:blipFill>
          <a:blip r:embed="rId1"/>
          <a:stretch/>
        </p:blipFill>
        <p:spPr>
          <a:xfrm>
            <a:off x="395280" y="765000"/>
            <a:ext cx="8197920" cy="5104080"/>
          </a:xfrm>
          <a:prstGeom prst="rect">
            <a:avLst/>
          </a:prstGeom>
          <a:ln w="0">
            <a:noFill/>
          </a:ln>
        </p:spPr>
      </p:pic>
      <p:cxnSp>
        <p:nvCxnSpPr>
          <p:cNvPr id="51" name="Přímá spojovací šipka 4"/>
          <p:cNvCxnSpPr/>
          <p:nvPr/>
        </p:nvCxnSpPr>
        <p:spPr>
          <a:xfrm>
            <a:off x="1547280" y="549000"/>
            <a:ext cx="577080" cy="187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2" name="TextovéPole 5"/>
          <p:cNvSpPr/>
          <p:nvPr/>
        </p:nvSpPr>
        <p:spPr>
          <a:xfrm>
            <a:off x="758880" y="404640"/>
            <a:ext cx="181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Rakovnická pahorkat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ovéPole 6"/>
          <p:cNvSpPr/>
          <p:nvPr/>
        </p:nvSpPr>
        <p:spPr>
          <a:xfrm>
            <a:off x="254160" y="1916280"/>
            <a:ext cx="981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laská pa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(Plženská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Přímá spojovací šipka 8"/>
          <p:cNvCxnSpPr/>
          <p:nvPr/>
        </p:nvCxnSpPr>
        <p:spPr>
          <a:xfrm flipV="1">
            <a:off x="971640" y="3573360"/>
            <a:ext cx="721440" cy="1440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5" name="TextovéPole 9"/>
          <p:cNvSpPr/>
          <p:nvPr/>
        </p:nvSpPr>
        <p:spPr>
          <a:xfrm>
            <a:off x="326520" y="4941720"/>
            <a:ext cx="121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Švihovská pa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Přímá spojovací šipka 11"/>
          <p:cNvCxnSpPr/>
          <p:nvPr/>
        </p:nvCxnSpPr>
        <p:spPr>
          <a:xfrm flipH="1" flipV="1">
            <a:off x="2484000" y="3212640"/>
            <a:ext cx="50400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7" name="TextovéPole 12"/>
          <p:cNvSpPr/>
          <p:nvPr/>
        </p:nvSpPr>
        <p:spPr>
          <a:xfrm>
            <a:off x="2774160" y="386064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Br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Přímá spojovací šipka 14"/>
          <p:cNvCxnSpPr/>
          <p:nvPr/>
        </p:nvCxnSpPr>
        <p:spPr>
          <a:xfrm flipH="1">
            <a:off x="3131280" y="2060280"/>
            <a:ext cx="577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TextovéPole 15"/>
          <p:cNvSpPr/>
          <p:nvPr/>
        </p:nvSpPr>
        <p:spPr>
          <a:xfrm>
            <a:off x="3351600" y="1844640"/>
            <a:ext cx="125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ražská ploš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Přímá spojovací šipka 17"/>
          <p:cNvCxnSpPr>
            <a:stCxn id="61" idx="2"/>
          </p:cNvCxnSpPr>
          <p:nvPr/>
        </p:nvCxnSpPr>
        <p:spPr>
          <a:xfrm flipH="1">
            <a:off x="2555640" y="1689120"/>
            <a:ext cx="25920" cy="660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TextovéPole 18"/>
          <p:cNvSpPr/>
          <p:nvPr/>
        </p:nvSpPr>
        <p:spPr>
          <a:xfrm>
            <a:off x="2270520" y="1413000"/>
            <a:ext cx="62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Džbá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Přímá spojovací šipka 20"/>
          <p:cNvCxnSpPr/>
          <p:nvPr/>
        </p:nvCxnSpPr>
        <p:spPr>
          <a:xfrm flipH="1" flipV="1">
            <a:off x="2700000" y="2923920"/>
            <a:ext cx="72000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" name="TextovéPole 21"/>
          <p:cNvSpPr/>
          <p:nvPr/>
        </p:nvSpPr>
        <p:spPr>
          <a:xfrm>
            <a:off x="3135240" y="3213000"/>
            <a:ext cx="170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Hořovická pahorkat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Přímá spojovací šipka 23"/>
          <p:cNvCxnSpPr/>
          <p:nvPr/>
        </p:nvCxnSpPr>
        <p:spPr>
          <a:xfrm>
            <a:off x="1116000" y="2204640"/>
            <a:ext cx="504000" cy="79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5" name="Přímá spojovací šipka 26"/>
          <p:cNvCxnSpPr/>
          <p:nvPr/>
        </p:nvCxnSpPr>
        <p:spPr>
          <a:xfrm flipH="1">
            <a:off x="2699640" y="1700280"/>
            <a:ext cx="577080" cy="937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6" name="TextovéPole 27"/>
          <p:cNvSpPr/>
          <p:nvPr/>
        </p:nvSpPr>
        <p:spPr>
          <a:xfrm>
            <a:off x="3064680" y="148428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Křivoklátská vrchov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1700_03_04"/>
          <p:cNvPicPr/>
          <p:nvPr/>
        </p:nvPicPr>
        <p:blipFill>
          <a:blip r:embed="rId1"/>
          <a:stretch/>
        </p:blipFill>
        <p:spPr>
          <a:xfrm>
            <a:off x="0" y="0"/>
            <a:ext cx="2438280" cy="3524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kon_vyhled"/>
          <p:cNvPicPr/>
          <p:nvPr/>
        </p:nvPicPr>
        <p:blipFill>
          <a:blip r:embed="rId2"/>
          <a:stretch/>
        </p:blipFill>
        <p:spPr>
          <a:xfrm>
            <a:off x="4662360" y="0"/>
            <a:ext cx="4481640" cy="29480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8176680" y="1890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r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obr"/>
          <p:cNvPicPr/>
          <p:nvPr/>
        </p:nvPicPr>
        <p:blipFill>
          <a:blip r:embed="rId3"/>
          <a:stretch/>
        </p:blipFill>
        <p:spPr>
          <a:xfrm>
            <a:off x="4440240" y="3716280"/>
            <a:ext cx="4703760" cy="31417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7"/>
          <p:cNvSpPr/>
          <p:nvPr/>
        </p:nvSpPr>
        <p:spPr>
          <a:xfrm>
            <a:off x="5148360" y="3716280"/>
            <a:ext cx="39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HKO Český kras (těžba vápe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241128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řivoklátsko (CHK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9" descr="http://upload.wikimedia.org/wikipedia/commons/thumb/2/2c/Praha_od_Horom%C4%9B%C5%99ic.jpg/640px-Praha_od_Horom%C4%9B%C5%99ic.jpg"/>
          <p:cNvPicPr/>
          <p:nvPr/>
        </p:nvPicPr>
        <p:blipFill>
          <a:blip r:embed="rId4"/>
          <a:stretch/>
        </p:blipFill>
        <p:spPr>
          <a:xfrm>
            <a:off x="0" y="3699000"/>
            <a:ext cx="4211640" cy="3159000"/>
          </a:xfrm>
          <a:prstGeom prst="rect">
            <a:avLst/>
          </a:prstGeom>
          <a:ln w="0">
            <a:noFill/>
          </a:ln>
        </p:spPr>
      </p:pic>
      <p:sp>
        <p:nvSpPr>
          <p:cNvPr id="74" name="TextovéPole 10"/>
          <p:cNvSpPr/>
          <p:nvPr/>
        </p:nvSpPr>
        <p:spPr>
          <a:xfrm>
            <a:off x="22680" y="3645000"/>
            <a:ext cx="36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ažská plošina (pohled na Prah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5T19:10:32Z</dcterms:created>
  <dc:creator>jj</dc:creator>
  <dc:description/>
  <dc:language>en-US</dc:language>
  <cp:lastModifiedBy>jindra</cp:lastModifiedBy>
  <dcterms:modified xsi:type="dcterms:W3CDTF">2012-09-25T06:02:30Z</dcterms:modified>
  <cp:revision>6</cp:revision>
  <dc:subject/>
  <dc:title>Poberounská subprovincie</dc:title>
</cp:coreProperties>
</file>