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D35-7C8C-4B8A-AA25-B1D09208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FD6-C07F-4133-B2F6-EF753DA0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A4C-CCFE-4B55-8835-445FBC9D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96A-A0B5-49AF-ACD5-76D72938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0BD-2B1A-4701-BCBC-1A0546E3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E35-B92D-49D8-9908-ECB742B9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E04-0F24-4470-BCE7-6FDBAB71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090-670B-43E8-9E64-56032A2D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CF0-2705-493F-A803-2B3EBD2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9C8-3D82-4398-9C52-D9683E7E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CD3-2B40-4998-A1F8-AB80561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8EF-17D3-461F-80FB-653E3982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015A-8C42-43DD-897F-EA9664035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lzeňský kraj - procvičová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číslům doplň chybějící úda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505480" cy="602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6144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86360" y="193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26720" y="488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6000" y="215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380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3440" y="573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02720" y="5896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90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97640" y="510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8000" y="272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35640" y="260280"/>
            <a:ext cx="33940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šení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9200" y="836640"/>
            <a:ext cx="2854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– Berou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– M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– O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 – Hracholu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– Rokyc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 – Železná R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– Šum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 – Český 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 – Jezerní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 - Tach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451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řaďte pojmy a charakteris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um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z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š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ýr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ský 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ado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adov a Folm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ž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9280" y="1341000"/>
            <a:ext cx="428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iské Chod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přec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zené je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, Prazdroj, Západočeská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a zápalek S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ýlové obruby OK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dní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řícenina h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981000"/>
            <a:ext cx="0" cy="587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umava - Národní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í - zřícenina h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zeň - Škoda, Prazdroj, Západočeská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šice - výroba zápalek S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ýrsko - brýlové obruby OK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ský les - CH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adotické - hrazené je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adov a Folmava - hraniční přec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žlice - střediské Chod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9280" y="1341000"/>
            <a:ext cx="428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4076640"/>
            <a:ext cx="3857760" cy="2828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ď k obrázkům názvy a pokus se zjistit více informací -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šperk, Švihov, Kladrubský klášter,  Velká synagoga v Plzni, Ra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920" y="4149720"/>
            <a:ext cx="3495600" cy="176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-36360" y="1484280"/>
            <a:ext cx="3241440" cy="225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796000" y="1341360"/>
            <a:ext cx="3311640" cy="2363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203640" y="2276640"/>
            <a:ext cx="2857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ují zde velké rozdíly v hustotě zalidnění. Hustě je osídleno především kulturní a hospodářské okolí Plzně (Plzeň je 2. největším městem Čech) – strojírenství, potravinářství a pivovarnictv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dce osídleno je především pohraničí (Šumava, Český les) a to díky přírodním podmínkám a poválečnému vývoji (odsun německého obyvatelstva, železná op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8:18:12Z</dcterms:created>
  <dc:creator>jj</dc:creator>
  <dc:description/>
  <dc:language>en-US</dc:language>
  <cp:lastModifiedBy>jj</cp:lastModifiedBy>
  <dcterms:modified xsi:type="dcterms:W3CDTF">2008-03-26T20:24:08Z</dcterms:modified>
  <cp:revision>14</cp:revision>
  <dc:subject/>
  <dc:title>Plzeňský kraj</dc:title>
</cp:coreProperties>
</file>