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728-1673-467E-BB60-2F336DA7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BD3-F2AA-414E-9A6A-45BE6003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753-5243-4E55-8CE6-B9E9058D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6C6-C8FF-4814-83C4-79A48188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A3D-6B51-4F7F-98BE-A7B817F0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5F4-2DE5-4A22-BE47-E0F27F88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243-08EF-45BB-9E01-8BF81733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B42-5394-4F51-83F6-A92018DC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444-07DC-49CE-83E5-9FF1F6CC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59E-F644-4C6D-85F5-270AE276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F0D-84C0-4915-8CE9-7F89AF2B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317-E6D8-4C8C-9906-967D7838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5B12-9863-42FC-9F57-10676C573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indrichpolak.wz.cz/encyklopedie/crnejkraje.php#pardubice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indrichpolak.wz.cz/encyklopedie/crnejkraje.php#pardubice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dubický kraj - procvič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plň chybějící informace do m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309680"/>
            <a:ext cx="86756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jistěte informace o těchto místech a pojme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selý Kope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nětická hor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atovický kaná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lický Sněžní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tomyš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n Pe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960" y="6308640"/>
            <a:ext cx="41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ívej se na NEJ Pardubického kr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ečné 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Kralického Sněžníku (hlavní evropské rozvodí) se území Pardubického kraje svažuje do pahorkatin a Polab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bí je jedna z nejdůležitějších zemědělských oblastí Č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ysl převládá na Pardubicku (chemick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057800" cy="4162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a - řeš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5157360"/>
            <a:ext cx="864072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- Železné h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– Chrudi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 – Lázně Bohdane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- Kralický Sněžní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 – v.n. Seč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 - Hli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- Svita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 – Česká Třeb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- Litomyš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 – Ústí n. Orli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37640" y="43848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i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60920" y="4097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ra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1600" y="33577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rudi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8520" y="1484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03080" y="712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8520" y="549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oká Or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35240" y="134136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há Or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jistěte informace o těchto místech a pojme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selý Kope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ukázka lidového stavitelství z oblasti českomoravského pomezí a Železných h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nětická hor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v rovinaté krajině 7 km od Pardubic vystupuje tato třetihorní vyvřelina 82 m nad okolní terén a tvoří charakteristickou dominantu východočeského Polabí s hradem na jeho vrchol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atovický kaná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významné středověké vodní dílo, které bylo vybudováno v letech 1498 až 1521. Čerpal vodu z Labe a sloužil k napájení rozsáhlé rybniční sítě, kterou založil majitel pardubického panství pan Vilém z Pernštej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lický Sněžník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nejvyšší vrchol (1424 m) stejnojmenného třetího nejvyššího pohoří v České republice, nacházejícího se na státní hranici s Polskem. Pramen řeky Mora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tomyšl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átka UNESCO, rodiště Bedřicha Smet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n Perner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ský vlastenec, projektant a stavitel železničních tratí (19. století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" y="6491160"/>
            <a:ext cx="41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ívej se na NEJ Pardubického kr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01:41Z</dcterms:created>
  <dc:creator>jj</dc:creator>
  <dc:description/>
  <dc:language>en-US</dc:language>
  <cp:lastModifiedBy>jj</cp:lastModifiedBy>
  <dcterms:modified xsi:type="dcterms:W3CDTF">2008-05-18T15:29:56Z</dcterms:modified>
  <cp:revision>12</cp:revision>
  <dc:subject/>
  <dc:title>Pardubický kraj - procvičování</dc:title>
</cp:coreProperties>
</file>