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B0D-94C4-4B05-9A3C-386DA30C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884-8927-485E-8863-D385269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063-821B-4390-A14F-7DFB9A37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68E-D732-4314-8286-FF0932E4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089-2009-4CCC-BD53-A96A37F2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BCA-E1CA-408E-BA68-B19C7759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005-933A-46D8-BAD1-FF0F0D2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1D1-CD7F-4409-9CF1-DB9997BA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EFC-FD40-46B9-BAF3-DA6746B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370-E76F-4F7A-8C97-5E3A8EF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F74-3F8F-45D7-AD28-6464ACB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805-6A84-4BFF-AC6A-BA352F3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6257-4E0C-47EE-8634-0B4625F44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omoucký kraj –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plň do mapy chybějící ú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81720" y="6521400"/>
            <a:ext cx="48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plň názvy jeskyň ležících v Olomouckém kra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465960"/>
            <a:ext cx="505080" cy="39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6156360" cy="580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8652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7692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02720" y="524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252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016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9800" y="263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2160" y="11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34000" y="179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37280" y="344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780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6360" y="215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7440" y="241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lň do mapy chybějící údaje -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84720" y="907560"/>
            <a:ext cx="3059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lomo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stě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Pře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Lit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Šump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Jese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rubý Jese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Nízký Jese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Oderské v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Pradě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Velké Los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329440" cy="529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90160" y="5661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30000" y="5753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9280" y="4889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č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97640" y="3808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60" y="1647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0" y="32130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. Sáz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32000" y="4149360"/>
            <a:ext cx="7189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0" y="41497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ladečské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87280" y="4365720"/>
            <a:ext cx="648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800" y="46530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vořické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284720" y="501300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3600" y="530064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rašov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gonitové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é Strá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tý Kopeč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ká pro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dě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up Nejsvětější Troj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to Wichter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lomoucké tvarů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ncenz Priessnit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6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é Stráně - Přečerpávací vodní elektrárna budována od roku 1978, do provozu uvedena až v roce 1996. Mnohé její objekty jsou ukryty pod zemí, samotná zatopená plocha je pak ohleduplně začleněna do okolní přírod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vatý Kopeček – Svatý Kopeček u Olomouce, poutní místo s barokním chrámem Navštívení Panny Mari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anická propast - nejhlubší propast ve střední Evropě v nevelkém krasovém území Hranický kras. Na dně je "bezedné" jezírko, dosud změřená hloubka dosahuje 329,5 m, sestoupit až na dno se dosud nikomu nepodaři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děd - nejvyšší hora Hrubého Jeseníku a pátá nejvyšší hora České republiky. Na vrcholu stojí 162 m vysoký televizní vysílač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up Nejsvětější Trojice - v Olomouci, velkolepý monument z let 1716-1754. Tzv. morový sloup. Zařazen na seznamu UNES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tto Wichterle - rodák z Prostějova, významný vědec, vynálezce kontaktních čoč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lomoucké tvarůžky - sýr, vyrábí se jen v ČR a pro svou jedinečnou chuť jsou vyhledávanou pochoutkou i mezi tur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ncenz Priessnitz - položil tak základy hydroterapie, je zakladatelem světoznámých lázní Jeseník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 sníženin na jihu (Hornomoravský úval, Moravská brána) se terén zvyšuje do hornatin (Jeseník, Oderské vrchy, Rychlebské hor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trum osídlení leží v hustě zalidněné Hané (Olomouc, Prostějov, Přerov atd.), která má vynikající podmínky pro zemědělstv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růmyslu je nejdůležitější: textilní, strojírenský a potravinář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3:29:39Z</dcterms:created>
  <dc:creator>jj</dc:creator>
  <dc:description/>
  <dc:language>en-US</dc:language>
  <cp:lastModifiedBy>jj</cp:lastModifiedBy>
  <dcterms:modified xsi:type="dcterms:W3CDTF">2008-06-02T20:20:09Z</dcterms:modified>
  <cp:revision>11</cp:revision>
  <dc:subject/>
  <dc:title>Olomoucký kraj – procvičování</dc:title>
</cp:coreProperties>
</file>