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48D-3902-4830-8B64-135E67F1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3AE-77AB-413E-BBBB-1E25B74B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F58-583A-45E0-85D0-497FEF17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5E0-6133-4CEB-8A8E-4E29AEA4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1DF4-C23F-49D6-894F-F764E5F9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84A4-818B-4377-B6AF-D540ED4D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5A51-BD6C-40BE-8279-48C140E7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B79A-1666-42BF-841F-531791C7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994B-0A11-4FB8-B01A-CE42350F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7ED0-80AA-4069-9B54-8FDFA73C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3C88-DADD-4FE5-96BD-53E5833E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780-2909-4EB8-BCFD-1B96E617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089D-F0EF-4442-8680-B9E8BB68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2BE2-533E-405C-A753-D94854E9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F26F-48ED-42F6-905C-50F958C8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0F37-0D73-406B-8B67-DA7D35CB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B883-C330-4764-9E06-2397C1B1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F25-8F84-47A8-A056-BB218D76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31E-A704-4CB7-A000-8F4A68EE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4EC-8388-49DB-9C44-32217CAA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988-764A-42A9-87D5-CC44625E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71F-6AAE-4BEE-8B76-A32AF946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BF6-5D4E-4A44-A3DA-54E4AEC5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2A1-8ED9-44B7-ACBE-94C7665D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848A-D37A-4591-B71B-425C1EAB0F3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CD1A-257A-4D3C-8CD9-2F11D450ED7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ČR V MINIATUŘ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248000" cy="254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306828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YBYCHOM MOHLI ZREDUKOVAT POPULACI ČR NA JEDNU MALOU VESNICI, KTERÁ BY MĚLA PŘESNĚ 100 OBYVATEL, PŘI ZACHOVÁNÍ EXISTUJÍCÍCH PROPORCÍ SOUČASTNOSTI, POTOM BY TO VYPADALO ASI TAK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724360" y="189000"/>
            <a:ext cx="1629000" cy="2592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211640" y="1341360"/>
            <a:ext cx="1297080" cy="71928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8880" y="148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I 10 489 1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843280" y="1484280"/>
            <a:ext cx="29520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148360" y="292428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740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Z NICH BY BY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 MŮŽ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 Ž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ĚTÍ (Z TOHO 8 BY PRÁVĚ CHODILO NA ZÁKLADNÍ ŠKOLU), 71 DOSPĚLÝCH A 15 V DŮCH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DÍTĚ BY SE RODILO A JEDEN ČLOVĚK BY PRÁVĚ UMÍ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 BY BYLO SVOBODNÝCH, 44 ŽENATÝCH, 10 ROZVEDENÝCH A 7 OVDOVĚL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340000" y="3645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916360" y="907560"/>
            <a:ext cx="597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 6 DOSPĚLÍCH BY BYLO NEZAMĚSTNA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MĚLO VYSKOKOŠKOLSKÉ VZDĚLÁNÍ (4 Z NICH S TITULEM ING. A 1 S TITULEM MG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 Z NICH BY MĚLO INTERNET, VE VESNICI BY BYLO 130 MOBILNÍCH TELEFONŮ, 39 AUTOMOBILŮ A 150 KOL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Y BYLY VĚZNĚNI NEBO SOUZ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Ý Z OBČANŮ VESNICE BY VYPIL 186 LITRŮ ALKOHOLU (Z TOHO 160 LITRŮ PIVA) A VYKOUŘIL 117 BALÍČKŮ CIGARET ZA 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28764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000" y="3357720"/>
            <a:ext cx="8101080" cy="31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LIDÍ Z VESNICE BY BYLI CIZIN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 ČESKÉ A 4 MORAVSKÉ NÁRO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ŘÍMSKÝCH KATOLÍKŮ A 59 ATEISTŮ NEBO BEZ VYZNÁNÍ A ZBYTEK JINÉHO VY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5 BY POCHÁZELO ZE ZLÍNSKÉHO KR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07 BY BYLO RODÁKY Z NAPAJEDEL A 12 Z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4896000" cy="322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9:35:34Z</dcterms:created>
  <dc:creator>jj</dc:creator>
  <dc:description/>
  <dc:language>en-US</dc:language>
  <cp:lastModifiedBy>jj</cp:lastModifiedBy>
  <dcterms:modified xsi:type="dcterms:W3CDTF">2009-11-28T21:24:15Z</dcterms:modified>
  <cp:revision>6</cp:revision>
  <dc:subject/>
  <dc:title>ČR V MINIATUŘE</dc:title>
</cp:coreProperties>
</file>