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B2B-0529-4C4D-B272-58DD091D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277D-3D01-45C1-B040-CEF3A2BA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3C0-D414-4EE3-9B0C-EE8EBE2B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18F-61A2-40CC-A64C-A3D9B32B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0591-ACC8-4408-BF57-D56CA8D2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4B2-7820-415C-8744-58534C81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08E5-ECF3-4EB3-A7E1-BD39C5D7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D293-5CD5-4399-86C8-72849505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E80D-F1C8-4E85-BD94-972228E6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60B-21E4-4E14-9F9B-3522955D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9D2-0EB7-465D-99FF-CDA9486A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2B7-B249-4F1D-BBBB-A73E5DD3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A935-2803-4E1C-B133-6885F6DCA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zso.cz/csu/redakce.nsf/i/animovane_grafy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yvatelstvo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4160" y="623736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mované grafy ČS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ostatná práce - zad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le posledních informací ČSÚ žije v ČR ………..obyvatel. Počet obyvatel v posledních letech………, ve společností přibývá počet……….lid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opulaci dětí (předproduktivní věk) je více………., u starších ročníků  (poproduktivní věk) je více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více obyvatel žilo na našem území ve……….(? léta ? století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ůměrná hustota osídlení je ……ob./k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což je pro Evropu střední hustota zalidně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R je jednonárodnostní stát (vytvoř % kruhový graf národností: česká+moravská+slezská, ostatní, slovenská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náboženského vyznání je: 59%........, 27%.........., 9%..........5% ostatní (do této kategorie patří……………………….). Podíl věřících je v ČR ………….než v okolních stát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ostatná práce - řeš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33440" y="3376440"/>
          <a:ext cx="48600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3440" y="3376440"/>
                    <a:ext cx="4860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24000" y="907920"/>
            <a:ext cx="85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le posledních informací ČSÚ žije v ČR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0,22 mil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byvatel. Počet obyvatel v posledních lete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les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e společností přibývá poče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rších lid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d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opulaci dětí (předproduktivní věk) je víc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chlapc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u starších ročníků  (poproduktivní věk) je víc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více obyvatel žilo na našem území v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0. letech 20. stole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ůměrná hustota osídlení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30 ob./ k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což je pro Evropu střední hustota zalidně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R je jednonárodnostní stát (vytvoř % kruhový graf národností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náboženského vyznání je: 59%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ez vyzn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27%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ímskokatol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9%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zjištěn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% ostatní (do této kategorie pat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usitská, evangelická, pravoslavná, židovská, muslims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j.). Podíl věřících je v ČR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n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ž v okolních stát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56000" y="3141720"/>
          <a:ext cx="2879640" cy="22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3141720"/>
                    <a:ext cx="2879640" cy="22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9:41:46Z</dcterms:created>
  <dc:creator>jj</dc:creator>
  <dc:description/>
  <dc:language>en-US</dc:language>
  <cp:lastModifiedBy>jj</cp:lastModifiedBy>
  <dcterms:modified xsi:type="dcterms:W3CDTF">2008-01-03T21:09:16Z</dcterms:modified>
  <cp:revision>2</cp:revision>
  <dc:subject/>
  <dc:title>Obyvatelstvo ČR</dc:title>
</cp:coreProperties>
</file>