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E50B-5218-4BC6-803D-4A767FF03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A1DD-78C1-468B-967A-D3C60BA6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0673-DC80-46D7-89C6-FA21B2833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6F3A-64BC-4F22-B5CE-22AE2D7BE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AD5B-E169-4442-8C49-CDFF0EB8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E683-8BFF-4148-BDE6-BF95BA9B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BECD-7F3C-407E-8506-763B0137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2FE4-D402-42FA-B08E-D948915C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2327-BFF9-4705-BDB5-2503AE90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887C-4540-45F3-B620-B4472CF4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D1DA-EC68-4192-9EE0-AE4733F4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9A6A-CC7E-4965-ACEB-D5586744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850A-0A43-452F-89AB-679966B4D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CHOD A HOSPODÁŘSTV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3886200"/>
            <a:ext cx="8137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zkoušejte si samostatně obchodova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RCHANDI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nto obor se zabývá rozložením zboží v prodejně. Cílem je útočit na zákazníka tak, aby (aniž si to zákazník uvědomuje) si v prodejně nakoupil více zboží, než původně plánov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ňte se na chvíli manažery prodejny a vytvořte merchandising prodejny s potravinami. Porovnejte své strategie navzájem, pokuste se vytvořit jednotnou třídní strategii, porovnejte vaši strategii prodeje se skutečnou prodejnou, kterou znáte z vašeho okol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79640" y="2637000"/>
            <a:ext cx="5545080" cy="40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ÁKUPNÍ ROZHODO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kuste se zamyslet nad tím, jak (by) u vás probíhá (-l ) proces rozhodování při koupi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ního telefonu, počítače, au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yslete si postup u všech 4 následujících situac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upujete z vlastních uspořených peněz výrobek pro svou vlastní spotřebu (tj. své peníze, výrobek pro seb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te podnikatel a ze svých peněz (firemních peněz) kupujete výrobek pro zaměstnance (tj. své peníze, výrobek pro cizí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ko podnikatel získáte dotaci na vybavení své kanceláře (tj. cizí peníze, výrobek pro seb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prostředkováváte zařízení a vybavení firmy pro někoho cizího (tj. cizí peníze, výrobek pro cizí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k se mění vaše rozhodování? Nakoupili by jste vždy stejně? Jak by se měnily parametry zboží (cena, výkon apod.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ktory ovlivňujíc nakup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tabulce jsou uvedeny pojmy, které ovlivňují nákupy. (Ujistěte se, že všem pojmům rozumíte a popřípadě je doplň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0" y="4581000"/>
            <a:ext cx="9144000" cy="16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řaďte si pořadí 5 nejdůležitějších a 5 nejméně důležitých pojmů při nákupu (např. auta, potravin, nemovitostí, počítače atd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ovnejte žebříček u ostatní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ď už tušíte co vaši třídu ovlivňuje při nákupech. Pokuste se vytvořit reklamní kampaň na vybraný výrob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85690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y výrobků v různých typech prodej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dělejte si vlastní průzkum cenové úrovně ve vašem regionu (obci). Pokuste se porovnat a vyhodnotit jednotlivé výsledky. Kde se vyplatí nakupovat jednotlivé zbož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815364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ěsíční výdaje domácn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4652640"/>
            <a:ext cx="914400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kuste si spočítat, kolik peněz stojí fungování vaší domácnosti (rodiny), kolik vychází vaše výdaje na jeden den či měsíc za všechny členy rodiny a kolik na vás samotné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kuste své výdaje porovnat s částkou za kterou musí žít lidé v nejchudších částech světa – s příjmy nižšími než 2 a 1 USD (přibližně 20 Kč) na den. Myslíte si, že by jste za stejnou částku mohli žít i vy, ale ne jen den, ale třeba měsíc nebo rok? Čeho všeho by jste se museli vzdá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727236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ktový úkol: Otevřete si svou prodej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dělte se do skupin – každá představuje podnikatelský tým, který chce ve vašem okolí zřídit novou prodejnu, služby apod. K tomuto úkolu získá každá skupina od banky úvěr 1 000 000 Kč, který nesmíte překroč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 čem budete podnikat (berte v úvahu skutečnou konkurenci v obci i imaginární konkurenci ve třídě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ozhodněte o velikosti a vybavenosti prodejny. Jak ji pořídíte (novostavba, pronájem, rekonstrukce atd.), kolik bude mít zaměstnanců ap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mocí map a znalostí okolí určete lokali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ajistěte si dodavatele pro zásobován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kuste se nalákat do vaší firmy zákazníky pomocí akcí, reklamy at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ezapomeňte na logo, slogan a grafický návrh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vštivte si prodejny ve třídě a navzájem se ohodnoťte body, podle toho jak vás zaujala. Vyberte vítěze, který bude nejúspěšnější v tvrdém konkurenčním boji tržního hospodářství?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13:19:17Z</dcterms:created>
  <dc:creator>jj</dc:creator>
  <dc:description/>
  <dc:language>en-US</dc:language>
  <cp:lastModifiedBy>jj</cp:lastModifiedBy>
  <dcterms:modified xsi:type="dcterms:W3CDTF">2008-02-01T14:52:21Z</dcterms:modified>
  <cp:revision>13</cp:revision>
  <dc:subject/>
  <dc:title>OBCHOD A HOSPODÁŘSTVÍ</dc:title>
</cp:coreProperties>
</file>