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A7D-C0AF-4220-BE86-8D280DF6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076-4588-43D1-86D4-F939225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9E9-74E0-40A0-B28B-0B78A7F9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712-696C-4C42-BC55-F717FBF8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0C3-B0E6-48FB-A748-719DF80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6F5-8E90-4440-8DFB-8051B93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B58-330D-4F2D-958C-68E4263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98A-7897-4458-B183-315E5873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A1C-FD4E-40F5-AB7D-933BFE5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30E-DC20-455F-AE11-5BC3C9F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EEA-D282-4C06-A243-D2A52BF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A7A-B05A-4D72-8C61-1914BD4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477-336D-423A-9590-B1F8B0C95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kraje.php#slezsko" TargetMode="External"/><Relationship Id="rId2" Type="http://schemas.openxmlformats.org/officeDocument/2006/relationships/hyperlink" Target="http://www.jindrichpolak.wz.cz/encyklopedie/crnejkraje.php#slezsko" TargetMode="External"/><Relationship Id="rId3" Type="http://schemas.openxmlformats.org/officeDocument/2006/relationships/hyperlink" Target="http://www.jindrichpolak.wz.cz/encyklopedie/crnejkraje.php#slezsko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avskoslezs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29440" cy="544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te chybějící informace do m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09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440" y="616572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…9 -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440" y="64911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- poh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4520" y="58770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ní nádr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344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5373720"/>
            <a:ext cx="231840" cy="28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520" y="5300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mořská vý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697440" cy="5115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ňte chybějící informace do mapy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160" y="5734080"/>
            <a:ext cx="87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– Krnov, 2 – Opava, 3 – Nový Jičín, 4 – Kopřivnice, 5 – Bruntál, 6 – Frýdek-Mýst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 – Havířov, 8 – Karviná, 9 - Bohu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520" y="630864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Hrubý Jeseník, B – Nízký Jeseník, C – Moravskoslezské Besky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1040" y="5445000"/>
            <a:ext cx="89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00 – Slunečná, 918 – Radhošť, 995 – Velká Čantoryje, 1323 – Lysá h., 1491 - Pradě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42360" y="2008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90000" y="18651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9800" y="3933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3800" y="4653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ra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14360" y="4313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á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74000" y="409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6160" y="3141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.n. Slezská H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000" y="36655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.n. Kružb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2360" y="5105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.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74360" y="3160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. Žerm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74000" y="2297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.n. Těrli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te kde se stékají ře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ava a Opa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ra a Ostra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rávka a Ostra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onávka a Ol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te kde se stékají řeky (řešení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ava a Opavice – KR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ra a Ostravice -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rávka a Ostravice – FRÝDEK-MÍ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onávka a Olše - KARVI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znáš podle obrázků o jaké vrcholy hor se jedn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5048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4152960"/>
            <a:ext cx="3960720" cy="270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0" y="227664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jistěte informace o těchto pojmec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ustev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t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ohann Gregor Mende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odolní u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4880" y="6113520"/>
            <a:ext cx="50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lš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j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oravskoslezského kraje najdet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jistěte informace o těchto pojmec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ustev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na Radhošti se svými typickými domy Maměnkou a Libušínem od architekta Dušana Jurkovič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t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opřivnice, město proslavené výrobou automobilů značky Tatra (založeno 185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rodák z Příbora, známý vídeňský lékař a psychiatr, zakladatele psychoanalýz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ohann Gregor Mend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rodák z Vražné u Oder, zakladatel moderní geneti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odolní uli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ulice v Ostravně na niž a v její bezprostřední blízkosti se nachází největší koncentrace hospod, restaurací a putyk v České republ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emí kraje patří k nejprůmyslovějším oblastem ČR (těžba černého uhlí, hutní průmysl, těžké strojírenství). Odvětví prochází útlumovým programem – vysoká nezaměstnan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kem průmyslu je znečištění životního prostředí a velká koncentrace obyvatelstva (více než 65% lidí žije ve městech nad 20 tisíc obyvatel – Karviná, Havířov, Třinec, Frýdek-Místek, Opava atd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m střediskem je Ostrava, třetí největší město republik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33:32Z</dcterms:created>
  <dc:creator>jj</dc:creator>
  <dc:description/>
  <dc:language>en-US</dc:language>
  <cp:lastModifiedBy>jj</cp:lastModifiedBy>
  <dcterms:modified xsi:type="dcterms:W3CDTF">2008-06-06T05:25:23Z</dcterms:modified>
  <cp:revision>10</cp:revision>
  <dc:subject/>
  <dc:title>Moravskoslezský kraj - procvičování</dc:title>
</cp:coreProperties>
</file>