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414-B67A-4BFE-9055-C527E2BC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635-0B81-4DE2-A291-499236D9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3BF-7B76-48DB-A700-D96AC8B4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B63-AADC-49D1-95F1-CEBB5DC5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062-603E-41EF-8ACE-3EF1179A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047-61BF-4C04-A8B0-6352470E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1E9-726D-4827-9CD2-2B546F10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47D-D1D6-438F-8AA1-7565394C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02F-DD19-4765-B1F4-C6DF3D6C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BDA-5C0C-4889-8CAF-C1293906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841-8101-4172-B1F1-0690DEA7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538-13C8-43E7-A683-E44CED21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9900-5959-4A3B-BDA0-A077FD133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image" Target="../media/image2.jpeg"/><Relationship Id="rId5" Type="http://schemas.openxmlformats.org/officeDocument/2006/relationships/slide" Target="slide1.xml"/><Relationship Id="rId6" Type="http://schemas.openxmlformats.org/officeDocument/2006/relationships/image" Target="../media/image3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5.jpeg"/><Relationship Id="rId11" Type="http://schemas.openxmlformats.org/officeDocument/2006/relationships/slide" Target="slide1.xml"/><Relationship Id="rId12" Type="http://schemas.openxmlformats.org/officeDocument/2006/relationships/image" Target="../media/image6.jpeg"/><Relationship Id="rId13" Type="http://schemas.openxmlformats.org/officeDocument/2006/relationships/slide" Target="slide1.xml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skola.romea.cz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klubhanoi.cz/index.php" TargetMode="External"/><Relationship Id="rId3" Type="http://schemas.openxmlformats.org/officeDocument/2006/relationships/hyperlink" Target="http://klubhanoi.cz/index.php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old.rvp.cz/clanek/277/1861" TargetMode="External"/><Relationship Id="rId2" Type="http://schemas.openxmlformats.org/officeDocument/2006/relationships/hyperlink" Target="http://old.rvp.cz/sekce/794" TargetMode="External"/><Relationship Id="rId3" Type="http://schemas.openxmlformats.org/officeDocument/2006/relationships/hyperlink" Target="http://www.youtube.com/watch?v=0nUCQs9y6d8" TargetMode="External"/><Relationship Id="rId4" Type="http://schemas.openxmlformats.org/officeDocument/2006/relationships/hyperlink" Target="http://www.ceskatelevize.cz/ivysilani/208452801380005-uteky-do-evropy/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14880" y="3213000"/>
            <a:ext cx="7775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ŠINY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48360" y="189000"/>
            <a:ext cx="1984680" cy="2265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35640" y="2565360"/>
            <a:ext cx="2808360" cy="209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132000" y="4508640"/>
            <a:ext cx="2880000" cy="216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-541440" y="4149720"/>
            <a:ext cx="3456000" cy="21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262560" y="4692600"/>
            <a:ext cx="2881440" cy="216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21080" y="0"/>
            <a:ext cx="3492360" cy="2489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0" y="1125360"/>
            <a:ext cx="3348000" cy="2189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7560" y="-22320"/>
            <a:ext cx="324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komentuj obráz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jaké skupiny lidí se jedná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č jsou považovány za menšinu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ké mají postavení v ČR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k je vnímá běžný občan? A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97200" y="6473880"/>
            <a:ext cx="335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jetím na obrázek získáte více informací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248000" cy="645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ómové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80000" y="134136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ČR v roce 2009 žije asi 250 000 Rómů. Z věkové struktury lze usuzovat, že u této menšiny dojde k navýšení tohoto etnika (viz. graf). Odhad statistiků je, že v období 2010-2020 se tato menšina rozroste na 280 000 obyvat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íce info: Rómové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zdělávací cyklus o Róm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7524720" cy="501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786200"/>
            <a:ext cx="4788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8004240" cy="3138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etnam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Vietnamcích toho víme, navzdory jejich relativně dlouhé přítomnosti (od roku 1956) na našem území stále málo. Je to dáno jejich relativní uzavřeností, kulturní i geografickou vzdáleností a u střední a starší generace špatnou znalostí českého jazy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současnosti žije na území ČR kolem 50 tisíc Vietnamců (přes 60% trvalý pobyt, 34 % s platným živnostenským oprávnění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íce info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lub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ano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Vietnam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6227640" cy="5586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5249880"/>
            <a:ext cx="39956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ěřící jako menšina v Čes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3644640"/>
            <a:ext cx="821844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když jsou věřící v ČR menšinou, přináší nezastupitelné myšlenky a hodnoty pro další vývoj společnosti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žná si ani neuvědomujeme, jak silná křesťanská tradice je zakořeněna v naší společnosti, a kolik hodnot, postojů a běžně užívaných praktik souvisí s křesťanskou tradi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 roce 1989 se naše země otevřela novým náboženským směrům, které prozatím tvoří menšinu v menšině (islám, buddhismus, hinduismus, orientální náboženství, sekty, okultismus aj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5640" y="704880"/>
            <a:ext cx="72723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7020000" cy="4867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4464000"/>
            <a:ext cx="47880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ÁMĚTY NA AK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evřené hranice - Evropské země by měly otevřít hranice pro všechny (disk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arevný život v multikulturním světě (praktické aktivity k problematice rasism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ultikulturní výchova (odkaz na portál R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aký pohled na menšiny žijící v ČR nabízejí sdělovací prostředky? (dokumentární film 15 min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Útěk do Evropy (dokumentární film 58 min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boženství světa (cyklus dokumentárních filmů v archivu Č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fické rozhl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pédia (základní pojmy – např. Vietnamci, Rómové, homosexuálové a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ý statistický úř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9:59:13Z</dcterms:created>
  <dc:creator>Administrator</dc:creator>
  <dc:description/>
  <dc:language>en-US</dc:language>
  <cp:lastModifiedBy>jj</cp:lastModifiedBy>
  <dcterms:modified xsi:type="dcterms:W3CDTF">2009-12-06T20:36:56Z</dcterms:modified>
  <cp:revision>13</cp:revision>
  <dc:subject/>
  <dc:title>MENŠINY V ČR</dc:title>
</cp:coreProperties>
</file>