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17C-24AF-4C59-B6D1-B157D41C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437-69B5-4EC6-8F4B-87E1DBB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1CD-D28B-4C08-B851-364F880B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35F-BF94-478B-AB4F-0BF81B04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EB3-CA99-48BD-A9E8-60AF127C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EBC-EDDF-4E54-975F-99D1A9F7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874-E55A-4E99-BA43-91B390EB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9DC-880F-4D6B-99A1-995AA475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EA5-54D4-44C4-BDBA-8C2BBBB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7B4-866C-4479-A690-07644F9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DA6-C805-4A95-B12F-1A3F599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984-A575-4DF7-9371-6282ABE2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3C3-E6F2-4BF2-B141-C0D53FFB8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ecký kraj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8785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zerská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ště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ánská ská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chovo je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rra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bv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O Libe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KO Český rá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blo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region N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berecký kraj patří rozlohou i počtem obyvatel mezi nejmenší kraje Č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nejvýznamnějším odvětvím patří textilní a sklářský průmy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ý význam má cestovní ruch (NP -Krkonoše, CHKO - Jizerské a Lužické hory, Český ráj, Kokořínsko, střediska – Bedřichov, Harrachov, Ještěd, Doksy a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berec je významným severočeským střediskem, tvoří konurbaci s Jabloncem nad Nis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jistěte informace o těchto místech a pojmech - řeše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izerská 50 – vytrvalostní závod na lyžích a kol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štěd – hora, hotel a televizní vysílač (Karel Hubáček, postaven v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60. letech 20. stolet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ánská skála - kamenné varhany vzniklé sloupcovitou odlučností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čediče při tuhnutí magma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áchovo jezero - největší rybník v Libereckém kraji a osmý největší v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České republ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arrachov – nejznámější středisko Krkonoš, skokanský můs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Libverda – lázně (léčba nervové a cévní problémy, psychické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problém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OO Liberec – nejstarší ZOO v ČR, chov bílých tyg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HKO Český ráj – pískovcové skalní města, nejstarší CHKO u n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blonex – jablonecká bižuterie (výrobky ze sk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uroregion NISA – nejstarší euroregion v ČR (ČR, NSR, Polsk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17:15Z</dcterms:created>
  <dc:creator>Administrator</dc:creator>
  <dc:description/>
  <dc:language>en-US</dc:language>
  <cp:lastModifiedBy>Administrator</cp:lastModifiedBy>
  <dcterms:modified xsi:type="dcterms:W3CDTF">2008-03-27T11:05:19Z</dcterms:modified>
  <cp:revision>6</cp:revision>
  <dc:subject/>
  <dc:title>Liberecký kraj - procvičování</dc:title>
</cp:coreProperties>
</file>