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38A-FF1D-4A2A-B6BE-5D082D38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EBA-96A2-4DAD-B41D-C65BE4C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A22-875A-46BC-9AD0-610DB3B0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615-8191-4BBA-84D2-3B731195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050-6F15-45A6-82BA-5DF0C456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9E7-2D55-44ED-A461-1382BF31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55C-E92E-400C-93FA-0CFE461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664-142A-4619-9864-D71C8401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380-0243-4E9B-B7B3-F6796AF1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CB4-A148-4030-9BAC-0D4C754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0B7-67C5-42CB-9C8E-37FA3E2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0A0-21AA-44B9-B27E-58855734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8E4D-434F-4656-BD5F-F368A1C7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raunstein.cz/fotky/2005/2005_0707_180141_JZ_P_od_Smilova_V-Z_i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ušnohorská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49992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etihorní zlomy a sopečná čin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oučasnosti reliéf ovlivněn činností člově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rušné hory, Klínov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5614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ásti Krušnohorské sub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rušnohorská hornatina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mrčiny (Háj 758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rušné hory (Klínovec 1244 m nejvyšší vrchol soust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čínská vrchovina (Děčínský Sněžník 723 m – pískovcového      původu, skalní města, Pravčická brána, kaňon La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krušnohorská oblas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ebská pá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okolovská pá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ostecká pá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oupovské hory (Hradiště 934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České středohoří (Milešovka 837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rlovarská vrchovina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lavkovský les (Lesný 983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Tepelská vrchovina (Podhorní vrch 847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357720"/>
            <a:ext cx="358560" cy="863280"/>
          </a:xfrm>
          <a:custGeom>
            <a:avLst/>
            <a:gdLst>
              <a:gd name="textAreaLeft" fmla="*/ 0 w 358560"/>
              <a:gd name="textAreaRight" fmla="*/ 12960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8320" y="35924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leziště hnědého uhlí dnes postiženy těž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4508640"/>
            <a:ext cx="216000" cy="57600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24160" y="460044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hoří sopečného pův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rušnohorská subprovincie - cel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ušné hory vyzdviženy během třetihor (k nám spadají prudce) pod nimi vytvořeny hnědouhelné pánve – celá oblast poznamenána těžbou uhlí, těžkým průmyslem a provozem tepelných elektrá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rch ovlivněn sopečnou činností (České středohoří, Doupovské hory), kdy magma ztuhlo pod povrchem a vlivem eroze vystoupilo na povrch, tvořeny znělcem a čedičem, jež jsou velmi odol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á oblast stále aktivní (nízká seismická činnost, „bahenní sopky“ – SOOS, minerální pramen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upovské hor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38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ské středohoř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okolí Perštej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7705800" cy="1401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56000" y="3429000"/>
            <a:ext cx="50623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35640" y="620280"/>
            <a:ext cx="35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ravčická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brá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638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941560"/>
            <a:ext cx="5219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8:29:06Z</dcterms:created>
  <dc:creator>jj</dc:creator>
  <dc:description/>
  <dc:language>en-US</dc:language>
  <cp:lastModifiedBy>jj</cp:lastModifiedBy>
  <dcterms:modified xsi:type="dcterms:W3CDTF">2010-09-30T06:54:37Z</dcterms:modified>
  <cp:revision>4</cp:revision>
  <dc:subject/>
  <dc:title>Krušnohorská subprovincie</dc:title>
</cp:coreProperties>
</file>