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3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88E2-53AF-4B7B-B232-4DD2C9BCD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1631-7481-40FF-9130-F9EA7AC2A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1B12-2DF3-4004-977B-B36B44126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70FD-6F72-4BF5-B4FC-F11D729CB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8828-F2C8-4668-949E-9122F9F71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64DD-157B-44A8-A7BC-AA54A19D4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7547-3436-49AD-B252-A14073E21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A4D2-2062-42E7-A53D-875E29C93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C9CE-67B1-436C-A384-AE05C47CF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92B1-B345-4EFC-8032-3ED44608F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9014-DE5C-40B0-8EDE-EFB5CA6E7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7E2E-0CFD-4BDA-940B-ADF3B23DA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3F73C-44A1-4965-89EA-83ADBEC93336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biologie.de/biowiki/Bild:PICT0057.JPG" TargetMode="External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Krkonošsko-jesenická subprovinc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38862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ejdelší (360 km) a nejvyšší (1602 m) subprovinc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03280" y="189000"/>
            <a:ext cx="23860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Ještě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5230800" y="0"/>
            <a:ext cx="3913200" cy="52182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79280" y="907920"/>
            <a:ext cx="4372200" cy="32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oumovská vrchovina, Adršpašsko - teplické ská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1197000"/>
            <a:ext cx="2525760" cy="39607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Liebespaar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226200" y="1197000"/>
            <a:ext cx="2917800" cy="3887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2556000" y="2019240"/>
            <a:ext cx="3628800" cy="48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staš – stolová ho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-396720" y="2205000"/>
            <a:ext cx="10442520" cy="32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-360" y="4292640"/>
            <a:ext cx="3708360" cy="23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rubý Jeseník - Pradě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097680" cy="43434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3924360" y="2943360"/>
            <a:ext cx="5219640" cy="39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ejmladší sopka – Uhlířský vrch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51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431964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trovy kameny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476280"/>
            <a:ext cx="5076720" cy="38037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716360" y="3747960"/>
            <a:ext cx="4427640" cy="31100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5219640" y="3284640"/>
            <a:ext cx="33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ralický Sněžní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Žulovská pahorkatina – ledovcový reliéf (nunata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Venušiny misky, Smolný vrch"/>
          <p:cNvPicPr/>
          <p:nvPr/>
        </p:nvPicPr>
        <p:blipFill>
          <a:blip r:embed="rId1"/>
          <a:stretch/>
        </p:blipFill>
        <p:spPr>
          <a:xfrm>
            <a:off x="250920" y="907920"/>
            <a:ext cx="3889440" cy="29178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Jeden ze skalních bloků na svahu Smolného vrchu"/>
          <p:cNvPicPr/>
          <p:nvPr/>
        </p:nvPicPr>
        <p:blipFill>
          <a:blip r:embed="rId2"/>
          <a:stretch/>
        </p:blipFill>
        <p:spPr>
          <a:xfrm>
            <a:off x="4917960" y="981000"/>
            <a:ext cx="4226040" cy="31701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Nunatak in mountain icefield, Baffin Island, Nunavut, Canada"/>
          <p:cNvPicPr/>
          <p:nvPr/>
        </p:nvPicPr>
        <p:blipFill>
          <a:blip r:embed="rId3"/>
          <a:stretch/>
        </p:blipFill>
        <p:spPr>
          <a:xfrm>
            <a:off x="179280" y="3933720"/>
            <a:ext cx="4537080" cy="30322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28320" y="3933720"/>
            <a:ext cx="403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íklad nunataku na Baffinově ostrov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rkonoše – KRNAP - Sněž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836640"/>
            <a:ext cx="4067280" cy="3046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643280" y="692280"/>
            <a:ext cx="4500720" cy="33699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1476360" y="3587760"/>
            <a:ext cx="5329080" cy="32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Části subprovinc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464328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Krkonošská oblas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Šluknovská pahorkatina (Hrazený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Lužické hory (Luž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eštědsko-kozákovský hřbet (Ještěd 1012 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Žitavská páne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Frýdlantská pahorkatina (Andělský vrc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izerské hory (Smrk 1124 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rkonoše (Sněžka 1602 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rkonošské podhůří (Hejlo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Orlická oblas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Broumovská vrchovina (Královecký Špičá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rlické hory (Velká Deštná 1115 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orlická pahorkatina (Špičá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ladská kotl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88000" y="980640"/>
            <a:ext cx="435600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Jesenická oblas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ábřežská vrchovina (Láze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ohelnická bráz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Hanušovská vrchovina (Jeřá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ralický Sněžník (Kralický Sněžník 1423 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ychlebské hory (Smr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latohorská vrchovina (Příčný vrc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Hrubý Jeseník (Praděd 1492 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ízký Jeseník (Slunečná 800 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derské vrchy (Fidlův kope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Krkonošsko-jesenické podhůří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idnavská nížina (bezejmenná kóta 326 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Žulovská pahorkatina (Boží hor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836640"/>
            <a:ext cx="0" cy="6021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řížovka - zadán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3715920"/>
            <a:ext cx="9144000" cy="31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jvyšší vrchol Č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jvyšší vrchol Lužických h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jvyšší vrchol Nízkého Jeseník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olová hora v Broumovské vrchovině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rchol nad městem Libere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jvyšší hora Hrubého Jeseník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eden z významných vrcholů Ještědsko-kozákovského hřbet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95280" y="549360"/>
            <a:ext cx="7777080" cy="30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řížovka - řeše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5013000"/>
            <a:ext cx="91440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UNATAK - je označení pro skalnatý vrchol hory vystupující z pevninského ledovce. V jazyce Inuitů znamenající osamělý vrchol. Jeho pozůstatky najdeme např. v Žulovské pahorkatině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826920" y="1125360"/>
            <a:ext cx="7561440" cy="35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rkonoš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hoří dlouhé 36 km (od Novosvětského po Královecké sedlo), dva rovnobežné hřbety se sbíhají v masivu Sněžky. Severní – pohraniční hřbet (Mužské a Ženské kameny, Vysoké kolo = žula), jižní hřbet – (Studničná – Luční hora = křemen, rula). Hřbety odděleny Labem a Mumlavo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Stopy zalednění – ledovcová jezera (v Polsku), ledovcová údolí, ledovcové nánosy - Labský a Obří důl, kamenná moře aj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KRNAP – Krkonošský národní pa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-360" y="907560"/>
            <a:ext cx="889308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Broumovská vrchovina: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skalní pískovcová města – Adršpašské a Teplické ská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Kralický Sněžník: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hlavní evropské rozvodí + pramen Morav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Hrubý Jeseník: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od Ramzovského sedla (nejvyšší pohoří na Moravě – Praděd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Nízký Jeseník: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sopečné vrchy (Uhlířský vrch, Venušina sopka, Roudný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47512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užické h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Obrázek"/>
          <p:cNvPicPr/>
          <p:nvPr/>
        </p:nvPicPr>
        <p:blipFill>
          <a:blip r:embed="rId1"/>
          <a:stretch/>
        </p:blipFill>
        <p:spPr>
          <a:xfrm>
            <a:off x="0" y="2060640"/>
            <a:ext cx="5715000" cy="38098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880" y="2205000"/>
            <a:ext cx="160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nská ská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Obrázek"/>
          <p:cNvPicPr/>
          <p:nvPr/>
        </p:nvPicPr>
        <p:blipFill>
          <a:blip r:embed="rId2"/>
          <a:stretch/>
        </p:blipFill>
        <p:spPr>
          <a:xfrm>
            <a:off x="5451480" y="0"/>
            <a:ext cx="3692520" cy="4923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004520" y="928800"/>
            <a:ext cx="182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Ledová jeskyně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pseudokra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rajina Lužických h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Obrázek"/>
          <p:cNvPicPr/>
          <p:nvPr/>
        </p:nvPicPr>
        <p:blipFill>
          <a:blip r:embed="rId1"/>
          <a:stretch/>
        </p:blipFill>
        <p:spPr>
          <a:xfrm>
            <a:off x="826920" y="969840"/>
            <a:ext cx="7848720" cy="588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2T18:52:33Z</dcterms:created>
  <dc:creator>jj</dc:creator>
  <dc:description/>
  <dc:language>en-US</dc:language>
  <cp:lastModifiedBy>jj</cp:lastModifiedBy>
  <dcterms:modified xsi:type="dcterms:W3CDTF">2010-10-07T07:38:13Z</dcterms:modified>
  <cp:revision>12</cp:revision>
  <dc:subject/>
  <dc:title>Krkonošsko-jesenická subprovincie</dc:title>
</cp:coreProperties>
</file>