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E50-BF19-4093-B2FB-00E6D6D0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99B-A34D-48AB-9811-F11CDC91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9D8-24D6-4E07-8F67-4F802364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C19-1639-4AF7-B262-1D369553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207-01FC-4495-9050-DA48F23D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396F-A922-4970-9275-3F475AFF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AF1-BC3F-471F-858D-0255EECA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64B7-FCF2-41B4-B147-50A96BE5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32C1-DF4E-43AB-BC5C-1418585B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603-5F17-4C38-B8B1-4EEB41C3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0B2D-7C6E-4958-BB56-E3AF6CF5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DEDF-0942-4B5B-AE3C-AD54C817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0203-F0CB-49E9-BD0C-BE23EC146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565360"/>
            <a:ext cx="8642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álovehradecký kraj - procvič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plň chybějící informace do m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300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jistěte informace o těchto místech a pojme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iččino údol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u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roměř (Josefov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fari Dvůr Král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rásků Hron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tišek Vladislav H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umovské st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ečné sh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stota osídlení se různí podle nadmořské výšky. Malé obce a města tvoří hlavní zástavbu kra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ůmyslově-zemědělská oblast (strojírenství, textilní, gumárenský atd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znamná oblast cestovního ruchu (Krkonoše, pískovcová skalní města, památk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lň chybějící informace do mapy - řeš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72000" y="1413000"/>
            <a:ext cx="27716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– Krkonoš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– Orlické h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– Sněž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– Velká Deštn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– Rozko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 – Jaromě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- Dvůr Králové n. 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 – Broum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 – Adršp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 – Ku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 – Trutn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 - Jičí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601200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30160" y="522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3800" y="907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02880" y="11970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Ú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6160" y="1700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00" y="4869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d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62160" y="37162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oká Or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7240" y="566100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há Or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jistěte informace o těchto místech a pojmech - řeš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iččino údol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je svázané s dílem "Babička" od Boženy Němcové (Ratibořický zámek, Panský hostinec, pomník babičky, Staré bělidlo, Viktorčin splav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amátková rezervace se sochami Matyáše Bra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roměř (Josefov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Pevnost Josefov byla postavena v letech 1780 až 1787 z podnětu císaře Josefa II. Měla sloužit k ochraně zemských hranic proti výbojnému Prus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ari Dvůr Král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ZOO ve Dvoře Králové se specializuje na africkou zvířen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irásků Hron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estival amatérského divad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tišek Vladislav H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rodák z Dobrušky, český vlastenec, národní buditel, spisovatel, publicista a skladatel. Spisovatel Alois Jirásek použil jeho autobiografii jako předobraz hlavního hrdiny svého románu F. L. Vě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umovské stě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oučást CHKO Broumovsko (pískovcové ská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06:45:12Z</dcterms:created>
  <dc:creator>jj</dc:creator>
  <dc:description/>
  <dc:language>en-US</dc:language>
  <cp:lastModifiedBy>jj</cp:lastModifiedBy>
  <dcterms:modified xsi:type="dcterms:W3CDTF">2008-04-20T08:48:05Z</dcterms:modified>
  <cp:revision>12</cp:revision>
  <dc:subject/>
  <dc:title>Snímek 1</dc:title>
</cp:coreProperties>
</file>