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05D-0B91-473A-BA61-395D9103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A0B-6ABA-4366-B40C-5428EB39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BD7-E250-4E4A-BE8E-305D5A20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83C-7646-4F95-AD44-1E10CA8A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D5B-E25B-4B59-9203-C780391A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E4B-EC79-4013-AE00-94E82A3B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9F3-5F0D-404A-BA26-793AAB50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83F-3F2F-46C6-96D6-F1F5E4A4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40D-8AB8-4A99-AB96-0AF7512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B85-A3ED-4240-A2C2-1D8DDA8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710-8267-487F-A011-4FF067F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D83-1A17-47EA-AA91-1CAB2CD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973-8D01-4CBF-9C77-1054FC29B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indrichpolak.wz.cz/encyklopedie/crnejkraje.php#vysocina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aj Vysočina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 názvy míst v map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996840"/>
            <a:ext cx="8209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 názvy míst v mapě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72000" y="1052640"/>
            <a:ext cx="2771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Žďárské v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Javoř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Švihov (Želiv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Daleš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Ví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Velké Dář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Dukov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Pernšte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 Jih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Třebí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 Havlíčkův B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 Humpo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1214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iřaď pojmy a charakteris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řebí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hři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é Město na Mo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líčkův B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kov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ená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skáda rybníků, dříve Německý Brod, pivovar R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ětový pohár v lyžování, výroba lyží Sp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kartáčů, agentura Dobrý 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rnické město, katakom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dovská čtvrť a bazilika sv. Prok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ESCO městská památková rezer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derná elektr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tní kostel sv. Jana Nepomuc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160" y="59691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lší zajímavosti kraje Vyso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iřaď pojmy a charakteristiky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hlava - Hornické město, katakom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ebíč - Židovská čtvrť a bazilika sv. Prok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lhřimov - Výroba kartáčů, agentura Dobrý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č - UNESCO městská památková rezer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Město na Moravě - Světový pohár v lyžování, výroba lyží Sp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vlíčkův Brod - Kaskáda rybníků, dříve Německý Brod, pivovar R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kovany - Jaderná elektr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lená Hora - Poutní kostel sv. Jana Nepomu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5520" y="4508280"/>
            <a:ext cx="4038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ě kraj Jihlavský od r. 2001 Vysočina (krajské město Jihlav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é území leží v oblasti Českomoravské vrchoviny (Javořice 837 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velmi řídce osídleném kraji má důležité postavení energetika (Dukovany a Dalešice), strojírenský a spotřební průmy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j je vhodný pro celoroční cestovní ruch (Nové Město na  Moravě, UNESCO – Telč, Třebíč, Zelená Hor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3:23:20Z</dcterms:created>
  <dc:creator>jj</dc:creator>
  <dc:description/>
  <dc:language>en-US</dc:language>
  <cp:lastModifiedBy>jj</cp:lastModifiedBy>
  <dcterms:modified xsi:type="dcterms:W3CDTF">2008-05-21T20:18:32Z</dcterms:modified>
  <cp:revision>5</cp:revision>
  <dc:subject/>
  <dc:title>Kraj Vysočina - procvičování</dc:title>
</cp:coreProperties>
</file>