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6E6-71F5-416E-A2C1-D6F26918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24D-D8A0-48A2-BBD1-1E761C44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1F8-A261-484B-B9DB-6C68C83E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55E-5A7E-463A-B8C4-EE503970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7A2-9608-49DB-A572-E2C79E3F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50D-4C50-4F81-A2EF-93B9AC42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7D0-7633-4D7F-9AEC-2D6C1769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E21-D550-4B06-9F80-65B5C54F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8DE-8A36-49FF-BD91-57A85E65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FDD-FCBD-46B1-B96D-011E5976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79E-8008-4A04-85BD-470B38B1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D88-C214-4BB5-88DF-45108301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9232-14DB-4153-97B8-BECF4148E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3357720"/>
            <a:ext cx="3992760" cy="300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nější západní Karpa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96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u tvořeny druhohorními až třetihorními mořskými uloženinami pískovců a jílovců často s výrazným, mnohonásobně se střídajícím zvrstvením - tedy uloženinami typického FLY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143600">
            <a:off x="6587640" y="2637000"/>
            <a:ext cx="792360" cy="2376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415800 h 2376360"/>
              <a:gd name="textAreaBottom" fmla="*/ 17229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ělení Vnějších západních Karp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Jihomoravské Karpa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(Děvín 55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kulovská vrchovina (Děvín 55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ředomoravské Karpa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Brdo 587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dánický les (U slepice 438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tenčická pahorkatina (Hradisko 518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řiby (Brdo 587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yjovská pahorkatina (Babí lom 417 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lovensko-moravské Karpa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Velký Javorník 1071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ovická vrchovina (Klášťov 753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ílé Karpaty (Velká Javořina 97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vorníky (1071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ápadobeskydské podhůř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beskydská pahorkat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ápadní Beskyd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Lysá hora 13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stýnsko-vsetínská hornatina (Vysoká 1024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žnovská brázda (Poskla 576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avskoslezské Beskydy (Lysá hora 1323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blunkovská brázda (Kempa 571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ezské Beskydy (Velká Čantoryje 995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blunkovské mezihoří (Girová 84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743200" cy="331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98000" y="1364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sá 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Panoráma"/>
          <p:cNvPicPr/>
          <p:nvPr/>
        </p:nvPicPr>
        <p:blipFill>
          <a:blip r:embed="rId2"/>
          <a:stretch/>
        </p:blipFill>
        <p:spPr>
          <a:xfrm>
            <a:off x="4572000" y="907920"/>
            <a:ext cx="4392720" cy="329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64000" y="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kulovská vrchovina - Pálava (zleva: Kotel, Děvín s vysílačem, v pozadí Dívčí hrad, v popředí Sirotčí hráde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56000" y="3789360"/>
            <a:ext cx="3960720" cy="298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519240" y="580536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řiby – Br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ozhled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8:43:02Z</dcterms:created>
  <dc:creator>jj</dc:creator>
  <dc:description/>
  <dc:language>en-US</dc:language>
  <cp:lastModifiedBy>jj</cp:lastModifiedBy>
  <dcterms:modified xsi:type="dcterms:W3CDTF">2007-10-23T19:49:09Z</dcterms:modified>
  <cp:revision>6</cp:revision>
  <dc:subject/>
  <dc:title>Vnější západní Karpaty </dc:title>
</cp:coreProperties>
</file>