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98F-9ADB-4E69-B8E3-26A0C204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D88-A042-4223-9680-E376BE26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3A5-9126-4013-8C2E-26CBC5AC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F5C-ED37-4C8D-8DFD-6B315EB6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74B-2155-4099-A573-51895259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4E4-A5B8-464A-BDD8-7EE16816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3A8-187E-49B4-8AEE-BD21085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8B2-97FA-4AA6-81EC-2C65A456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BC3-81F6-4A71-BD7B-2CF027E8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C8C-F157-4C87-AD65-FF8EA49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E7C-759A-4A97-AC6F-DF85529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4AF-E0A3-460D-BCA8-52F92B9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6C0-3713-4EB0-8302-E89B2ECD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as.cz/" TargetMode="External"/><Relationship Id="rId2" Type="http://schemas.openxmlformats.org/officeDocument/2006/relationships/hyperlink" Target="http://www.spas.cz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rlovarský kraj - procvi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PLŇTE K ČÍSLŮM NÁZVY MÍ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32720" y="2781360"/>
            <a:ext cx="31320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81080" y="1197000"/>
            <a:ext cx="6804000" cy="505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503280" cy="43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04680" y="83664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lň lázeňská mě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54720" y="12160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rodní rezerva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940360" y="17002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54000" y="1720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084720" y="2133720"/>
            <a:ext cx="238320" cy="64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54000" y="2224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ár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78000" y="1763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0920" y="253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80" y="2492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600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816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236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8200" y="4067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872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náš odpovědi na následující otáz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Jaké suroviny se těží v Karlovarském kra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) Co jsou to mofety které najdeme v přírodní rezervaci SO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) Ve kterém městě najdeme Vřídlo a o co se je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) Co je to chebský Špalíč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) Jaký Euroregion najdeme v Karlovarském kra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) Kolik okresů tvoří Karlovarský kra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iřaď k sobě pojm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lov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aslice a L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avkovský 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chy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ží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ýše položená „Ježíškova pošt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západnější město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filmový festival, Moser, Becherov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a hudebních nást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donové lázně,hornická minu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ázeň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  jednoduchou prezentaci o lázeňství v Karlovarském kra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er si jedno z lázeňských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i co se zde lé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é zajímavosti a kulturní akce se zde kon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lovarský kraj je 3. nejmenší a nejméně lidnatý kraj v Č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úlohu zde hraje těžební průmysl (hnědé uhlí – Sokolovská pánev a kaolín) a lázeňství –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pas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KO – Slavkovský les, přírodní rezervace – SOOS (mofe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7236000" cy="4281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4869000"/>
            <a:ext cx="40384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5 – Špičá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44 - Klíno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Krušné h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– Sokolovská pán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– Smrč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0000" y="494172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 – Doupovské h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 – Oh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 – A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 – Ch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 - Soko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pověd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ěžba - hnědé uhlí a kaol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fety – vývěry oxidu uhličitého, někdy nesprávně označované jako "bahenní sopky", pozůstatek dávné vulkanické čin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lovarské vřídlo je našim nejvydatnějším a nejteplejším minerálním prame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alíček – symbol chebského náměstí tvoří bizarní komplex 11 domů rozdělených Kramářskou uličkou, který vyrůstal od 13. století na místě kramářských bud a masných krám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uroregion Egren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resy – 3 (Karlovy Vary, Sokolov, Ch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iřaď k sobě pojmy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y Vary - Mezinárodní filmový festival, Moser, Becherov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slice a Luby - výroba hudebních ná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š - nejzápadnější město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vkovský les - CH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áchymov - radonové lázně,hornická minu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ží Dar - nejvýše položená „Ježíškova pošt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8:48:10Z</dcterms:created>
  <dc:creator>hh</dc:creator>
  <dc:description/>
  <dc:language>en-US</dc:language>
  <cp:lastModifiedBy>jj</cp:lastModifiedBy>
  <dcterms:modified xsi:type="dcterms:W3CDTF">2008-03-26T20:27:22Z</dcterms:modified>
  <cp:revision>13</cp:revision>
  <dc:subject/>
  <dc:title>Snímek 1</dc:title>
</cp:coreProperties>
</file>