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AF6-CED8-4BAC-80EC-1073DB1E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6A3-4E7B-4E19-9F43-E4994EB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FFD-569D-429A-8D20-76418824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31D-7A9A-438D-A4FA-116D5988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BD4-2140-4FC4-A1A8-5AD185C4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946-A02B-4C31-B807-4C5946A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537-11D8-4C12-A857-B1149500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D80-B3A8-4354-A2BC-9ED2A631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0F2-1848-4B2B-A31C-7306E03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E6D-A1C0-454B-851E-8265EC0C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071-FCD7-4EC2-8F60-F3E9036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698-9F80-4D0F-991F-8485F2C8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72F-8BE9-4B20-8A8B-935784AFC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indrichpolak.wz.cz/encyklopedie/crnejkraje.php#jihmorava" TargetMode="External"/><Relationship Id="rId2" Type="http://schemas.openxmlformats.org/officeDocument/2006/relationships/hyperlink" Target="http://www.jindrichpolak.wz.cz/encyklopedie/crnejkraje.php#jihmorava" TargetMode="External"/><Relationship Id="rId3" Type="http://schemas.openxmlformats.org/officeDocument/2006/relationships/hyperlink" Target="http://www.jindrichpolak.wz.cz/encyklopedie/crnejkraje.php#jihmorava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homoravský kraj -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44000" cy="56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 do mapy chybějící úd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Nové Mlý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 Břecl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 Vran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 Vyš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Brněnská nádr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 Blan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 Nesy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 Hodon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 Znojm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Slavkov u B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11964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te chybějící poj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96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ologicky se Jihomoravský kraj nachází na rozhraní tří provincií:…..,…….,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á oblast patří do teplé podnebné oblasti (ve městě …… je zaznamenána nejvyšší průměrná roční teplota …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úrodném ……….a………úvalu se daří náročným plodinám……,……,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elou oblast odvodňuje do ……….moře řeka…….. (jejím významným přítokem na území kraje je řeka…………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území kraje najdeme NP……..a CHKO………, ……..a………kras (kde najdeme celou řadu jeskyní:…….,……..,…….., propast ……….a ponornou řeku………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te chybějící pojmy - 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096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ologicky se Jihomoravský kraj nachází na rozhraní tří provincií: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Česká vysočina,Vněkarpatské sníženiny, Západopanonská páne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á oblast patří do teplé podnebné oblasti (ve městě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odoní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zaznamenána nejvyšší průměrná roční teplota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9,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úrodném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lnomoravském a Dyjskosvratecké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úvalu se daří náročným plodinám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krovka,vinná réva, obiln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elou oblast odvodňuje do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ho moře řeka Mora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jejím významným přítokem na území kraje j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řeka Dy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území kraje najdeme NP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yj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CHKO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álava, Bílé Karpaty a Moravský kra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kde najdeme celou řadu jeskyní: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unkevní, Kateřinská, Sloupsko-šošůvské, propast Macocha a ponornou řeku Punk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trovské Pl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nicko-valtický are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ilb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tva u Auster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el Abso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ťův ka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81080" y="274320"/>
            <a:ext cx="9506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jistěte informace o těchto místech a pojmech - řeš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yt – největší rybník na Mora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trovské Plže - ojedinělý komplex historických vinných sklepů u Stráž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dnicko-valtický areál - přírodní park, který patří k největším příkladům komponované krajiny nejen v rámci Evropy, ale na celém světě. Areál je od roku 1996 zařazen na seznam UNES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pilberk – hrad, pevnost i věznice v centru B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tva u Austerlitz – bitva tří císařů se odehrála u Slavkova 2. prosince 18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el Absolón - paleontolog, speleolog. Zasloužil se o poznání Moravského kr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ťův kanál 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odní cesta podél řeky Moravy z Otrokovic do Rohat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ntrem je druhé největší město ČR – Brno (veletrhy, strojírenství, Masarykova univerzita, vila Tugendhat atd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dné úvaly – zemědělství (obilniny, ovoce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inařstv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ébytný kultura (Slovácko, Pohansko atd.), dávné osídlení (Dolní Věstonice, Mikulčice), zachovalá příroda (Podyjí, Pálava, Bílé Karpaty, Moravský kras atd.), památky (Lednicko-Valtický areál, Znojmo, Slavkov, Brno atd.) i vinařství jsou cílem cestovního ruch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160" y="640080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ihomoravská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j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a zajíma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3:27:09Z</dcterms:created>
  <dc:creator>jj</dc:creator>
  <dc:description/>
  <dc:language>en-US</dc:language>
  <cp:lastModifiedBy>jj</cp:lastModifiedBy>
  <dcterms:modified xsi:type="dcterms:W3CDTF">2008-05-18T15:27:52Z</dcterms:modified>
  <cp:revision>9</cp:revision>
  <dc:subject/>
  <dc:title>Jihomoravský kraj - procvičování</dc:title>
</cp:coreProperties>
</file>