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9116-5688-419E-A0AB-EABBFB60D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7705-3EA1-40C3-8DBB-23869747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2280-6DA6-4864-81A3-DB0AE6615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66B1-C9BE-4B04-9AF3-AD71B1B56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DDE9-380E-47A5-A3C5-A49B5A1F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3F01-6A99-44F4-AA5A-C31B8728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277B-E735-44DF-8491-70B6EC35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35B8-8381-4161-890D-D2CEC8D2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5058-BEE2-471B-9D22-A2D3F627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9F8C-EA7D-434B-A2C5-CA50ACA9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6106-C063-4FD0-AE2E-DF0773C6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9AA9-9BE7-4338-8B30-B6FC4A48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3694-D5BF-4E3C-B66D-DEFB06CA4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List_of_ponds_in_the_Czech_Republic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hyperlink" Target="http://www.virtualtravel.cz/virtualni-ceska-republika.html" TargetMode="Externa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ihočeský kraj - procvič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plň chybějící údaje o kraj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961920"/>
            <a:ext cx="7489800" cy="5634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07240" y="6491160"/>
            <a:ext cx="49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kus určit názvy měst na jednotlivých řeká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jistěte informace o těchto místech a pojme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lašo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mel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Žofínský p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latá sto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á sto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lení m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těpánek Netol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ub Krč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jná v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5 polední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H-I-N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usin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8880" y="6237360"/>
            <a:ext cx="37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eznam největších rybníků v Č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znáte jaké objekty se nachází na obrázcí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3457440" cy="2300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356000" y="907920"/>
            <a:ext cx="3810240" cy="2847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4360" y="3284640"/>
            <a:ext cx="3456000" cy="2765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788000" y="4005360"/>
            <a:ext cx="3529080" cy="2646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9040" y="623736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Udělej si virtuální prohlídku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rnu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ihočeský kraj charakterizují dvě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jihočeské pánv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Českobudějovická a Třeboňská), které jsou hlavními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blastmi rybníkářstv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 ČR. Hraniční oblasti s (Německem a Rakouskem) lemují Novohradské hory a Šumav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lavním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růmyslovým centre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je českobudějovická aglomer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spotřební průmys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Malebná krajin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vodní plochy, památky a zachovalá příroda) přitahuje mnoho lidí za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rekrea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mátky: UNESCO (Holašovice, Český Krumlov), CHKO a NP, hrady a zámky (Hluboká, Orlík, Červená Lhota atd.), vodní díla (Lipno, Rožmberk, Bezdrev, Lužnice at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Řeše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137800" cy="57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jistěte informace o těchto místech a pojme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olašovice - jsou nejznámější vesnicí selského baroka (památka UNES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melín – jaderná elektrárna s největším instalovaným výkonem v Če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ofínský prales a Hojná voda - jsou nejstaršími rezervacemi střední Evropy 28. 8. 18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latá stoka - je vodní kanál v Třeboňské pánvi napájející rybniční sousta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vá řeka - umělý vodní kanál, spojující řeku Lužnici s řekou Nežárk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lení most - nejstarším dochovaným mostem v Česku, od konce 13. století se klene nad řekou Otavou v Pís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Štěpánek Netolický – jeden z nejslavnějších českých rybníkářů, působil ve službách Rožmberků (stavitel Zlaté stoky, Horusického rybníku at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ub Krčín – pokračovatel Štěpánka netolického (stavitel rybníku Rožmberk, Svět a Nové řeky at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5 poledník – v jihočeském kraji prochází přes centrum Jindřichova Hrad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H-I-NOOR - jedna z největších světových producentů a distributorů uměleckých, školních a kancelářských potř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usinec - rodiště mistra Jana Hu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9:10:48Z</dcterms:created>
  <dc:creator>jj</dc:creator>
  <dc:description/>
  <dc:language>en-US</dc:language>
  <cp:lastModifiedBy>jj</cp:lastModifiedBy>
  <dcterms:modified xsi:type="dcterms:W3CDTF">2008-04-17T19:00:13Z</dcterms:modified>
  <cp:revision>11</cp:revision>
  <dc:subject/>
  <dc:title>Jihočeský kraj - procvičování</dc:title>
</cp:coreProperties>
</file>