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27.jpeg" ContentType="image/jpeg"/>
  <Override PartName="/ppt/media/image24.png" ContentType="image/png"/>
  <Override PartName="/ppt/media/image11.jpeg" ContentType="image/jpeg"/>
  <Override PartName="/ppt/media/image3.png" ContentType="image/png"/>
  <Override PartName="/ppt/media/image26.png" ContentType="image/png"/>
  <Override PartName="/ppt/media/image4.png" ContentType="image/png"/>
  <Override PartName="/ppt/media/image6.png" ContentType="image/png"/>
  <Override PartName="/ppt/media/image31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29.jpeg" ContentType="image/jpeg"/>
  <Override PartName="/ppt/media/image5.png" ContentType="image/png"/>
  <Override PartName="/ppt/media/image10.jpeg" ContentType="image/jpeg"/>
  <Override PartName="/ppt/media/image20.jpeg" ContentType="image/jpeg"/>
  <Override PartName="/ppt/media/image12.png" ContentType="image/png"/>
  <Override PartName="/ppt/media/image30.jpeg" ContentType="image/jpeg"/>
  <Override PartName="/ppt/media/image32.png" ContentType="image/png"/>
  <Override PartName="/ppt/media/image2.png" ContentType="image/png"/>
  <Override PartName="/ppt/media/image28.png" ContentType="image/png"/>
  <Override PartName="/ppt/media/image7.jpeg" ContentType="image/jpeg"/>
  <Override PartName="/ppt/media/image1.wmf" ContentType="image/x-wmf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media/image22.jpeg" ContentType="image/jpeg"/>
  <Override PartName="/ppt/media/image9.png" ContentType="image/png"/>
  <Override PartName="/ppt/media/image2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442E-AABB-4D8A-9491-3F4ECBF91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D806-13BB-48E6-8BBB-2ED2DDBB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6442-66FD-4C31-938D-F67A0776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4EE5-B5EA-40C5-8FB7-82D1176A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5BF0-C3AA-41C6-A7BD-2FA852F6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9C22-C62E-496D-9C17-D3B732A4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C240-E601-42F0-9ECC-95AB3C63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6CCE-9DB4-4A8B-BD46-40B029D3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9409-5D47-4F97-BB3D-2F693179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498A-16FC-481F-84D7-19BF650F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C773-13DE-4AE5-96FC-8C05DB21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1D10-CA3E-42D5-9F9F-B638BB0E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5D3D-97C8-43B0-8A8F-48B85054F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jindrichpolak.wz.cz/encyklopedie/crnejspolecnost.php#hospodarstvi" TargetMode="External"/><Relationship Id="rId2" Type="http://schemas.openxmlformats.org/officeDocument/2006/relationships/hyperlink" Target="http://www.jindrichpolak.wz.cz/encyklopedie/crnejspolecnost.php#hospodarstvi" TargetMode="External"/><Relationship Id="rId3" Type="http://schemas.openxmlformats.org/officeDocument/2006/relationships/hyperlink" Target="http://www.jindrichpolak.wz.cz/encyklopedie/crnejspolecnost.php#hospodarstvi" TargetMode="External"/><Relationship Id="rId4" Type="http://schemas.openxmlformats.org/officeDocument/2006/relationships/hyperlink" Target="http://www.jindrichpolak.wz.cz/encyklopedie/crnejspolecnost.php#hospodarstvi" TargetMode="External"/><Relationship Id="rId5" Type="http://schemas.openxmlformats.org/officeDocument/2006/relationships/hyperlink" Target="http://www.jindrichpolak.wz.cz/encyklopedie/crnejspolecnost.php#hospodarstvi" TargetMode="External"/><Relationship Id="rId6" Type="http://schemas.openxmlformats.org/officeDocument/2006/relationships/hyperlink" Target="http://www.jindrichpolak.wz.cz/encyklopedie/crnejspolecnost.php#hospodarstvi" TargetMode="External"/><Relationship Id="rId7" Type="http://schemas.openxmlformats.org/officeDocument/2006/relationships/hyperlink" Target="http://www.jindrichpolak.wz.cz/encyklopedie/crnejspolecnost.php#hospodarstvi" TargetMode="External"/><Relationship Id="rId8" Type="http://schemas.openxmlformats.org/officeDocument/2006/relationships/hyperlink" Target="http://www.jindrichpolak.wz.cz/encyklopedie/crnejspolecnost.php#hospodarstvi" TargetMode="External"/><Relationship Id="rId9" Type="http://schemas.openxmlformats.org/officeDocument/2006/relationships/hyperlink" Target="http://www.jindrichpolak.wz.cz/encyklopedie/crnejspolecnost.php#hospodarstvi" TargetMode="External"/><Relationship Id="rId10" Type="http://schemas.openxmlformats.org/officeDocument/2006/relationships/hyperlink" Target="http://www.jindrichpolak.wz.cz/encyklopedie/crnejspolecnost.php#hospodarstvi" TargetMode="External"/><Relationship Id="rId11" Type="http://schemas.openxmlformats.org/officeDocument/2006/relationships/hyperlink" Target="http://www.jindrichpolak.wz.cz/encyklopedie/crnejspolecnost.php#hospodarstvi" TargetMode="External"/><Relationship Id="rId12" Type="http://schemas.openxmlformats.org/officeDocument/2006/relationships/hyperlink" Target="http://www.jindrichpolak.wz.cz/encyklopedie/crnejspolecnost.php#hospodarstvi" TargetMode="External"/><Relationship Id="rId13" Type="http://schemas.openxmlformats.org/officeDocument/2006/relationships/hyperlink" Target="http://www.czso.cz/csu/csu.nsf/aktualniinformace" TargetMode="External"/><Relationship Id="rId14" Type="http://schemas.openxmlformats.org/officeDocument/2006/relationships/hyperlink" Target="http://www.czech.cz/cz/ekonomika-podnikani-veda/" TargetMode="External"/><Relationship Id="rId15" Type="http://schemas.openxmlformats.org/officeDocument/2006/relationships/hyperlink" Target="http://www.czech.cz/cz/ceska-republika/souziti-s-prirodou/zemedelstvi-a-chovatelstvi/" TargetMode="External"/><Relationship Id="rId16" Type="http://schemas.openxmlformats.org/officeDocument/2006/relationships/hyperlink" Target="http://www.czech.cz/cz/ceska-republika/doprava/" TargetMode="External"/><Relationship Id="rId17" Type="http://schemas.openxmlformats.org/officeDocument/2006/relationships/hyperlink" Target="http://www.mpo.cz/" TargetMode="External"/><Relationship Id="rId18" Type="http://schemas.openxmlformats.org/officeDocument/2006/relationships/hyperlink" Target="http://cs.wikipedia.org/wiki/Ekonomika_&#268;eska" TargetMode="External"/><Relationship Id="rId19" Type="http://schemas.openxmlformats.org/officeDocument/2006/relationships/hyperlink" Target="http://www.euroekonom.cz/ekonomika.php" TargetMode="External"/><Relationship Id="rId20" Type="http://schemas.openxmlformats.org/officeDocument/2006/relationships/hyperlink" Target="http://www.euroekonom.cz/ekonomika-model1.php" TargetMode="External"/><Relationship Id="rId21" Type="http://schemas.openxmlformats.org/officeDocument/2006/relationships/hyperlink" Target="http://www.mesec.cz/dane-a-stat/deni-v-ekonomice/" TargetMode="External"/><Relationship Id="rId2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mze.cz/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zech.cz/cz/ekonomika-podnikani-veda/vseobecne-informace/hospodarstvi-rust-a-potencial/prumysl/strojirenstvi/" TargetMode="External"/><Relationship Id="rId2" Type="http://schemas.openxmlformats.org/officeDocument/2006/relationships/hyperlink" Target="http://www.czech.cz/cz/ekonomika-podnikani-veda/vseobecne-informace/hospodarstvi-rust-a-potencial/prumysl/gumarensky-a-plastikarsky-prumysl/" TargetMode="External"/><Relationship Id="rId3" Type="http://schemas.openxmlformats.org/officeDocument/2006/relationships/hyperlink" Target="http://www.czech.cz/cz/ekonomika-podnikani-veda/vseobecne-informace/hospodarstvi-rust-a-potencial/prumysl/zbrojarsky-prumysl/" TargetMode="External"/><Relationship Id="rId4" Type="http://schemas.openxmlformats.org/officeDocument/2006/relationships/hyperlink" Target="http://www.czech.cz/cz/ekonomika-podnikani-veda/vseobecne-informace/hospodarstvi-rust-a-potencial/prumysl/energeticky-prumysl/" TargetMode="External"/><Relationship Id="rId5" Type="http://schemas.openxmlformats.org/officeDocument/2006/relationships/hyperlink" Target="http://www.czech.cz/cz/ekonomika-podnikani-veda/vseobecne-informace/hospodarstvi-rust-a-potencial/prumysl/chemicky-prumysl/" TargetMode="External"/><Relationship Id="rId6" Type="http://schemas.openxmlformats.org/officeDocument/2006/relationships/hyperlink" Target="http://www.czech.cz/cz/ekonomika-podnikani-veda/spotrebni-prumysl/" TargetMode="External"/><Relationship Id="rId7" Type="http://schemas.openxmlformats.org/officeDocument/2006/relationships/hyperlink" Target="http://www.czech.cz/cz/ekonomika-podnikani-veda/vseobecne-informace/tradicni-ceske-produkty-a-znacky/" TargetMode="External"/><Relationship Id="rId8" Type="http://schemas.openxmlformats.org/officeDocument/2006/relationships/slide" Target="slide6.xml"/><Relationship Id="rId9" Type="http://schemas.openxmlformats.org/officeDocument/2006/relationships/hyperlink" Target="http://www.afi.cz/aktuality/spolecenske-akce/investor-roku-2006.html" TargetMode="External"/><Relationship Id="rId10" Type="http://schemas.openxmlformats.org/officeDocument/2006/relationships/slide" Target="slide6.xml"/><Relationship Id="rId11" Type="http://schemas.openxmlformats.org/officeDocument/2006/relationships/image" Target="../media/image5.png"/><Relationship Id="rId12" Type="http://schemas.openxmlformats.org/officeDocument/2006/relationships/slide" Target="slide6.xml"/><Relationship Id="rId13" Type="http://schemas.openxmlformats.org/officeDocument/2006/relationships/image" Target="../media/image6.png"/><Relationship Id="rId14" Type="http://schemas.openxmlformats.org/officeDocument/2006/relationships/slide" Target="slide6.xml"/><Relationship Id="rId15" Type="http://schemas.openxmlformats.org/officeDocument/2006/relationships/image" Target="../media/image7.jpeg"/><Relationship Id="rId16" Type="http://schemas.openxmlformats.org/officeDocument/2006/relationships/slide" Target="slide6.xml"/><Relationship Id="rId17" Type="http://schemas.openxmlformats.org/officeDocument/2006/relationships/image" Target="../media/image8.png"/><Relationship Id="rId18" Type="http://schemas.openxmlformats.org/officeDocument/2006/relationships/slide" Target="slide6.xml"/><Relationship Id="rId19" Type="http://schemas.openxmlformats.org/officeDocument/2006/relationships/image" Target="../media/image9.png"/><Relationship Id="rId20" Type="http://schemas.openxmlformats.org/officeDocument/2006/relationships/slide" Target="slide6.xml"/><Relationship Id="rId21" Type="http://schemas.openxmlformats.org/officeDocument/2006/relationships/image" Target="../media/image10.jpeg"/><Relationship Id="rId22" Type="http://schemas.openxmlformats.org/officeDocument/2006/relationships/slide" Target="slide6.xml"/><Relationship Id="rId23" Type="http://schemas.openxmlformats.org/officeDocument/2006/relationships/image" Target="../media/image11.jpeg"/><Relationship Id="rId24" Type="http://schemas.openxmlformats.org/officeDocument/2006/relationships/slide" Target="slide6.xml"/><Relationship Id="rId25" Type="http://schemas.openxmlformats.org/officeDocument/2006/relationships/image" Target="../media/image12.png"/><Relationship Id="rId26" Type="http://schemas.openxmlformats.org/officeDocument/2006/relationships/slide" Target="slide6.xml"/><Relationship Id="rId27" Type="http://schemas.openxmlformats.org/officeDocument/2006/relationships/image" Target="../media/image13.png"/><Relationship Id="rId28" Type="http://schemas.openxmlformats.org/officeDocument/2006/relationships/slide" Target="slide6.xml"/><Relationship Id="rId29" Type="http://schemas.openxmlformats.org/officeDocument/2006/relationships/image" Target="../media/image14.jpeg"/><Relationship Id="rId30" Type="http://schemas.openxmlformats.org/officeDocument/2006/relationships/slide" Target="slide6.xml"/><Relationship Id="rId31" Type="http://schemas.openxmlformats.org/officeDocument/2006/relationships/image" Target="../media/image15.png"/><Relationship Id="rId32" Type="http://schemas.openxmlformats.org/officeDocument/2006/relationships/slide" Target="slide6.xml"/><Relationship Id="rId33" Type="http://schemas.openxmlformats.org/officeDocument/2006/relationships/image" Target="../media/image16.jpeg"/><Relationship Id="rId34" Type="http://schemas.openxmlformats.org/officeDocument/2006/relationships/slide" Target="slide6.xml"/><Relationship Id="rId35" Type="http://schemas.openxmlformats.org/officeDocument/2006/relationships/image" Target="../media/image17.png"/><Relationship Id="rId36" Type="http://schemas.openxmlformats.org/officeDocument/2006/relationships/slide" Target="slide6.xml"/><Relationship Id="rId37" Type="http://schemas.openxmlformats.org/officeDocument/2006/relationships/image" Target="../media/image18.jpeg"/><Relationship Id="rId38" Type="http://schemas.openxmlformats.org/officeDocument/2006/relationships/slide" Target="slide6.xml"/><Relationship Id="rId39" Type="http://schemas.openxmlformats.org/officeDocument/2006/relationships/image" Target="../media/image19.jpeg"/><Relationship Id="rId40" Type="http://schemas.openxmlformats.org/officeDocument/2006/relationships/slide" Target="slide6.xml"/><Relationship Id="rId41" Type="http://schemas.openxmlformats.org/officeDocument/2006/relationships/image" Target="../media/image20.jpeg"/><Relationship Id="rId42" Type="http://schemas.openxmlformats.org/officeDocument/2006/relationships/slide" Target="slide6.xml"/><Relationship Id="rId43" Type="http://schemas.openxmlformats.org/officeDocument/2006/relationships/image" Target="../media/image21.jpeg"/><Relationship Id="rId44" Type="http://schemas.openxmlformats.org/officeDocument/2006/relationships/slide" Target="slide6.xml"/><Relationship Id="rId45" Type="http://schemas.openxmlformats.org/officeDocument/2006/relationships/image" Target="../media/image22.jpeg"/><Relationship Id="rId46" Type="http://schemas.openxmlformats.org/officeDocument/2006/relationships/slide" Target="slide6.xml"/><Relationship Id="rId47" Type="http://schemas.openxmlformats.org/officeDocument/2006/relationships/image" Target="../media/image23.png"/><Relationship Id="rId48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4.png"/><Relationship Id="rId3" Type="http://schemas.openxmlformats.org/officeDocument/2006/relationships/hyperlink" Target="http://www.czech.cz/cz/ceska-republika/doprava/lodni-doprava-v-cr/" TargetMode="External"/><Relationship Id="rId4" Type="http://schemas.openxmlformats.org/officeDocument/2006/relationships/hyperlink" Target="http://www.czech.cz/cz/ceska-republika/doprava/silnicni-doprava/" TargetMode="External"/><Relationship Id="rId5" Type="http://schemas.openxmlformats.org/officeDocument/2006/relationships/hyperlink" Target="http://www.czech.cz/cz/ceska-republika/doprava/charakteristika-zeleznic/" TargetMode="External"/><Relationship Id="rId6" Type="http://schemas.openxmlformats.org/officeDocument/2006/relationships/hyperlink" Target="http://www.czech.cz/cz/ceska-republika/doprava/letecka-doprava/ceska-letiste/" TargetMode="External"/><Relationship Id="rId7" Type="http://schemas.openxmlformats.org/officeDocument/2006/relationships/slide" Target="slide7.xml"/><Relationship Id="rId8" Type="http://schemas.openxmlformats.org/officeDocument/2006/relationships/image" Target="../media/image25.png"/><Relationship Id="rId9" Type="http://schemas.openxmlformats.org/officeDocument/2006/relationships/slide" Target="slide7.xml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jizdnirady.idnes.cz/JRCis.asp" TargetMode="External"/><Relationship Id="rId2" Type="http://schemas.openxmlformats.org/officeDocument/2006/relationships/hyperlink" Target="http://www.e-autoskola.cz/testy/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image" Target="../media/image27.jpeg"/><Relationship Id="rId4" Type="http://schemas.openxmlformats.org/officeDocument/2006/relationships/hyperlink" Target="http://www.incoma.cz/" TargetMode="External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SPODÁŘSTVÍ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340000" y="2133720"/>
          <a:ext cx="5040360" cy="383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133720"/>
                    <a:ext cx="5040360" cy="38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ostatná práce služ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hodnoťte strukturu a rozložení sítě služeb ve vašem městě. Chybějí zde některé služby? Je některých nadbytek? Jsou některé nadstandardn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mezte spádovou oblast vaší školy, nemocnice, supermarket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 říkáte na film: Český 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ýzkum - kvarté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 minulosti české vědy (aneb dokážeš přiřadit vynález ke jménu vynálezce): Josef Ressel, Prokop Diviš, Otto Wichterle, František Křižík – oblouková lampa, kontaktní čočky, lodní šroub, bleskosvo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důležitější objevy současnos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ruvada - dosud nejúčinnější lék proti AI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epsera - lék proti hepatititě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mrec - počítač ovládaný pohybem oč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tomatický přepis mluveného slo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nospider - technologii pro tkaní nanovlák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učenina bránící množení viru HI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dentifikace člověka dle způsobu chů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050920" y="4869000"/>
            <a:ext cx="1249560" cy="1844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118160" y="630864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Obrázek"/>
          <p:cNvPicPr/>
          <p:nvPr/>
        </p:nvPicPr>
        <p:blipFill>
          <a:blip r:embed="rId2"/>
          <a:stretch/>
        </p:blipFill>
        <p:spPr>
          <a:xfrm>
            <a:off x="5724360" y="3141720"/>
            <a:ext cx="3270240" cy="2174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590520" y="530064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NOSP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19280" y="-360"/>
            <a:ext cx="5724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ahraniční obchod (Z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4365360"/>
            <a:ext cx="9144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 roku 1989 dochází k přeorientování ZO z východu na záp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zeměmi OECD uskutečňujeme 80% ZO s EU pak 77% ZO (nejvíce Německo, SR, Polsko a Rusk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ČR vyváží: stroje a dopravní prostředky (51%), spotřební zboží (11%), ČR dováží: stroje (40%), chemie a paliva (11%) – nejvíce paliv ze zemí SNS (61%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konomika ČR je tažena exportem především nadnárodních (nečeských) společností, které v ČR mají pouze sídl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83520" y="6491160"/>
            <a:ext cx="365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íce o zahraničním obchodu Z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419640" y="620640"/>
            <a:ext cx="5381640" cy="3686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962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indrichpolak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z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z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encyklopedie/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crnejspolecnost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php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#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ospodarst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www.czso.cz/csu/csu.nsf/aktualniinform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www.czech.cz/cz/ekonomika-podnikani-veda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www.czech.cz/cz/ceska-republika/souziti-s-prirodou/zemedelstvi-a-chovatelstv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www.czech.cz/cz/ceska-republika/doprava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www.mpo.cz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://cs.wikipedia.org/wiki/Ekonomika_%C4%8Ce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ttp://www.euroekonom.cz/ekonomika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http://www.euroekonom.cz/ekonomika-model1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://www.mesec.cz/dane-a-stat/deni-v-ekonomic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ttp://www.zemepis.com/ekg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ttp://www.businessinfo.cz/cz/rubrika/teritorialni-informace-zeme/1000540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kladní ukazatelé a inform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kové HDP (parita kupní síly) v roce 2007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199 400 000 000 USD (41. místo na svět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HDP na 1 obyv. (parita kupní síly) v roce 2007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19 500 USD (40. mís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Růst HDP (rok 2008)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4,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růměrná hrubá mzda (rok 2008)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23 144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Růst reálných mezd (rok 2008)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1,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Nezaměstnanost (2008)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Deficit státního rozpočtu (rok 2009)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38,1 mld.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Státní dluh (rok 2009)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činí asi 40% HDP (celkem 999,5 miliardy korun, na každého Čecha tak připadá dluh téměř 96.000 kor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Míra inflace (rok 2008)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6,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eské republice v roce 2005 podařilo předstihnout v HDP na 1 obyvatele Portugalsko, první ze „starých“ členských zemí Evropské Unie. Úroveň vyspělých evropských ekonomik by Česká republika mohla podle některých ekonomických prognóz dosáhnout kolem roku 201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220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ik nových firem na „zelené louc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ižování energetické náročnosti výro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zvoj těžkého průmysl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útlum nehospodárných výro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kles výroby oce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gnace potřebního průmysl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ké zaostává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říliv zahraničního kapitál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ývoz výrobků směrem na výc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rnizace výro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řechod na tržní hospodářstv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národnění podniků a fir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lá konkurenceschopn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rušování životního prostřed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útlum hornictv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ůst výroby energie v teplených elektrárná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yšší spotřeba ener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ížení nepříznivého vlivu průmyslu na životní prostřed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ůst počtu zaměstnanců ve službá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izace státního majet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981000"/>
            <a:ext cx="43624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ÝVOJ HOSPODÁŘ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945-19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16360" y="981000"/>
            <a:ext cx="41036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VÝVOJ HOSPODÁŘ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1990-D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33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OSTATNÁ PRÁCE HOSPODÁŘSTVÍ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43624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ÝVOJ HOSPODÁŘ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945-19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16000" y="476280"/>
            <a:ext cx="41036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VÝVOJ HOSPODÁŘ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1990-D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Arial"/>
              </a:rPr>
              <a:t>vnik nových firem na „zelené louc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Arial"/>
              </a:rPr>
              <a:t>snižování energetické náročnosti výro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rozvoj těžkého průmysl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Arial"/>
              </a:rPr>
              <a:t>útlum nehospodárných výro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Arial"/>
              </a:rPr>
              <a:t>pokles výroby oce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tagnace potřebního průmysl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technické zaostává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Arial"/>
              </a:rPr>
              <a:t>příliv zahraničního kapitál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vývoz výrobků směrem na výc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Arial"/>
              </a:rPr>
              <a:t>modernizace výro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Arial"/>
              </a:rPr>
              <a:t>přechod na tržní hospodářstv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znárodnění podniků a fir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alá konkurenceschopn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narušování životního prostřed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Arial"/>
              </a:rPr>
              <a:t>útlum hornictv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růst výroby energie v teplených elektrárná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Arial"/>
              </a:rPr>
              <a:t>vyšší spotřeba ener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Arial"/>
              </a:rPr>
              <a:t>snížení nepříznivého vlivu průmyslu na životní prostřed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Arial"/>
              </a:rPr>
              <a:t>růst počtu zaměstnanců ve službá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Arial"/>
              </a:rPr>
              <a:t>privatizace státního majet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84720" y="170028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2764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195640" y="21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2349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256536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979640" y="278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763280" y="299736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24360" y="321300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692000" y="3429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35640" y="3645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386064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834920" y="4076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619280" y="4292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332000" y="4508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92720" y="465300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402920" y="494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5157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04000" y="5373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84720" y="5589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6000" y="57340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emědělstv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České zemědělství má dlouhou tradici, přestože je Česká republika zemí spíše industriální. Vzhledem ke klimatickým podmínkám se zde daří mnoha druhům zeleniny a ovoce a také skotu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zi tradiční zemědělské produkty zemědělské výroby patří: obilí, brambory, cukrová řepa, chmel a víno, ovo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64000" y="3429000"/>
            <a:ext cx="2752920" cy="24955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65480" y="311940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ůdní fond v Č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9640" y="3357720"/>
            <a:ext cx="2657520" cy="2047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203640" y="3429000"/>
            <a:ext cx="1371600" cy="971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062320" y="3141720"/>
            <a:ext cx="392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a rozšíření jednotlivých zemědělských typ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9080" y="6329520"/>
            <a:ext cx="26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Ministerstvo zemědělst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ůmysl a výro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0" y="692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R má dlouhou tradici především těžkého průmyslu - zejména hutnictví a strojírenství související se zásobami nerostných surovin. Velký význam pro hospodářství má také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utomobilov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růmysl, dále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umárensk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zbrojařsk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energetick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hemick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spotřební průmysl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 další tradiční odvětví, jako například průmysl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sklářsk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další obor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ůležité jsou zahraniční investice např. (více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zd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stup koncernu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Volkswagen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 automobilky Škoda Mladá Bolesla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ihokorejská automobilka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Hyunda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továrně v Nošovicích na severní Moravě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Toyota Peugeot Citroën Automobil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TPCA) - obrovská investicí je továrna na výrobu osobních vozů v Kolíně, společný podnik automobilek Toyota, Citroen a Peguot, vyrábí 300 000 aut ročně. Celkové investice dosáhly přes 650 milionů Eur. Automobilka zaměstnává asi 3 500 zaměstnanců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aponská společnost IPS Alpha, strategický spojenec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Hitachi, Panasonicu a Toshib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oficiálně potvrdila svůj plán vybudovat v České republice továrnu na výrobu LCD displejů v hodnotě více než 2,6 miliardy K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365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4720" y="4456080"/>
            <a:ext cx="26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jaké výrobky se jedná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132000" y="436572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179280" y="4869000"/>
            <a:ext cx="720720" cy="707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971640" y="4941720"/>
            <a:ext cx="936360" cy="524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1332000" y="5661000"/>
            <a:ext cx="790560" cy="996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6588000" y="4581360"/>
            <a:ext cx="1008360" cy="828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2050920" y="4941720"/>
            <a:ext cx="962280" cy="219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2340000" y="5950080"/>
            <a:ext cx="1008000" cy="772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4067280" y="5084640"/>
            <a:ext cx="1368360" cy="497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5508720" y="593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28" action="ppaction://hlinksldjump"/>
          </p:cNvPr>
          <p:cNvPicPr/>
          <p:nvPr/>
        </p:nvPicPr>
        <p:blipFill>
          <a:blip r:embed="rId29"/>
          <a:stretch/>
        </p:blipFill>
        <p:spPr>
          <a:xfrm>
            <a:off x="4140360" y="4581360"/>
            <a:ext cx="1512720" cy="355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30" action="ppaction://hlinksldjump"/>
          </p:cNvPr>
          <p:cNvPicPr/>
          <p:nvPr/>
        </p:nvPicPr>
        <p:blipFill>
          <a:blip r:embed="rId31"/>
          <a:stretch/>
        </p:blipFill>
        <p:spPr>
          <a:xfrm>
            <a:off x="4716360" y="5877000"/>
            <a:ext cx="647640" cy="603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32" action="ppaction://hlinksldjump"/>
          </p:cNvPr>
          <p:cNvPicPr/>
          <p:nvPr/>
        </p:nvPicPr>
        <p:blipFill>
          <a:blip r:embed="rId33"/>
          <a:stretch/>
        </p:blipFill>
        <p:spPr>
          <a:xfrm>
            <a:off x="3708360" y="6021360"/>
            <a:ext cx="934920" cy="550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34" action="ppaction://hlinksldjump"/>
          </p:cNvPr>
          <p:cNvPicPr/>
          <p:nvPr/>
        </p:nvPicPr>
        <p:blipFill>
          <a:blip r:embed="rId35"/>
          <a:stretch/>
        </p:blipFill>
        <p:spPr>
          <a:xfrm>
            <a:off x="7093080" y="5805360"/>
            <a:ext cx="1333440" cy="295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36" action="ppaction://hlinksldjump"/>
          </p:cNvPr>
          <p:cNvPicPr/>
          <p:nvPr/>
        </p:nvPicPr>
        <p:blipFill>
          <a:blip r:embed="rId37"/>
          <a:stretch/>
        </p:blipFill>
        <p:spPr>
          <a:xfrm>
            <a:off x="6877080" y="6219720"/>
            <a:ext cx="1428840" cy="638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38" action="ppaction://hlinksldjump"/>
          </p:cNvPr>
          <p:cNvPicPr/>
          <p:nvPr/>
        </p:nvPicPr>
        <p:blipFill>
          <a:blip r:embed="rId39"/>
          <a:stretch/>
        </p:blipFill>
        <p:spPr>
          <a:xfrm>
            <a:off x="5796000" y="4941720"/>
            <a:ext cx="647640" cy="857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40" action="ppaction://hlinksldjump"/>
          </p:cNvPr>
          <p:cNvPicPr/>
          <p:nvPr/>
        </p:nvPicPr>
        <p:blipFill>
          <a:blip r:embed="rId41"/>
          <a:stretch/>
        </p:blipFill>
        <p:spPr>
          <a:xfrm>
            <a:off x="250920" y="5734080"/>
            <a:ext cx="906480" cy="736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42" action="ppaction://hlinksldjump"/>
          </p:cNvPr>
          <p:cNvPicPr/>
          <p:nvPr/>
        </p:nvPicPr>
        <p:blipFill>
          <a:blip r:embed="rId43"/>
          <a:stretch/>
        </p:blipFill>
        <p:spPr>
          <a:xfrm>
            <a:off x="3059280" y="5084640"/>
            <a:ext cx="858600" cy="858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44" action="ppaction://hlinksldjump"/>
          </p:cNvPr>
          <p:cNvPicPr/>
          <p:nvPr/>
        </p:nvPicPr>
        <p:blipFill>
          <a:blip r:embed="rId45"/>
          <a:stretch/>
        </p:blipFill>
        <p:spPr>
          <a:xfrm>
            <a:off x="7667640" y="4508640"/>
            <a:ext cx="1332000" cy="500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46" action="ppaction://hlinksldjump"/>
          </p:cNvPr>
          <p:cNvPicPr/>
          <p:nvPr/>
        </p:nvPicPr>
        <p:blipFill>
          <a:blip r:embed="rId47"/>
          <a:stretch/>
        </p:blipFill>
        <p:spPr>
          <a:xfrm>
            <a:off x="7524720" y="5229360"/>
            <a:ext cx="1476360" cy="46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404640"/>
            <a:ext cx="3816360" cy="2694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2852640"/>
            <a:ext cx="42116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odní doprava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300 splavných km, 2 - 5 % objemu vývozů a dovoz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ilnič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celková délka silnic a dáln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asi 60 000 km (dálnice asi 1000 k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Železnič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- provozováno na 9 513 km železničních tratí, z toho 2997 elekrizovaných. 99% provozují Č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Leteck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4 mezinárodní letiště: v Brně, Ostravě, Karlových Varech a největší v Praze, odbaví celkem přes 12 mil. cestující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ternet a komunikace – internet používá v roce 2007 asi 4,5 mil. lidí (asi 20% domácností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83% obyvatel využívá mobilní telef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572000" y="404640"/>
            <a:ext cx="4572000" cy="2819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067280" y="3921120"/>
            <a:ext cx="50767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ostatná práce dopra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mocí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ízdního řádu na internet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zjisti dopravní spojení z vašeho města do vašeho krajského města, do hlavního města, nebo do dalšího vybraného města. Zjisti cenu, rychlost spojení, počet přestupů ap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hodnoťte hustotu a kvalitu dopravní sítě vašeho okol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žná že se chystáš získat řidičský průkaz, co tak si vyzkoušet nějaké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es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užby – nevýrobní složka hospodářs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475920"/>
            <a:ext cx="5148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užby po roce 1989 procházejí nejdynamičtějším rozvojem ze všech oboru našeho hospodářství. Kromě služeb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klasickýc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se rozvíjí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lužby nové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 Díky tomu roste kvalita a rozvíjí se konkurence. Obecně platí čím větší sídlo tím více služeb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pádové oblast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0" y="2276640"/>
            <a:ext cx="5364000" cy="4022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475280" y="6093000"/>
            <a:ext cx="209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droj: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incoma.cz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5724360" y="620640"/>
            <a:ext cx="295308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9:25:59Z</dcterms:created>
  <dc:creator>jj</dc:creator>
  <dc:description/>
  <dc:language>en-US</dc:language>
  <cp:lastModifiedBy>jj</cp:lastModifiedBy>
  <dcterms:modified xsi:type="dcterms:W3CDTF">2009-12-10T20:12:42Z</dcterms:modified>
  <cp:revision>35</cp:revision>
  <dc:subject/>
  <dc:title>HOSPODÁŘSTVÍ V ČR</dc:title>
</cp:coreProperties>
</file>