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C45-1B1E-43D2-BE33-77B19448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ADF-C31C-4759-AEF7-13FAAEE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38D-AF39-4911-8AFA-91A71DF2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EFD-63A4-4255-8326-CEF22633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BCC-2329-433A-9A4D-4E70DC61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1C9-DCA6-4400-B337-BB42816D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19A-6A6A-4A5E-B214-78B7F1F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C04-0556-40F8-9365-B23A803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A7A-2659-4AF9-9BB3-0CDB6F1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B3A-B8CD-4AFA-8FA1-AB5089B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0FD-2A09-402F-8A10-4FB8F19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F53-19F8-4A97-B218-D87E250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327-46E3-4789-A434-ECE03D5A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fická rozcvič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se nazývají v mapách čáry spojující místa o stejné nadmořské výš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příklad sopečného pohoří v Č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najdeme nejnižší místo Morav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etí nejvyšší hora Č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hlubší propast Č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 české subprovincii se těží nejvíce hnědého uhl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jaké hornině může vzniknout krasová obl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é dva úvaly se stýkají v Napajedelské brá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terém celku leží posvátná hora Ří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se jmenuje vrchol vypínající se na městem Liber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) Co je to teplotní inver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Ve kterém podnebném pásu leží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) Jak ovlivňuje podnebí nadmořská výš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) Která oblast je u nás nejsušš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) Kde bylo v ČR naměřeno nejvíce sráž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 V jaké podnebné oblasti leží Napajed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 Cyklona je tlaková výše nebo tlaková níž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Co přináší fron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) Kde byla naměřená nejnižší teplota v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 Kde byla naměřena nejvyšší průměrná teplota v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) Co je to Klemen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) Do kterého moře odtéká z ČR nejvíce v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) Která řeka odvádí většinu vody do Černého moře z území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) Kde najdeme hlavní evropské rozv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) Nachází se na území ČR povodí Váh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) U kterého města se stéká Vltava a La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) Nejdelší řeka v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4356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rstev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České Středoho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tok Moravy a Dy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lický Sněž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ra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ušnohor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ápe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rno a Dolnomorav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lnooharská pán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št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vzduch v údolích – mlhy, horské svahy – slunečné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rný – přechod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esá teplota a zvyšuje se množství sráž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atecko – stín Krušných 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ílý Potok – Jizerské h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691920"/>
            <a:ext cx="44956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6) Tep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7) Ní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) Srá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9) Litvínovice u Č. Buděj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) Hodonín/Pra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1) Nejstarší meteorologická stanice v ČR (od roku 175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2) Severní m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3) Mo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4) Kralický Sněž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)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6) Mě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7) Vl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41:42Z</dcterms:created>
  <dc:creator>jj</dc:creator>
  <dc:description/>
  <dc:language>en-US</dc:language>
  <cp:lastModifiedBy>jj</cp:lastModifiedBy>
  <dcterms:modified xsi:type="dcterms:W3CDTF">2010-11-10T21:09:47Z</dcterms:modified>
  <cp:revision>2</cp:revision>
  <dc:subject/>
  <dc:title>Geografická rozcvička</dc:title>
</cp:coreProperties>
</file>