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B2D-EC00-409E-A3EE-C21F23B8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D1A-5879-48E3-A7D4-1BDB0BC1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654-5BE1-40FD-AEB3-230F97FD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F6C-3035-4718-A98B-43DBF41B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1C0-DCBA-4BE4-A013-DDF8976F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448-4240-441E-B787-701641FC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237-9304-4D9C-93B0-F910AE57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694-BD79-433F-9AA2-A2C90916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B85-AF10-49C4-9992-1A144F42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BC4-D36C-4314-9E52-7BE6BB5C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A8F-64D9-4FA9-BC29-67592854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7C9-DC72-43B7-8159-4E9D12BB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C4C5-D8A8-4735-84C5-895E39BE5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" Target="slide8.xm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8.xml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zechtourism.cz/?show=003010" TargetMode="External"/><Relationship Id="rId2" Type="http://schemas.openxmlformats.org/officeDocument/2006/relationships/hyperlink" Target="http://www.czechtourism.cz/?show=003010" TargetMode="External"/><Relationship Id="rId3" Type="http://schemas.openxmlformats.org/officeDocument/2006/relationships/hyperlink" Target="http://www.czso.cz/csu/redakce.nsf/i/cestovni_ruch" TargetMode="External"/><Relationship Id="rId4" Type="http://schemas.openxmlformats.org/officeDocument/2006/relationships/hyperlink" Target="http://www.czso.cz/csu/redakce.nsf/i/cru_cr" TargetMode="External"/><Relationship Id="rId5" Type="http://schemas.openxmlformats.org/officeDocument/2006/relationships/hyperlink" Target="http://www.cestovni-ruch.cz/" TargetMode="External"/><Relationship Id="rId6" Type="http://schemas.openxmlformats.org/officeDocument/2006/relationships/hyperlink" Target="http://www.czech.cz/cz/kultura/" TargetMode="External"/><Relationship Id="rId7" Type="http://schemas.openxmlformats.org/officeDocument/2006/relationships/hyperlink" Target="http://gis.zcu.cz/studium/dbg2/Materialy/html/ch16.html" TargetMode="External"/><Relationship Id="rId8" Type="http://schemas.openxmlformats.org/officeDocument/2006/relationships/hyperlink" Target="http://cz.unesco-czech.cz/" TargetMode="External"/><Relationship Id="rId9" Type="http://schemas.openxmlformats.org/officeDocument/2006/relationships/hyperlink" Target="http://www.jindrichpolak.wz.cz/encyklopedie/crnejkraje.php#udajekraje1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TOVNÍ RUC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KR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3573360"/>
            <a:ext cx="6981840" cy="3029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3600" y="3213000"/>
            <a:ext cx="86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stovní ruch řadíme mezi služby, někdy bývá pojímán jako samostatné hospodářské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dpoklady cestovního ruchu (C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rodní (až na velehory a moře se v ČR nachází všechny typy evropské kraji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lturněhistor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ační (zázemí pro 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lší (politická situace, atraktivita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76360" y="2352600"/>
            <a:ext cx="65469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stovní ruch v krajích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4653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2920" y="6211800"/>
            <a:ext cx="115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droj: Novinky.c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836640"/>
            <a:ext cx="514836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ělení C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tiv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říjezd zahraničních turistů) 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iv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estování našich občanů do zahranič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ložení cestovního ruchu během roku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oroční, sezón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tní, zim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lka pobytu účastníků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louhodobé, krátkodob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-3 d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stovní cí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ekreační, poznávací, sportovní, turistický, léčebný, nábožensk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ce účastníků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organizovan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ndividuální, volný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ovan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olektivní, hromadný, vázaný, skupinov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běr účastníků – volný nebo výběrový (podle předem stanovených podmínek, např. léčba v lázní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itoriální rozmístění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ác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nitrozemský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hrani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6360" y="1341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03640" y="3633840"/>
            <a:ext cx="4140360" cy="3224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67280" y="189000"/>
            <a:ext cx="23623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lasti CR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90792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. katego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krajiny s funkcí převážně mezinárodního případně celostátního významu (Krkonoše, Západočeské lázně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I. katego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oblasti s funkcí převážně celostátní a částečně mezinárod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II. katego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oblasti pouze s regionální funk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V. katego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oblasti s především krátkodobou regionální funk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774880"/>
            <a:ext cx="9144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ktura cestovního r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řadí zahraničních turistů v Č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ěmecko (1 400 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ká Británie (400 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sko (350 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á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zozem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kousko 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00720" y="54936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e nejvíc trávíme dovoleno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orvatsko (1 000 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ensko (800 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tálie (500 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ec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paněl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n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mec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kousko at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50920" y="3828960"/>
            <a:ext cx="43815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ulturní a přírodní dědictv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mátky UNESCO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istorické jádro Prahy (199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istorické jádro Českého Krumlova (199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istorické jádro Telče (199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utní kostel sv. Jana Nepomuckého na Zelené hoře u Žďáru nad Sázavou (19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istorické jádro Kutné Hory s kostelem sv. Barbory a katedrálou Panny Marie v Sedlci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ednicko-valtický areál (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snice Holašovice (199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mek a zahrady v Kroměříži (199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mek v Litomyšli (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up Nejsvětější Trojice v Olomouci (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la Tugendhat v Brně (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Židovská čtvrť a Bazilika Svatého Prokopa v Třebíči (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iosférické rezervace UNESC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řivoklátsko (1977), Třeboňsko (1977), Pálava (1986), Šumava (1990), Krkonoše (1992), Bílé Karpaty (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obrázkům přidejte jejich náze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620640"/>
            <a:ext cx="2592360" cy="1733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60" y="6216480"/>
            <a:ext cx="64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ké Losiny, Zelená Hora, Křivoklát, Loket, Trosky, Špilber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stevny, Ještěd, Konopiště, Rab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556000" y="1989000"/>
            <a:ext cx="2808000" cy="1930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67280" y="620640"/>
            <a:ext cx="2665440" cy="1886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0920" y="2421000"/>
            <a:ext cx="2409840" cy="1808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88000" y="42840"/>
            <a:ext cx="2556000" cy="1724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300720" y="206064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4788000" y="400536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>
            <a:off x="2340000" y="4221000"/>
            <a:ext cx="2381400" cy="1810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3"/>
          <a:stretch/>
        </p:blipFill>
        <p:spPr>
          <a:xfrm>
            <a:off x="179280" y="4508640"/>
            <a:ext cx="2340000" cy="1682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4"/>
          <a:stretch/>
        </p:blipFill>
        <p:spPr>
          <a:xfrm>
            <a:off x="7093080" y="4149720"/>
            <a:ext cx="18698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ší inform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zech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ou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tatistiky ČSÚ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časové řady CR v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cestovni-ruch.cz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Kulturní dědictví v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Geografie cestovního ruc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České dědictví UNE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České památky podle kra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7:50:28Z</dcterms:created>
  <dc:creator>jj</dc:creator>
  <dc:description/>
  <dc:language>en-US</dc:language>
  <cp:lastModifiedBy>jj</cp:lastModifiedBy>
  <dcterms:modified xsi:type="dcterms:W3CDTF">2009-06-11T18:00:08Z</dcterms:modified>
  <cp:revision>18</cp:revision>
  <dc:subject/>
  <dc:title>CESTOVNÍ RUCH A REKREACE</dc:title>
</cp:coreProperties>
</file>