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840C-EB74-4B71-B065-143EA2471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E7C1-CF82-47E5-A6D8-DBCFE664E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19EE-D714-486C-B9DB-FA17F58A7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A7BC-A059-4B5F-B423-7FA4A24D3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A621-E646-4FE3-9252-7524B4BDB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1CB6-EB07-47E8-953F-8E05C3E1D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DE5C-6006-40FC-A28A-A8F1F6116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E7B4-CE25-46FD-8798-52496AF71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EFB6-C769-46D2-8AA7-252F910FE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E157-8A74-46DE-923F-4795E014A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CF25-B4FA-415E-9229-3FD51F72C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1B6B-C0DB-4AA9-BC3F-D5BD9B279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52556-FA15-4A23-B02C-C2BA7C8E359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upload.wikimedia.org/wikipedia/commons/0/0e/Amaterska_jeskyne.png" TargetMode="Externa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Českomoravská subprovinc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rozlehlejší subprovincie v Č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Dělení Českomoravské subprovinc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Středočeská pahorkatina (Drkolná 723 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   Benešovská pahorkatina (Stráž 638 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lašimská pahorkatina (Javorová skála 723 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áborská pahorkatina (Velký Mehelník 633 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latenská pahorkatina (Drkolná 723 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Jihočeské pánve (Baba 583 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eskobudějovická pánev (Kuřidlo 546 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řeboňská pánev (Baba 583 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Českomoravská vrchovina (Javořice 837 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řemešnická pahorkatina (Křemešník 765 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ornosázavská pahorkatina (Roudnice 661 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Železné hory (Pešava 697 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řížanovská vrchovina (Harusův kopec 741 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avořická vrchovina (Javořice 837 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višovská pahorkatina (Zadní hora 633 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ornosvratecká vrchovina (Devět skal 836 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Brněnská vrchovina (Skalky 735 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oskovická brázda (Nad Amerikou 553 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obravská vrchovina (Kopeček 479 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rahanská vrchovina (Skalky 735 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rahanská vrchov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krásnější a nejrozsáhlejší krasová oblast v ČR – MORAVSKÝ KRAS (jeskyně Balcarka, Punkevní, Sloupsko-šošůvské, Kateřinské, propast Macocha 138 m, ponorná řeka Punkva atd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181080" y="333360"/>
            <a:ext cx="316872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nk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92360" y="2852280"/>
            <a:ext cx="26020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avský k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948000" y="333360"/>
            <a:ext cx="1724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coc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276720" y="3284640"/>
            <a:ext cx="3276360" cy="3357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804000" y="836640"/>
            <a:ext cx="2073240" cy="5184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0" y="836640"/>
            <a:ext cx="3095640" cy="43815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553840" y="0"/>
            <a:ext cx="399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rahanská vrchov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Českomoravská vrchovin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žula, rula, četná údolí ře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tředočeská pahorkatin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žula – viklany (Votice, Sedlčan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Jihočeské pán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ploché dno, písky, jíly, rašeliniště, rybní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24000" y="1197000"/>
            <a:ext cx="339408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sova kazatel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021200" y="1844640"/>
            <a:ext cx="5122800" cy="3841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79280" y="1844640"/>
            <a:ext cx="3673440" cy="4321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788360" y="1268280"/>
            <a:ext cx="370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otice - žulové vikl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Českomoravská vrchovina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105520" y="692280"/>
            <a:ext cx="40384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žulový lom v Mrákotín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178920" y="764640"/>
            <a:ext cx="403884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jvyšší vrchol Javoř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076720" y="1268280"/>
            <a:ext cx="3834000" cy="5112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50920" y="1341360"/>
            <a:ext cx="399564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-900000" y="0"/>
            <a:ext cx="4371840" cy="44388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635280" y="404280"/>
            <a:ext cx="55087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brašovské ……. jeskyně leží v údolí  řeky Bečvy v lázních Teplice nad Bečvou nedaleko města Hran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2. Nejznámější propast v ČR v Moravském kras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3. Jeskyně v Moravském kras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4. Ve vápencových kopcích CHKO Pálava 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atastru města Mikulova se nachází jeskyně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5. Jaká jeskyně se nachází u města Litovle na okraji CHKO Litovelské Pomoraví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11280" y="3860640"/>
            <a:ext cx="8532720" cy="29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Nejhlubší propast v ČR ležící u města Hran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 Jak se jmenuje nejdelším známý jeskynní systémem na území Čech. Ležící v Českém kras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 Vyhledej název jeskyně ve Štramberském krasu na severní Moravě poblíž Kopřivnice. Tato jeskyně se proslavila nálezem čelistí neandrtálského dítě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. Do křížovky doplňte název nejstarší písemně doložené jeskyně ve střední Evropě (r. 1430) ležící v Jesenickém krasu (Hrubý Jeseník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řížovka - řeš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527280" y="476280"/>
            <a:ext cx="5616720" cy="50706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Soubor:Amaterska jeskyne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620640"/>
            <a:ext cx="4829040" cy="59770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32800" y="6583320"/>
            <a:ext cx="346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éma jeskynního systému Amatérské jeskyn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823280" y="5667480"/>
            <a:ext cx="431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ento jeskynní systém je nejdelší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skynním systémem v České republi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élka prozkoumaných prostor dosah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éměř 35 k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9T18:33:31Z</dcterms:created>
  <dc:creator>jj</dc:creator>
  <dc:description/>
  <dc:language>en-US</dc:language>
  <cp:lastModifiedBy>jj</cp:lastModifiedBy>
  <dcterms:modified xsi:type="dcterms:W3CDTF">2010-10-13T20:04:42Z</dcterms:modified>
  <cp:revision>12</cp:revision>
  <dc:subject/>
  <dc:title>Českomoravská subprovincie</dc:title>
</cp:coreProperties>
</file>