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279-A09F-4FC8-8EC2-0EE910A8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791-4FCA-4919-8A35-322D181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BE4-5538-4540-BE2D-E8A24816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2BF-E95E-4C4C-9621-81924496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D9D-B050-41F5-AB5B-DA1CDC2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8B7-3D19-410A-B05E-FCD620E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EEC-AAB9-4004-9667-858D2FF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BE6-72EA-4BFB-9F68-3E3509F3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533-B29C-44A3-A211-97A41ED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4A7-6797-4542-9BD5-6D859FE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B2A-DB2F-4F31-9F8F-788804F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5E0-AADE-4DDF-A122-851B4F1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FC66-1F69-435F-A69F-9EBDF4735D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8/Ctin&#283;ves%2C_&#344;&#237;p_a_obec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ská tab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řena usazeninami na mořském dně (Křídové moře) – pískovce, slepence – o mocnosti 200 až 600 metrů. Místy ojedinělé lávové výlevy (čedič) – Bezděz, Ralsko, Trosky, Mužský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ásti České tab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everočeská tabule (Ralsko 696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čínská pahorkatina (Sokol 562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lská pahorkatina (Ralsko 696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ředočeská tabule (Říp 459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lnooharská tabule (Říp 459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zerská tabule (Horka 410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olabská tabule (Dílce 366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ýchodočeská tabule (Baldský vrch 693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olabská tabule (Na šancích 352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lická tabule (U rozhledny 451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itavská pahorkatina (Baldský vrch 693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ískovcová skalní mě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ý rá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hovské sk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kořínsko (poklič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Český ráj – pískovcové skalní mě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520" y="1341360"/>
            <a:ext cx="371484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206064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kořínsko - pokli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727440" cy="496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428840"/>
            <a:ext cx="4995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ávové vý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59920"/>
            <a:ext cx="801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í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4360" y="5229000"/>
            <a:ext cx="1366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929040" cy="293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745080" cy="281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58880" y="105264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znbu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16400">
            <a:off x="1042560" y="26028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1400">
            <a:off x="7811640" y="112536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875000">
            <a:off x="4319640" y="5696280"/>
            <a:ext cx="647640" cy="576360"/>
          </a:xfrm>
          <a:custGeom>
            <a:avLst/>
            <a:gdLst>
              <a:gd name="textAreaLeft" fmla="*/ 0 w 647640"/>
              <a:gd name="textAreaRight" fmla="*/ 648000 w 647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íp – Dolnooharská tab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oubor:Ctiněves, Říp a obe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56516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a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835360"/>
            <a:ext cx="5364000" cy="402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8:52:09Z</dcterms:created>
  <dc:creator>jj</dc:creator>
  <dc:description/>
  <dc:language>en-US</dc:language>
  <cp:lastModifiedBy>jj</cp:lastModifiedBy>
  <dcterms:modified xsi:type="dcterms:W3CDTF">2010-10-07T07:13:32Z</dcterms:modified>
  <cp:revision>8</cp:revision>
  <dc:subject/>
  <dc:title>Česká tabule</dc:title>
</cp:coreProperties>
</file>