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472-8B71-412F-92CA-52A4172E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B02-71F7-4223-891F-66E1F5A6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82D-5EB2-4125-A976-293E4E3B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0E5-B2E6-420C-B58F-D27E776B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18C-32E6-4C90-A019-F9867106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5BE-5D47-4431-9A5E-C7ECEBBF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7E1-F4D1-45E1-B1EF-34D81BAD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F07-BF7C-46D7-8D22-A4BD8E90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657-9405-4138-85A3-A81F1523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196-24FE-4CA6-8575-69C8CAA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642-83A2-4058-8114-8DA08390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9AB-AB7C-4E0D-AFD5-D53FB54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AF17-EE1B-4C00-83A8-63588D5DE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09840" y="4876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AS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lhodiny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108600" cy="3257640"/>
          </a:xfrm>
          <a:prstGeom prst="rect">
            <a:avLst/>
          </a:prstGeom>
          <a:ln w="0">
            <a:noFill/>
          </a:ln>
        </p:spPr>
      </p:pic>
      <p:pic>
        <p:nvPicPr>
          <p:cNvPr id="43" name="100-154-beamtube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5257800" cy="2022480"/>
          </a:xfrm>
          <a:prstGeom prst="rect">
            <a:avLst/>
          </a:prstGeom>
          <a:ln w="0">
            <a:noFill/>
          </a:ln>
        </p:spPr>
      </p:pic>
      <p:pic>
        <p:nvPicPr>
          <p:cNvPr id="44" name="40380" descr=""/>
          <p:cNvPicPr/>
          <p:nvPr/>
        </p:nvPicPr>
        <p:blipFill>
          <a:blip r:embed="rId3"/>
          <a:stretch/>
        </p:blipFill>
        <p:spPr>
          <a:xfrm>
            <a:off x="3352680" y="609480"/>
            <a:ext cx="226692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300px-Orloj-AstronomicalDial" descr=""/>
          <p:cNvPicPr/>
          <p:nvPr/>
        </p:nvPicPr>
        <p:blipFill>
          <a:blip r:embed="rId4"/>
          <a:stretch/>
        </p:blipFill>
        <p:spPr>
          <a:xfrm>
            <a:off x="5791320" y="609480"/>
            <a:ext cx="320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9360" y="3045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ASOVÁ PÁ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je rozdělená na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24 časových pás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všechna místa v jednom časovém pásmu mají stejný č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se otočí za 1 hodinu o 15 stupňů zeměpisné délk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0 : 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 se řídí podle poledne na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TŘEDNÍM POLEDNÍK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 ČR čas středoevropsk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0 poledník tvoří datovou 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5334120" cy="3522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00600" y="1981080"/>
            <a:ext cx="1600200" cy="175284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as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zi poledníky vzdálenými 1 stupeň je rozdíl 4 min., po 15 stupních je rozdíl 1 h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mě je rozdělena na 24 časových pásem po 15 stupních zeměpisné délky s rozdílem času 1 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edník 180 tvoří datovou m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STŘEDNÍ POLEDNÍ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7913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75248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5304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64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236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0" y="5257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 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7520" y="5181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256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680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236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848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apka" descr=""/>
          <p:cNvPicPr/>
          <p:nvPr/>
        </p:nvPicPr>
        <p:blipFill>
          <a:blip r:embed="rId2"/>
          <a:stretch/>
        </p:blipFill>
        <p:spPr>
          <a:xfrm>
            <a:off x="5410080" y="3017880"/>
            <a:ext cx="11430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asm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1756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9:41:00Z</dcterms:created>
  <dc:creator>kk</dc:creator>
  <dc:description/>
  <dc:language>en-US</dc:language>
  <cp:lastModifiedBy>kk</cp:lastModifiedBy>
  <dcterms:modified xsi:type="dcterms:W3CDTF">2005-10-18T15:30:11Z</dcterms:modified>
  <cp:revision>11</cp:revision>
  <dc:subject/>
  <dc:title>ČAS NA ZEMI</dc:title>
</cp:coreProperties>
</file>