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1F2-F03E-40C1-99C5-F8CFCCF0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ABD-30F7-48AF-8082-AEF98A8F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31E-2923-408E-A769-71BD2D1A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96B-0688-4914-8F54-FBC0F509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6C9-499F-47F5-8855-3E5A1977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F36-6D28-46E5-9335-5717B42F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2DE-EDB3-4C58-B3CA-4A2A76F8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E3C-8196-4AEC-993B-856016E6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D98-601A-4032-86A9-DA4A65CB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96D-3795-42E9-AD2F-B89C080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A72-B771-4CD5-9965-7686B863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1A6-2334-473C-8039-07B1410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C73-66B5-4583-A484-742623DE3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ustralie.wz.cz/index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australie.wz.cz/svaz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USTRÁLIE - Canb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tiv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stituční mon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3000" y="619272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íce informací o Austrálii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ustralie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524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opera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3581280" cy="18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5562720" y="3200400"/>
          <a:ext cx="2377800" cy="29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200400"/>
                    <a:ext cx="2377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torie a obyvatelstvo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ustrálii znovuobjevil J. Cook (1770). První osadníci – trestanci z Anglie + zlatokopové (19.stol.). Dnes 98% bělochů, 1% původních černých obyvatel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origin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 Osídlen JV a JZ, 90% žije ve městech (najdeš některá města?!)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aptain%20James%20Cook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217600" cy="3086280"/>
          </a:xfrm>
          <a:prstGeom prst="rect">
            <a:avLst/>
          </a:prstGeom>
          <a:ln w="0">
            <a:noFill/>
          </a:ln>
        </p:spPr>
      </p:pic>
      <p:pic>
        <p:nvPicPr>
          <p:cNvPr id="51" name="sydney-skyline" descr=""/>
          <p:cNvPicPr/>
          <p:nvPr/>
        </p:nvPicPr>
        <p:blipFill>
          <a:blip r:embed="rId2"/>
          <a:stretch/>
        </p:blipFill>
        <p:spPr>
          <a:xfrm>
            <a:off x="4038480" y="2743200"/>
            <a:ext cx="4572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tví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dna z nejvyspělejších zemí světa. Bohaté zásoby nerostů jsou základem pro pestrý průmysl (najdeš nerosty a průmysl?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mi důležité j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emědělstv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vce, obilnin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prav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železniční (V - Z), mezistátní letecká a lod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3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27440" cy="2903400"/>
          </a:xfrm>
          <a:prstGeom prst="rect">
            <a:avLst/>
          </a:prstGeom>
          <a:ln w="0">
            <a:noFill/>
          </a:ln>
        </p:spPr>
      </p:pic>
      <p:pic>
        <p:nvPicPr>
          <p:cNvPr id="55" name="020712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19720" y="373392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vazové státy – 8 celk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trip5mapa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638680" cy="483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11160" y="62136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ÍCE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7:22:42Z</dcterms:created>
  <dc:creator>kk</dc:creator>
  <dc:description/>
  <dc:language>en-US</dc:language>
  <cp:lastModifiedBy>kk</cp:lastModifiedBy>
  <dcterms:modified xsi:type="dcterms:W3CDTF">2006-05-23T22:02:59Z</dcterms:modified>
  <cp:revision>9</cp:revision>
  <dc:subject/>
  <dc:title>AUSTRÁLIE</dc:title>
</cp:coreProperties>
</file>