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0D1F-37FD-4087-9B2F-C731CD7C9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6280-86F9-41FE-A2C0-A6ACC423A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098B-DFAD-43B4-81BF-19D60E633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CE0A-3603-4CF2-B657-B1B054B51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7293-E88E-472C-9F5C-36E99DCC5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6C5B-50DF-4EC4-BDC2-7FB699003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E6B8-7E6C-41AD-9E8B-0D13A919D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D642-8CF4-4C78-94AB-BBFCA1B3E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7A80-BBF9-45DA-A1BC-08FCA66AF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FACF-17C8-4556-8E7F-6D05D8E8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89BE-BAD6-49D0-87C3-CB35577A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A156-822C-466F-9E6F-5DB6A017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5F057-1E2E-4EB9-9776-8716D12018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jpeg"/><Relationship Id="rId3" Type="http://schemas.openxmlformats.org/officeDocument/2006/relationships/slide" Target="slide4.xml"/><Relationship Id="rId4" Type="http://schemas.openxmlformats.org/officeDocument/2006/relationships/image" Target="../media/image6.jpeg"/><Relationship Id="rId5" Type="http://schemas.openxmlformats.org/officeDocument/2006/relationships/slide" Target="slide4.xml"/><Relationship Id="rId6" Type="http://schemas.openxmlformats.org/officeDocument/2006/relationships/image" Target="../media/image7.jpeg"/><Relationship Id="rId7" Type="http://schemas.openxmlformats.org/officeDocument/2006/relationships/slide" Target="slide4.xml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9.jpeg"/><Relationship Id="rId3" Type="http://schemas.openxmlformats.org/officeDocument/2006/relationships/slide" Target="slide5.xml"/><Relationship Id="rId4" Type="http://schemas.openxmlformats.org/officeDocument/2006/relationships/image" Target="../media/image10.jpeg"/><Relationship Id="rId5" Type="http://schemas.openxmlformats.org/officeDocument/2006/relationships/slide" Target="slide5.xml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USTRÁLIE – nejmenší kontinent (7,7 k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i_australie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3978000" cy="4286160"/>
          </a:xfrm>
          <a:prstGeom prst="rect">
            <a:avLst/>
          </a:prstGeom>
          <a:ln w="0">
            <a:noFill/>
          </a:ln>
        </p:spPr>
      </p:pic>
      <p:pic>
        <p:nvPicPr>
          <p:cNvPr id="43" name="australie_grand" descr=""/>
          <p:cNvPicPr/>
          <p:nvPr/>
        </p:nvPicPr>
        <p:blipFill>
          <a:blip r:embed="rId2"/>
          <a:stretch/>
        </p:blipFill>
        <p:spPr>
          <a:xfrm>
            <a:off x="4876920" y="2666880"/>
            <a:ext cx="347508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3017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D TOO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017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D TOO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228600" y="304920"/>
          <a:ext cx="4648320" cy="43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04920"/>
                    <a:ext cx="4648320" cy="43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4648320" y="3276720"/>
          <a:ext cx="4105080" cy="323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3276720"/>
                    <a:ext cx="4105080" cy="32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4339440" y="533520"/>
            <a:ext cx="447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Zvládneš zjednodušeně nakresl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u Austráli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5000" y="3962520"/>
            <a:ext cx="3076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. Přiřaď nejzazší mí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ustrál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krý m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ys Y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ihovýchodní m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yronův m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91120" y="4648320"/>
            <a:ext cx="4800600" cy="317520"/>
          </a:xfrm>
          <a:custGeom>
            <a:avLst/>
            <a:gdLst/>
            <a:ahLst/>
            <a:rect l="l" t="t" r="r" b="b"/>
            <a:pathLst>
              <a:path w="3024" h="200">
                <a:moveTo>
                  <a:pt x="0" y="152"/>
                </a:moveTo>
                <a:cubicBezTo>
                  <a:pt x="540" y="76"/>
                  <a:pt x="1080" y="0"/>
                  <a:pt x="1584" y="8"/>
                </a:cubicBezTo>
                <a:cubicBezTo>
                  <a:pt x="2088" y="16"/>
                  <a:pt x="2792" y="168"/>
                  <a:pt x="3024" y="200"/>
                </a:cubicBezTo>
              </a:path>
            </a:pathLst>
          </a:custGeom>
          <a:noFill/>
          <a:ln w="316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piš do sešitu a označ (čísly a písmeny) do nakreslené map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915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Členitost a povrch (čísla)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Yorský pol., Tasmánie, Velká útesová bariéra, Velké předělové pohoří, Australské Alpy (Mt. Kosciusko),  Velká písečná poušť, Gibsonova poušť, Velká Viktoriina poušť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Vodstvo (písmena)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Korálové moře, Tasmanovo moře, Velký australský záliv, Timorské moře, Arafurské moře, Carpentarský záliv, Torresův průliv, Bassův průliv, řeky Muray a Darling, Eyreovo jezer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rock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0400" y="304920"/>
            <a:ext cx="5715000" cy="3062160"/>
          </a:xfrm>
          <a:prstGeom prst="rect">
            <a:avLst/>
          </a:prstGeom>
          <a:ln w="0">
            <a:noFill/>
          </a:ln>
        </p:spPr>
      </p:pic>
      <p:pic>
        <p:nvPicPr>
          <p:cNvPr id="57" name="foto017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181480" y="3995640"/>
            <a:ext cx="3733920" cy="2668680"/>
          </a:xfrm>
          <a:prstGeom prst="rect">
            <a:avLst/>
          </a:prstGeom>
          <a:ln w="0">
            <a:noFill/>
          </a:ln>
        </p:spPr>
      </p:pic>
      <p:pic>
        <p:nvPicPr>
          <p:cNvPr id="58" name="great_barrier_reef_lge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09480" y="3505320"/>
            <a:ext cx="4229280" cy="3171600"/>
          </a:xfrm>
          <a:prstGeom prst="rect">
            <a:avLst/>
          </a:prstGeom>
          <a:ln w="0">
            <a:noFill/>
          </a:ln>
        </p:spPr>
      </p:pic>
      <p:pic>
        <p:nvPicPr>
          <p:cNvPr id="59" name="gbr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52280" y="457200"/>
            <a:ext cx="25257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řírodní podmínk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uché kontinentální podnebí (sever – tropy, jih – subtropy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rtéské studny, nepravidelné toky – creek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ndemické druhy živočichů (ptakopysk, ježura, vačnatci aj.), rostlinstvo (akácie, eukalypty) + přírodní rovnováha ohrožená lidmi (králíci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Tasmanian_devil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3352680"/>
            <a:ext cx="2857680" cy="2732040"/>
          </a:xfrm>
          <a:prstGeom prst="rect">
            <a:avLst/>
          </a:prstGeom>
          <a:ln w="0">
            <a:noFill/>
          </a:ln>
        </p:spPr>
      </p:pic>
      <p:pic>
        <p:nvPicPr>
          <p:cNvPr id="63" name="koala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429000" y="3352680"/>
            <a:ext cx="2019240" cy="2743200"/>
          </a:xfrm>
          <a:prstGeom prst="rect">
            <a:avLst/>
          </a:prstGeom>
          <a:ln w="0">
            <a:noFill/>
          </a:ln>
        </p:spPr>
      </p:pic>
      <p:pic>
        <p:nvPicPr>
          <p:cNvPr id="64" name="great_white200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638680" y="3657600"/>
            <a:ext cx="312444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1T14:13:58Z</dcterms:created>
  <dc:creator>kk</dc:creator>
  <dc:description/>
  <dc:language>en-US</dc:language>
  <cp:lastModifiedBy>kk</cp:lastModifiedBy>
  <dcterms:modified xsi:type="dcterms:W3CDTF">2006-05-21T16:28:44Z</dcterms:modified>
  <cp:revision>14</cp:revision>
  <dc:subject/>
  <dc:title>AUSTRALIE</dc:title>
</cp:coreProperties>
</file>