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5EB-652A-432E-94BB-B843EB17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C89-8754-47C0-AF93-53198DCD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008-1D79-45F2-B9B9-7ECBF200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0C8-3C74-40A9-9EF6-2F458342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67D-F244-43A4-80EE-6F2C339C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374-3E60-4CF2-BAD3-11785A5A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BFE-EE17-4F27-B3B3-8753407E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219-3FDD-46A6-9216-1E69DF75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824-BD3E-4887-A97B-C610E73C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180-9266-4874-B17D-09240B7D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B03-D93E-4090-89F6-FA894562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A6E-F587-4BFC-947E-64D8A288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3C68-8E37-4CE3-83D2-95C67DEBEE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video.nationalgeographic.com/video/player/science/earth-sci/weather-101-sci.html" TargetMode="External"/><Relationship Id="rId4" Type="http://schemas.openxmlformats.org/officeDocument/2006/relationships/hyperlink" Target="http://video.nationalgeographic.com/video/player/science/earth-sci/climate-weather-sci.html" TargetMode="External"/><Relationship Id="rId5" Type="http://schemas.openxmlformats.org/officeDocument/2006/relationships/hyperlink" Target="http://video.nationalgeographic.com/video/player/environment/environment-natural-disasters/hurricanes/hurricane-montage.html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27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MOSFÉ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252360" y="765000"/>
            <a:ext cx="4968720" cy="5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zdušný obal Zem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capatmosfera"/>
          <p:cNvPicPr/>
          <p:nvPr/>
        </p:nvPicPr>
        <p:blipFill>
          <a:blip r:embed="rId1"/>
          <a:stretch/>
        </p:blipFill>
        <p:spPr>
          <a:xfrm>
            <a:off x="611280" y="1628640"/>
            <a:ext cx="3362400" cy="3857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tmosfera"/>
          <p:cNvPicPr/>
          <p:nvPr/>
        </p:nvPicPr>
        <p:blipFill>
          <a:blip r:embed="rId2"/>
          <a:stretch/>
        </p:blipFill>
        <p:spPr>
          <a:xfrm>
            <a:off x="4572000" y="3564000"/>
            <a:ext cx="4390920" cy="3294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74960" y="5805360"/>
            <a:ext cx="429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ide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očas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klim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tornádo a hurik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aurora10"/>
          <p:cNvPicPr/>
          <p:nvPr/>
        </p:nvPicPr>
        <p:blipFill>
          <a:blip r:embed="rId6"/>
          <a:stretch/>
        </p:blipFill>
        <p:spPr>
          <a:xfrm>
            <a:off x="4500720" y="333360"/>
            <a:ext cx="43812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12960" y="0"/>
            <a:ext cx="4584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Atmosféra – obaluje Zemi do výšky několika set kilometrů – je držena přitažlivostí Země (viz. obr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lastnosti atmosféry – rozptyluje sluneční záření, brání rychlému ochlazení povrchu země, brání před škodlivým kosmickým zářením, umožňuje život na zemi at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S rostoucí výškou klesá hustota vzduchu (snižuje se tlak vzduchu) a klesá teplota vzduch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Složení vzduchu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dusík (78%)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kyslík (21%) - dýchání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vodní pár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oxid uhličitý (fotosyntéza)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ozon (brání pronikání UV záření) at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atmosfera"/>
          <p:cNvPicPr/>
          <p:nvPr/>
        </p:nvPicPr>
        <p:blipFill>
          <a:blip r:embed="rId1"/>
          <a:stretch/>
        </p:blipFill>
        <p:spPr>
          <a:xfrm>
            <a:off x="4500720" y="0"/>
            <a:ext cx="44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868000" y="501336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zónová vrst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>
            <a:hlinkClick r:id="rId2" action="ppaction://hlinksldjump"/>
          </p:cNvPr>
          <p:cNvSpPr/>
          <p:nvPr/>
        </p:nvSpPr>
        <p:spPr>
          <a:xfrm>
            <a:off x="4500720" y="5877000"/>
            <a:ext cx="43923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4500720" y="494172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4500720" y="1700280"/>
            <a:ext cx="43192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4500720" y="0"/>
            <a:ext cx="4392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časí vs. podneb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01916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teorologické jevy počas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rážky, teplota vzduchu, sluneční záření, směr a rychlost větru a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así aktuální st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nebí je dlouhodobý režim poč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20051106_1930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94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1v"/>
          <p:cNvPicPr/>
          <p:nvPr/>
        </p:nvPicPr>
        <p:blipFill>
          <a:blip r:embed="rId2"/>
          <a:stretch/>
        </p:blipFill>
        <p:spPr>
          <a:xfrm>
            <a:off x="50292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447480" y="568152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kaz: METEOSAT anim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kleníkový efekt a snižování ozónové vrstv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1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íky přítomnosti oxi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hličitého (C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existuje tz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leníkový efekt ten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rozený. Ovšem vlivem působ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lověka roste podíl C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tmosféře a tím se zvyšuj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leníkový efekt jež zvyš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plotu na Zem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íky freonů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 snižuje ozónová vrstva jež n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rání před nebezpečným 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ření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http://www.yourdictionary.com/images/ahd/jpg/A4grneff.jpg"/>
          <p:cNvPicPr/>
          <p:nvPr/>
        </p:nvPicPr>
        <p:blipFill>
          <a:blip r:embed="rId1"/>
          <a:stretch/>
        </p:blipFill>
        <p:spPr>
          <a:xfrm>
            <a:off x="5334120" y="762120"/>
            <a:ext cx="3349440" cy="581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www.acmecompany.com/stock_thumbnails/13808.greenhouse_effect_2.jpg"/>
          <p:cNvPicPr/>
          <p:nvPr/>
        </p:nvPicPr>
        <p:blipFill>
          <a:blip r:embed="rId2"/>
          <a:stretch/>
        </p:blipFill>
        <p:spPr>
          <a:xfrm>
            <a:off x="4414680" y="4419720"/>
            <a:ext cx="183852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mosféra – vzdušný obal Zem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ložení: dusík, kyslík (dýchání),vodní pár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xid uhličitý (fotosyntéza), ozon (brání pronikání UV záření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teorologické jevy (srážky, teplota vzduch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lak, rychlost větru) - počasí (aktuální stav)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nebí (dlouhodobý režim počasí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blémy: zvyšování skleníkového efekt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nižování ozónové vrstvy, znečišťování ovzduš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http://jwocky.gsfc.nasa.gov/multi/monoct.gif"/>
          <p:cNvPicPr/>
          <p:nvPr/>
        </p:nvPicPr>
        <p:blipFill>
          <a:blip r:embed="rId1"/>
          <a:stretch/>
        </p:blipFill>
        <p:spPr>
          <a:xfrm>
            <a:off x="0" y="0"/>
            <a:ext cx="6324480" cy="4745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ttp://jwocky.gsfc.nasa.gov/multi/recent_ozone91200.gif"/>
          <p:cNvPicPr/>
          <p:nvPr/>
        </p:nvPicPr>
        <p:blipFill>
          <a:blip r:embed="rId2"/>
          <a:stretch/>
        </p:blipFill>
        <p:spPr>
          <a:xfrm>
            <a:off x="5105520" y="3740040"/>
            <a:ext cx="4038480" cy="31179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20:40:35Z</dcterms:created>
  <dc:creator>kk</dc:creator>
  <dc:description/>
  <dc:language>en-US</dc:language>
  <cp:lastModifiedBy>PC</cp:lastModifiedBy>
  <dcterms:modified xsi:type="dcterms:W3CDTF">2014-01-15T20:33:41Z</dcterms:modified>
  <cp:revision>6</cp:revision>
  <dc:subject/>
  <dc:title>ATMOSFÉRA</dc:title>
</cp:coreProperties>
</file>